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399E-CC90-4D17-91F3-93567ECA9A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5D95-CBC1-4BC2-BDDB-A3452ADD51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9FB05-83B8-4780-BA59-5C7AF61A8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D29CB-B6D7-4DFB-AEC4-374549494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78543-0601-46EA-A209-263F0655DF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4C3A5C-6E9B-4C50-B1C1-0F0387656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6FB7F-5FCC-436F-9611-D93FC5FF8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F91B7A-CCDD-402D-9DD4-41ADF21F2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D3884-E53B-4B32-AA2E-CCBC3712D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F1F44-8007-41AB-A2E6-580C344F4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480450-3A49-4E19-8520-B0A6E73AE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0A3F-E9B9-4955-B54F-D6579D2DE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D9695-AA35-4768-934B-E69E7F819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9DCE1-5DDC-48D0-9FFD-98AFC509D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A44F-CFA2-4855-935C-40880885CE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752480"/>
            <a:ext cx="84582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Inconvenient Falsehoods</a:t>
            </a:r>
            <a:endParaRPr b="0" lang="en-US" sz="6000" spc="-1" strike="noStrike">
              <a:solidFill>
                <a:srgbClr val="000000"/>
              </a:solidFill>
              <a:latin typeface="Calibri"/>
            </a:endParaRPr>
          </a:p>
        </p:txBody>
      </p:sp>
      <p:sp>
        <p:nvSpPr>
          <p:cNvPr id="49"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Calibri"/>
              </a:rPr>
              <a:t>In Support of Global Taxation and Rationing of Energy</a:t>
            </a:r>
            <a:endParaRPr b="0" lang="en-US" sz="4000" spc="-1" strike="noStrike">
              <a:solidFill>
                <a:srgbClr val="000000"/>
              </a:solidFill>
              <a:latin typeface="Calibri"/>
            </a:endParaRPr>
          </a:p>
        </p:txBody>
      </p:sp>
      <p:sp>
        <p:nvSpPr>
          <p:cNvPr id="50" name="TextBox 3"/>
          <p:cNvSpPr/>
          <p:nvPr/>
        </p:nvSpPr>
        <p:spPr>
          <a:xfrm>
            <a:off x="6477120" y="5334120"/>
            <a:ext cx="2438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rthur B. Robins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Oregon Institute o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cience and Medicin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2" name="Picture 1" descr="Fig_02_Glacier_vs_Hydrocarbon.tif"/>
          <p:cNvPicPr/>
          <p:nvPr/>
        </p:nvPicPr>
        <p:blipFill>
          <a:blip r:embed="rId2"/>
          <a:stretch/>
        </p:blipFill>
        <p:spPr>
          <a:xfrm>
            <a:off x="609480" y="838080"/>
            <a:ext cx="3840120" cy="2743200"/>
          </a:xfrm>
          <a:prstGeom prst="rect">
            <a:avLst/>
          </a:prstGeom>
          <a:ln w="0">
            <a:noFill/>
          </a:ln>
        </p:spPr>
      </p:pic>
      <p:pic>
        <p:nvPicPr>
          <p:cNvPr id="73" name="Picture 2" descr="Fig_12_Glacier_vs_Sea_Level.tif"/>
          <p:cNvPicPr/>
          <p:nvPr/>
        </p:nvPicPr>
        <p:blipFill>
          <a:blip r:embed="rId3"/>
          <a:stretch/>
        </p:blipFill>
        <p:spPr>
          <a:xfrm>
            <a:off x="4724280" y="838080"/>
            <a:ext cx="3840120" cy="2743200"/>
          </a:xfrm>
          <a:prstGeom prst="rect">
            <a:avLst/>
          </a:prstGeom>
          <a:ln w="0">
            <a:noFill/>
          </a:ln>
        </p:spPr>
      </p:pic>
      <p:sp>
        <p:nvSpPr>
          <p:cNvPr id="74" name="TextBox 4"/>
          <p:cNvSpPr/>
          <p:nvPr/>
        </p:nvSpPr>
        <p:spPr>
          <a:xfrm>
            <a:off x="914400" y="3962520"/>
            <a:ext cx="72388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 Gore begins this glacier discussion in 1980, and uses </a:t>
            </a:r>
            <a:r>
              <a:rPr b="1" lang="en-US" sz="2400" spc="-1" strike="noStrike">
                <a:solidFill>
                  <a:srgbClr val="000000"/>
                </a:solidFill>
                <a:latin typeface="Calibri"/>
              </a:rPr>
              <a:t>short time periods </a:t>
            </a:r>
            <a:r>
              <a:rPr b="0" lang="en-US" sz="2400" spc="-1" strike="noStrike">
                <a:solidFill>
                  <a:srgbClr val="000000"/>
                </a:solidFill>
                <a:latin typeface="Calibri"/>
              </a:rPr>
              <a:t>in all of his glacier examples. In fact, world glaciers have been retreating for 200 years. This </a:t>
            </a:r>
            <a:r>
              <a:rPr b="1" lang="en-US" sz="2400" spc="-1" strike="noStrike">
                <a:solidFill>
                  <a:srgbClr val="000000"/>
                </a:solidFill>
                <a:latin typeface="Calibri"/>
              </a:rPr>
              <a:t>glacier retreat </a:t>
            </a:r>
            <a:r>
              <a:rPr b="0" lang="en-US" sz="2400" spc="-1" strike="noStrike">
                <a:solidFill>
                  <a:srgbClr val="000000"/>
                </a:solidFill>
                <a:latin typeface="Calibri"/>
              </a:rPr>
              <a:t>reflects a rising temperature trend beginning in 1800, which has been </a:t>
            </a:r>
            <a:r>
              <a:rPr b="1" lang="en-US" sz="2400" spc="-1" strike="noStrike">
                <a:solidFill>
                  <a:srgbClr val="000000"/>
                </a:solidFill>
                <a:latin typeface="Calibri"/>
              </a:rPr>
              <a:t>entirely unaffected by human hydrocarbon use</a:t>
            </a:r>
            <a:r>
              <a:rPr b="0" lang="en-US" sz="2400" spc="-1" strike="noStrike">
                <a:solidFill>
                  <a:srgbClr val="000000"/>
                </a:solidFill>
                <a:latin typeface="Calibri"/>
              </a:rPr>
              <a:t>.  Glaciers lengthen and shorten cyclically as the earth cools and warm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states that his strongest evidence is a CO</a:t>
            </a:r>
            <a:r>
              <a:rPr b="1" lang="en-US" sz="3200" spc="-1" strike="noStrike" baseline="-25000">
                <a:solidFill>
                  <a:srgbClr val="000000"/>
                </a:solidFill>
                <a:latin typeface="Calibri"/>
              </a:rPr>
              <a:t>2</a:t>
            </a:r>
            <a:r>
              <a:rPr b="1" lang="en-US" sz="3200" spc="-1" strike="noStrike">
                <a:solidFill>
                  <a:srgbClr val="000000"/>
                </a:solidFill>
                <a:latin typeface="Calibri"/>
              </a:rPr>
              <a:t> – temperature correlation during the past 650,000 years</a:t>
            </a:r>
            <a:endParaRPr b="0" lang="en-US" sz="3200" spc="-1" strike="noStrike">
              <a:solidFill>
                <a:srgbClr val="000000"/>
              </a:solidFill>
              <a:latin typeface="Calibri"/>
            </a:endParaRPr>
          </a:p>
        </p:txBody>
      </p:sp>
      <p:pic>
        <p:nvPicPr>
          <p:cNvPr id="76" name="" descr=""/>
          <p:cNvPicPr/>
          <p:nvPr/>
        </p:nvPicPr>
        <p:blipFill>
          <a:blip r:embed="rId2"/>
          <a:stretch/>
        </p:blipFill>
        <p:spPr>
          <a:xfrm>
            <a:off x="1143000" y="1752480"/>
            <a:ext cx="6858000" cy="4572000"/>
          </a:xfrm>
          <a:prstGeom prst="rect">
            <a:avLst/>
          </a:prstGeom>
          <a:ln w="0">
            <a:noFill/>
          </a:ln>
        </p:spPr>
      </p:pic>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mediacall" presetID="1">
                                  <p:stCondLst>
                                    <p:cond delay="0"/>
                                  </p:stCondLst>
                                  <p:childTnLst>
                                    <p:cmd type="call" cmd="playFrom(0.0)">
                                      <p:cBhvr>
                                        <p:cTn id="50" dur="13647" fill="hold"/>
                                        <p:tgtEl>
                                          <p:spTgt spid="76"/>
                                        </p:tgtEl>
                                      </p:cBhvr>
                                    </p:cmd>
                                  </p:childTnLst>
                                </p:cTn>
                              </p:par>
                            </p:childTnLst>
                          </p:cTn>
                        </p:par>
                      </p:childTnLst>
                    </p:cTn>
                  </p:par>
                </p:childTnLst>
              </p:cTn>
              <p:prevCondLst>
                <p:cond evt="onPrev">
                  <p:tgtEl>
                    <p:sldTgt/>
                  </p:tgtEl>
                </p:cond>
              </p:prevCondLst>
              <p:nextCondLst>
                <p:cond evt="onNext">
                  <p:tgtEl>
                    <p:sldTgt/>
                  </p:tgtEl>
                </p:cond>
              </p:nextCondLst>
            </p:seq>
            <p:seq>
              <p:cTn id="51" restart="whenNotActive" nodeType="interactiveSeq" fill="hold">
                <p:stCondLst>
                  <p:cond evt="onClick">
                    <p:tgtEl>
                      <p:spTgt spid="76"/>
                    </p:tgtEl>
                  </p:cond>
                </p:stCondLst>
                <p:childTnLst>
                  <p:par>
                    <p:cTn id="52" fill="hold">
                      <p:stCondLst>
                        <p:cond evt="onClick">
                          <p:tgtEl>
                            <p:spTgt spid="76"/>
                          </p:tgtEl>
                        </p:cond>
                      </p:stCondLst>
                      <p:childTnLst>
                        <p:par>
                          <p:cTn id="53" fill="hold">
                            <p:stCondLst>
                              <p:cond delay="0"/>
                            </p:stCondLst>
                            <p:childTnLst>
                              <p:par>
                                <p:cTn id="54" nodeType="clickEffect" fill="hold" presetClass="mediacall" presetID="2">
                                  <p:stCondLst>
                                    <p:cond delay="0"/>
                                  </p:stCondLst>
                                  <p:childTnLst>
                                    <p:cmd type="call" cmd="togglePause">
                                      <p:cBhvr>
                                        <p:cTn id="55"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Picture 1" descr="Fig_16_Outgassing.tif"/>
          <p:cNvPicPr/>
          <p:nvPr/>
        </p:nvPicPr>
        <p:blipFill>
          <a:blip r:embed="rId2"/>
          <a:stretch/>
        </p:blipFill>
        <p:spPr>
          <a:xfrm>
            <a:off x="2362320" y="380880"/>
            <a:ext cx="3840120" cy="3292560"/>
          </a:xfrm>
          <a:prstGeom prst="rect">
            <a:avLst/>
          </a:prstGeom>
          <a:ln w="0">
            <a:noFill/>
          </a:ln>
        </p:spPr>
      </p:pic>
      <p:sp>
        <p:nvSpPr>
          <p:cNvPr id="78" name="TextBox 2"/>
          <p:cNvSpPr/>
          <p:nvPr/>
        </p:nvSpPr>
        <p:spPr>
          <a:xfrm>
            <a:off x="685800" y="4038480"/>
            <a:ext cx="7924680" cy="3047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Rising temperature raises the vapor pressure of CO</a:t>
            </a:r>
            <a:r>
              <a:rPr b="0" lang="en-US" sz="2000" spc="-1" strike="noStrike" baseline="-25000">
                <a:solidFill>
                  <a:srgbClr val="000000"/>
                </a:solidFill>
                <a:latin typeface="Calibri"/>
              </a:rPr>
              <a:t>2 </a:t>
            </a:r>
            <a:r>
              <a:rPr b="0" lang="en-US" sz="2000" spc="-1" strike="noStrike">
                <a:solidFill>
                  <a:srgbClr val="000000"/>
                </a:solidFill>
                <a:latin typeface="Calibri"/>
              </a:rPr>
              <a:t>over the oceans, increasing atmospheric CO</a:t>
            </a:r>
            <a:r>
              <a:rPr b="0" lang="en-US" sz="2000" spc="-1" strike="noStrike" baseline="-25000">
                <a:solidFill>
                  <a:srgbClr val="000000"/>
                </a:solidFill>
                <a:latin typeface="Calibri"/>
              </a:rPr>
              <a:t>2</a:t>
            </a:r>
            <a:r>
              <a:rPr b="0" lang="en-US" sz="2000" spc="-1" strike="noStrike">
                <a:solidFill>
                  <a:srgbClr val="000000"/>
                </a:solidFill>
                <a:latin typeface="Calibri"/>
              </a:rPr>
              <a:t>. This accounts quantitatively for all CO</a:t>
            </a:r>
            <a:r>
              <a:rPr b="0" lang="en-US" sz="2000" spc="-1" strike="noStrike" baseline="-25000">
                <a:solidFill>
                  <a:srgbClr val="000000"/>
                </a:solidFill>
                <a:latin typeface="Calibri"/>
              </a:rPr>
              <a:t>2</a:t>
            </a:r>
            <a:r>
              <a:rPr b="0" lang="en-US" sz="2000" spc="-1" strike="noStrike">
                <a:solidFill>
                  <a:srgbClr val="000000"/>
                </a:solidFill>
                <a:latin typeface="Calibri"/>
              </a:rPr>
              <a:t> rises during the interglacial periods of the past 650,000 years. Also, careful analysis shows that the CO</a:t>
            </a:r>
            <a:r>
              <a:rPr b="0" lang="en-US" sz="2000" spc="-1" strike="noStrike" baseline="-25000">
                <a:solidFill>
                  <a:srgbClr val="000000"/>
                </a:solidFill>
                <a:latin typeface="Calibri"/>
              </a:rPr>
              <a:t>2</a:t>
            </a:r>
            <a:r>
              <a:rPr b="0" lang="en-US" sz="2000" spc="-1" strike="noStrike">
                <a:solidFill>
                  <a:srgbClr val="000000"/>
                </a:solidFill>
                <a:latin typeface="Calibri"/>
              </a:rPr>
              <a:t> rise and fall generally </a:t>
            </a:r>
            <a:r>
              <a:rPr b="1" lang="en-US" sz="2000" spc="-1" strike="noStrike">
                <a:solidFill>
                  <a:srgbClr val="000000"/>
                </a:solidFill>
                <a:latin typeface="Calibri"/>
              </a:rPr>
              <a:t>lags</a:t>
            </a:r>
            <a:r>
              <a:rPr b="0" lang="en-US" sz="2000" spc="-1" strike="noStrike">
                <a:solidFill>
                  <a:srgbClr val="000000"/>
                </a:solidFill>
                <a:latin typeface="Calibri"/>
              </a:rPr>
              <a:t> the temperature. </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l Gore claims that CO</a:t>
            </a:r>
            <a:r>
              <a:rPr b="0" lang="en-US" sz="2000" spc="-1" strike="noStrike" baseline="-25000">
                <a:solidFill>
                  <a:srgbClr val="000000"/>
                </a:solidFill>
                <a:latin typeface="Calibri"/>
              </a:rPr>
              <a:t>2</a:t>
            </a:r>
            <a:r>
              <a:rPr b="0" lang="en-US" sz="2000" spc="-1" strike="noStrike">
                <a:solidFill>
                  <a:srgbClr val="000000"/>
                </a:solidFill>
                <a:latin typeface="Calibri"/>
              </a:rPr>
              <a:t> fluctuations from an unknown source caused the ice ages and the interglacials. In fact, </a:t>
            </a:r>
            <a:r>
              <a:rPr b="1" lang="en-US" sz="2000" spc="-1" strike="noStrike">
                <a:solidFill>
                  <a:srgbClr val="000000"/>
                </a:solidFill>
                <a:latin typeface="Calibri"/>
              </a:rPr>
              <a:t>the temperature changes caused the changes in CO</a:t>
            </a:r>
            <a:r>
              <a:rPr b="1" lang="en-US" sz="2000" spc="-1" strike="noStrike" baseline="-25000">
                <a:solidFill>
                  <a:srgbClr val="000000"/>
                </a:solidFill>
                <a:latin typeface="Calibri"/>
              </a:rPr>
              <a:t>2</a:t>
            </a:r>
            <a:r>
              <a:rPr b="1" lang="en-US" sz="2000" spc="-1" strike="noStrike">
                <a:solidFill>
                  <a:srgbClr val="000000"/>
                </a:solidFill>
                <a:latin typeface="Calibri"/>
              </a:rPr>
              <a:t> - not the opposite, as Al Gore claims.</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Predicting” Earth Temperatures</a:t>
            </a:r>
            <a:endParaRPr b="0" lang="en-US" sz="3200" spc="-1" strike="noStrike">
              <a:solidFill>
                <a:srgbClr val="000000"/>
              </a:solidFill>
              <a:latin typeface="Calibri"/>
            </a:endParaRPr>
          </a:p>
        </p:txBody>
      </p:sp>
      <p:pic>
        <p:nvPicPr>
          <p:cNvPr id="80" name="" descr=""/>
          <p:cNvPicPr/>
          <p:nvPr/>
        </p:nvPicPr>
        <p:blipFill>
          <a:blip r:embed="rId2"/>
          <a:stretch/>
        </p:blipFill>
        <p:spPr>
          <a:xfrm>
            <a:off x="1219320" y="1523880"/>
            <a:ext cx="6781680" cy="4496040"/>
          </a:xfrm>
          <a:prstGeom prst="rect">
            <a:avLst/>
          </a:prstGeom>
          <a:ln w="0">
            <a:noFill/>
          </a:ln>
        </p:spPr>
      </p:pic>
    </p:spTree>
  </p:cSld>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mediacall" presetID="1">
                                  <p:stCondLst>
                                    <p:cond delay="0"/>
                                  </p:stCondLst>
                                  <p:childTnLst>
                                    <p:cmd type="call" cmd="playFrom(0.0)">
                                      <p:cBhvr>
                                        <p:cTn id="61" dur="19987" fill="hold"/>
                                        <p:tgtEl>
                                          <p:spTgt spid="80"/>
                                        </p:tgtEl>
                                      </p:cBhvr>
                                    </p:cmd>
                                  </p:childTnLst>
                                </p:cTn>
                              </p:par>
                            </p:childTnLst>
                          </p:cTn>
                        </p:par>
                      </p:childTnLst>
                    </p:cTn>
                  </p:par>
                </p:childTnLst>
              </p:cTn>
              <p:prevCondLst>
                <p:cond evt="onPrev">
                  <p:tgtEl>
                    <p:sldTgt/>
                  </p:tgtEl>
                </p:cond>
              </p:prevCondLst>
              <p:nextCondLst>
                <p:cond evt="onNext">
                  <p:tgtEl>
                    <p:sldTgt/>
                  </p:tgtEl>
                </p:cond>
              </p:nextCondLst>
            </p:seq>
            <p:seq>
              <p:cTn id="62" restart="whenNotActive" nodeType="interactiveSeq" fill="hold">
                <p:stCondLst>
                  <p:cond evt="onClick">
                    <p:tgtEl>
                      <p:spTgt spid="80"/>
                    </p:tgtEl>
                  </p:cond>
                </p:stCondLst>
                <p:childTnLst>
                  <p:par>
                    <p:cTn id="63" fill="hold">
                      <p:stCondLst>
                        <p:cond evt="onClick">
                          <p:tgtEl>
                            <p:spTgt spid="80"/>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Box 3"/>
          <p:cNvSpPr/>
          <p:nvPr/>
        </p:nvSpPr>
        <p:spPr>
          <a:xfrm>
            <a:off x="609480" y="838080"/>
            <a:ext cx="792504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a:t>
            </a:r>
            <a:r>
              <a:rPr b="1" lang="en-US" sz="2800" spc="-1" strike="noStrike">
                <a:solidFill>
                  <a:srgbClr val="000000"/>
                </a:solidFill>
                <a:latin typeface="Calibri"/>
              </a:rPr>
              <a:t>no</a:t>
            </a:r>
            <a:r>
              <a:rPr b="0" lang="en-US" sz="2800" spc="-1" strike="noStrike">
                <a:solidFill>
                  <a:srgbClr val="000000"/>
                </a:solidFill>
                <a:latin typeface="Calibri"/>
              </a:rPr>
              <a:t> such “computer models that long ago predicted” these temperature trends, as Al Gore claims. The computer models were fitted, with 6 or 7 adjustable parameters, </a:t>
            </a:r>
            <a:r>
              <a:rPr b="1" lang="en-US" sz="2800" spc="-1" strike="noStrike">
                <a:solidFill>
                  <a:srgbClr val="000000"/>
                </a:solidFill>
                <a:latin typeface="Calibri"/>
              </a:rPr>
              <a:t>retroactively</a:t>
            </a:r>
            <a:r>
              <a:rPr b="0" lang="en-US" sz="2800" spc="-1" strike="noStrike">
                <a:solidFill>
                  <a:srgbClr val="000000"/>
                </a:solidFill>
                <a:latin typeface="Calibri"/>
              </a:rPr>
              <a:t> to the temperature record. Notice also that </a:t>
            </a:r>
            <a:r>
              <a:rPr b="1" lang="en-US" sz="2800" spc="-1" strike="noStrike">
                <a:solidFill>
                  <a:srgbClr val="000000"/>
                </a:solidFill>
                <a:latin typeface="Calibri"/>
              </a:rPr>
              <a:t>Al Gore’s alleged computer model predictions begin before 1940, when computers did not exist</a:t>
            </a:r>
            <a:r>
              <a:rPr b="0" lang="en-US" sz="2800" spc="-1" strike="noStrike">
                <a:solidFill>
                  <a:srgbClr val="000000"/>
                </a:solidFill>
                <a:latin typeface="Calibri"/>
              </a:rPr>
              <a:t>.</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over, none of the models include short-term fluctuations of less than 0.01 degrees C. These fluctuations </a:t>
            </a:r>
            <a:r>
              <a:rPr b="1" lang="en-US" sz="2800" spc="-1" strike="noStrike">
                <a:solidFill>
                  <a:srgbClr val="000000"/>
                </a:solidFill>
                <a:latin typeface="Calibri"/>
              </a:rPr>
              <a:t>have been graphically added</a:t>
            </a:r>
            <a:r>
              <a:rPr b="0" lang="en-US" sz="2800" spc="-1" strike="noStrike">
                <a:solidFill>
                  <a:srgbClr val="000000"/>
                </a:solidFill>
                <a:latin typeface="Calibri"/>
              </a:rPr>
              <a:t> to the “predicted” curves to make them look authentic.</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Blames recent Hurricanes on Human Hydrocarbon Use</a:t>
            </a:r>
            <a:endParaRPr b="0" lang="en-US" sz="3200" spc="-1" strike="noStrike">
              <a:solidFill>
                <a:srgbClr val="000000"/>
              </a:solidFill>
              <a:latin typeface="Calibri"/>
            </a:endParaRPr>
          </a:p>
        </p:txBody>
      </p:sp>
      <p:pic>
        <p:nvPicPr>
          <p:cNvPr id="83" name="" descr=""/>
          <p:cNvPicPr/>
          <p:nvPr/>
        </p:nvPicPr>
        <p:blipFill>
          <a:blip r:embed="rId2"/>
          <a:stretch/>
        </p:blipFill>
        <p:spPr>
          <a:xfrm>
            <a:off x="1219320" y="1600200"/>
            <a:ext cx="6858000" cy="457200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8285" fill="hold"/>
                                        <p:tgtEl>
                                          <p:spTgt spid="83"/>
                                        </p:tgtEl>
                                      </p:cBhvr>
                                    </p:cmd>
                                  </p:childTnLst>
                                </p:cTn>
                              </p:par>
                            </p:childTnLst>
                          </p:cTn>
                        </p:par>
                      </p:childTnLst>
                    </p:cTn>
                  </p:par>
                </p:childTnLst>
              </p:cTn>
              <p:prevCondLst>
                <p:cond evt="onPrev">
                  <p:tgtEl>
                    <p:sldTgt/>
                  </p:tgtEl>
                </p:cond>
              </p:prevCondLst>
              <p:nextCondLst>
                <p:cond evt="onNext">
                  <p:tgtEl>
                    <p:sldTgt/>
                  </p:tgtEl>
                </p:cond>
              </p:nextCondLst>
            </p:seq>
            <p:seq>
              <p:cTn id="73" restart="whenNotActive" nodeType="interactiveSeq" fill="hold">
                <p:stCondLst>
                  <p:cond evt="onClick">
                    <p:tgtEl>
                      <p:spTgt spid="83"/>
                    </p:tgtEl>
                  </p:cond>
                </p:stCondLst>
                <p:childTnLst>
                  <p:par>
                    <p:cTn id="74" fill="hold">
                      <p:stCondLst>
                        <p:cond evt="onClick">
                          <p:tgtEl>
                            <p:spTgt spid="83"/>
                          </p:tgtEl>
                        </p:cond>
                      </p:stCondLst>
                      <p:childTnLst>
                        <p:par>
                          <p:cTn id="75" fill="hold">
                            <p:stCondLst>
                              <p:cond delay="0"/>
                            </p:stCondLst>
                            <p:childTnLst>
                              <p:par>
                                <p:cTn id="76" nodeType="clickEffect" fill="hold" presetClass="mediacall" presetID="2">
                                  <p:stCondLst>
                                    <p:cond delay="0"/>
                                  </p:stCondLst>
                                  <p:childTnLst>
                                    <p:cmd type="call" cmd="togglePause">
                                      <p:cBhvr>
                                        <p:cTn id="77" dur="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4" name="Picture 1" descr="Fig_09_Hurricanes_Landfall.tif"/>
          <p:cNvPicPr/>
          <p:nvPr/>
        </p:nvPicPr>
        <p:blipFill>
          <a:blip r:embed="rId2"/>
          <a:stretch/>
        </p:blipFill>
        <p:spPr>
          <a:xfrm>
            <a:off x="533520" y="762120"/>
            <a:ext cx="3840120" cy="2193840"/>
          </a:xfrm>
          <a:prstGeom prst="rect">
            <a:avLst/>
          </a:prstGeom>
          <a:ln w="0">
            <a:noFill/>
          </a:ln>
        </p:spPr>
      </p:pic>
      <p:pic>
        <p:nvPicPr>
          <p:cNvPr id="85" name="Picture 2" descr="Fig_10_Hurricane_Speed_Violent.tif"/>
          <p:cNvPicPr/>
          <p:nvPr/>
        </p:nvPicPr>
        <p:blipFill>
          <a:blip r:embed="rId3"/>
          <a:stretch/>
        </p:blipFill>
        <p:spPr>
          <a:xfrm>
            <a:off x="4648320" y="762120"/>
            <a:ext cx="3840120" cy="2960640"/>
          </a:xfrm>
          <a:prstGeom prst="rect">
            <a:avLst/>
          </a:prstGeom>
          <a:ln w="0">
            <a:noFill/>
          </a:ln>
        </p:spPr>
      </p:pic>
      <p:sp>
        <p:nvSpPr>
          <p:cNvPr id="86" name="TextBox 3"/>
          <p:cNvSpPr/>
          <p:nvPr/>
        </p:nvSpPr>
        <p:spPr>
          <a:xfrm>
            <a:off x="762120" y="4419720"/>
            <a:ext cx="74674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either the frequency nor the intensity of Atlantic hurricanes has increased. Assertions that hurricanes are increasing as a result of human hydrocarbon use are entirely false.</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t>
            </a:r>
            <a:r>
              <a:rPr b="1" lang="en-US" sz="3200" spc="-1" strike="noStrike">
                <a:solidFill>
                  <a:srgbClr val="000000"/>
                </a:solidFill>
                <a:latin typeface="Calibri"/>
              </a:rPr>
              <a:t>Many residents of low-lying Pacific Island nations have already had to evacuate their homes because of rising seas.”</a:t>
            </a:r>
            <a:endParaRPr b="0" lang="en-US" sz="3200" spc="-1" strike="noStrike">
              <a:solidFill>
                <a:srgbClr val="000000"/>
              </a:solidFill>
              <a:latin typeface="Calibri"/>
            </a:endParaRPr>
          </a:p>
        </p:txBody>
      </p:sp>
      <p:sp>
        <p:nvSpPr>
          <p:cNvPr id="88" name="TextBox 6"/>
          <p:cNvSpPr/>
          <p:nvPr/>
        </p:nvSpPr>
        <p:spPr>
          <a:xfrm>
            <a:off x="4419720" y="1609560"/>
            <a:ext cx="434340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000" spc="-1" strike="noStrike">
                <a:solidFill>
                  <a:srgbClr val="000000"/>
                </a:solidFill>
                <a:latin typeface="Calibri"/>
              </a:rPr>
              <a:t>Al Gore, </a:t>
            </a:r>
            <a:r>
              <a:rPr b="1" i="1" lang="en-US" sz="2000" spc="-1" strike="noStrike">
                <a:solidFill>
                  <a:srgbClr val="000000"/>
                </a:solidFill>
                <a:latin typeface="Calibri"/>
              </a:rPr>
              <a:t>An Inconvenient Truth</a:t>
            </a:r>
            <a:endParaRPr b="0" lang="en-US" sz="2000" spc="-1" strike="noStrike">
              <a:solidFill>
                <a:srgbClr val="000000"/>
              </a:solidFill>
              <a:latin typeface="Calibri"/>
            </a:endParaRPr>
          </a:p>
        </p:txBody>
      </p:sp>
      <p:pic>
        <p:nvPicPr>
          <p:cNvPr id="89" name="" descr=""/>
          <p:cNvPicPr/>
          <p:nvPr/>
        </p:nvPicPr>
        <p:blipFill>
          <a:blip r:embed="rId2"/>
          <a:stretch/>
        </p:blipFill>
        <p:spPr>
          <a:xfrm>
            <a:off x="1219320" y="2209680"/>
            <a:ext cx="6781680" cy="4496040"/>
          </a:xfrm>
          <a:prstGeom prst="rect">
            <a:avLst/>
          </a:prstGeom>
          <a:ln w="0">
            <a:noFill/>
          </a:ln>
        </p:spPr>
      </p:pic>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mediacall" presetID="1">
                                  <p:stCondLst>
                                    <p:cond delay="0"/>
                                  </p:stCondLst>
                                  <p:childTnLst>
                                    <p:cmd type="call" cmd="playFrom(0.0)">
                                      <p:cBhvr>
                                        <p:cTn id="83" dur="6974" fill="hold"/>
                                        <p:tgtEl>
                                          <p:spTgt spid="89"/>
                                        </p:tgtEl>
                                      </p:cBhvr>
                                    </p:cmd>
                                  </p:childTnLst>
                                </p:cTn>
                              </p:par>
                            </p:childTnLst>
                          </p:cTn>
                        </p:par>
                      </p:childTnLst>
                    </p:cTn>
                  </p:par>
                </p:childTnLst>
              </p:cTn>
              <p:prevCondLst>
                <p:cond evt="onPrev">
                  <p:tgtEl>
                    <p:sldTgt/>
                  </p:tgtEl>
                </p:cond>
              </p:prevCondLst>
              <p:nextCondLst>
                <p:cond evt="onNext">
                  <p:tgtEl>
                    <p:sldTgt/>
                  </p:tgtEl>
                </p:cond>
              </p:nextCondLst>
            </p:seq>
            <p:seq>
              <p:cTn id="84" restart="whenNotActive" nodeType="interactiveSeq" fill="hold">
                <p:stCondLst>
                  <p:cond evt="onClick">
                    <p:tgtEl>
                      <p:spTgt spid="89"/>
                    </p:tgtEl>
                  </p:cond>
                </p:stCondLst>
                <p:childTnLst>
                  <p:par>
                    <p:cTn id="85" fill="hold">
                      <p:stCondLst>
                        <p:cond evt="onClick">
                          <p:tgtEl>
                            <p:spTgt spid="89"/>
                          </p:tgtEl>
                        </p:cond>
                      </p:stCondLst>
                      <p:childTnLst>
                        <p:par>
                          <p:cTn id="86" fill="hold">
                            <p:stCondLst>
                              <p:cond delay="0"/>
                            </p:stCondLst>
                            <p:childTnLst>
                              <p:par>
                                <p:cTn id="87" nodeType="clickEffect" fill="hold" presetClass="mediacall" presetID="2">
                                  <p:stCondLst>
                                    <p:cond delay="0"/>
                                  </p:stCondLst>
                                  <p:childTnLst>
                                    <p:cmd type="call" cmd="togglePause">
                                      <p:cBhvr>
                                        <p:cTn id="88" dur="1"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0" name="Picture 1" descr="Fig_11_Sea_Level_vs_Hydrocarbon.tif"/>
          <p:cNvPicPr/>
          <p:nvPr/>
        </p:nvPicPr>
        <p:blipFill>
          <a:blip r:embed="rId2"/>
          <a:stretch/>
        </p:blipFill>
        <p:spPr>
          <a:xfrm>
            <a:off x="2209680" y="609480"/>
            <a:ext cx="4800600" cy="3429000"/>
          </a:xfrm>
          <a:prstGeom prst="rect">
            <a:avLst/>
          </a:prstGeom>
          <a:ln w="0">
            <a:noFill/>
          </a:ln>
        </p:spPr>
      </p:pic>
      <p:sp>
        <p:nvSpPr>
          <p:cNvPr id="91" name="TextBox 2"/>
          <p:cNvSpPr/>
          <p:nvPr/>
        </p:nvSpPr>
        <p:spPr>
          <a:xfrm>
            <a:off x="762120" y="4432320"/>
            <a:ext cx="76960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ea level has increased gradually and steadily at a rate of </a:t>
            </a:r>
            <a:r>
              <a:rPr b="1" lang="en-US" sz="2800" spc="-1" strike="noStrike">
                <a:solidFill>
                  <a:srgbClr val="000000"/>
                </a:solidFill>
                <a:latin typeface="Calibri"/>
              </a:rPr>
              <a:t>7 inches per century </a:t>
            </a:r>
            <a:r>
              <a:rPr b="0" lang="en-US" sz="2800" spc="-1" strike="noStrike">
                <a:solidFill>
                  <a:srgbClr val="000000"/>
                </a:solidFill>
                <a:latin typeface="Calibri"/>
              </a:rPr>
              <a:t>for 150 years. This change cannot be causing the evacuation of flooded islands as Al Gore asserts.</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In the past 50 years, sea level increased 3 inches.</a:t>
            </a:r>
            <a:endParaRPr b="0" lang="en-US" sz="2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Box 1"/>
          <p:cNvSpPr/>
          <p:nvPr/>
        </p:nvSpPr>
        <p:spPr>
          <a:xfrm>
            <a:off x="609480" y="1143000"/>
            <a:ext cx="777240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 Gore claims that insect borne diseases are on the rise </a:t>
            </a:r>
            <a:r>
              <a:rPr b="0" lang="en-US" sz="2200" spc="-1" strike="noStrike">
                <a:solidFill>
                  <a:srgbClr val="000000"/>
                </a:solidFill>
                <a:latin typeface="Calibri"/>
              </a:rPr>
              <a:t>because of global warming, but, as Mary Ellen Tiffany Gilder has pointed out, only 4 of the 15 diseases Gore lists are spread by insects. The most serious example, malaria, is returning to areas from which it was previously eradicated because of the ban of DDT use – another cause championed by Mr. Gore. More than 40 million children and pregnant women have died unnecessarily from DDT-preventable malaria in Africa and Asia since the ban of DDT. </a:t>
            </a:r>
            <a:endParaRPr b="0" lang="en-US" sz="2200" spc="-1" strike="noStrike">
              <a:solidFill>
                <a:srgbClr val="000000"/>
              </a:solidFill>
              <a:latin typeface="Calibri"/>
            </a:endParaRPr>
          </a:p>
        </p:txBody>
      </p:sp>
      <p:sp>
        <p:nvSpPr>
          <p:cNvPr id="93" name="TextBox 2"/>
          <p:cNvSpPr/>
          <p:nvPr/>
        </p:nvSpPr>
        <p:spPr>
          <a:xfrm>
            <a:off x="609480" y="4572000"/>
            <a:ext cx="777240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 Gore claims that Lake Chad in North Africa has dried up as a result of human use of hydrocarbon energy. </a:t>
            </a:r>
            <a:r>
              <a:rPr b="0" lang="en-US" sz="2200" spc="-1" strike="noStrike">
                <a:solidFill>
                  <a:srgbClr val="000000"/>
                </a:solidFill>
                <a:latin typeface="Calibri"/>
              </a:rPr>
              <a:t>However, as Miss Gilder has also pointed out, Lake Chad has dried up four times previously in recorded history and the current drying is known to be the result of local causes.</a:t>
            </a:r>
            <a:endParaRPr b="0" lang="en-US" sz="2200" spc="-1" strike="noStrike">
              <a:solidFill>
                <a:srgbClr val="000000"/>
              </a:solidFill>
              <a:latin typeface="Calibri"/>
            </a:endParaRPr>
          </a:p>
        </p:txBody>
      </p:sp>
      <p:sp>
        <p:nvSpPr>
          <p:cNvPr id="94" name="TextBox 3"/>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Vertical Scroll 3"/>
          <p:cNvSpPr/>
          <p:nvPr/>
        </p:nvSpPr>
        <p:spPr>
          <a:xfrm>
            <a:off x="380880" y="304920"/>
            <a:ext cx="4038840" cy="3733560"/>
          </a:xfrm>
          <a:prstGeom prst="vertic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end is near!</a:t>
            </a:r>
            <a:endParaRPr b="0" lang="en-US" sz="6000" spc="-1" strike="noStrike">
              <a:solidFill>
                <a:srgbClr val="000000"/>
              </a:solidFill>
              <a:latin typeface="Calibri"/>
            </a:endParaRPr>
          </a:p>
        </p:txBody>
      </p:sp>
      <p:sp>
        <p:nvSpPr>
          <p:cNvPr id="52" name="Vertical Scroll 4"/>
          <p:cNvSpPr/>
          <p:nvPr/>
        </p:nvSpPr>
        <p:spPr>
          <a:xfrm>
            <a:off x="4800600" y="304920"/>
            <a:ext cx="4038480" cy="3733560"/>
          </a:xfrm>
          <a:prstGeom prst="verticalScroll">
            <a:avLst>
              <a:gd name="adj" fmla="val 125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Maiandra GD"/>
              </a:rPr>
              <a:t>The end is </a:t>
            </a:r>
            <a:r>
              <a:rPr b="0" lang="en-US" sz="6000" spc="-1" strike="noStrike" u="sng">
                <a:solidFill>
                  <a:srgbClr val="ffffff"/>
                </a:solidFill>
                <a:uFillTx/>
                <a:latin typeface="Maiandra GD"/>
              </a:rPr>
              <a:t>here!</a:t>
            </a:r>
            <a:endParaRPr b="0" lang="en-US" sz="6000" spc="-1" strike="noStrike">
              <a:solidFill>
                <a:srgbClr val="000000"/>
              </a:solidFill>
              <a:latin typeface="Calibri"/>
            </a:endParaRPr>
          </a:p>
        </p:txBody>
      </p:sp>
      <p:sp>
        <p:nvSpPr>
          <p:cNvPr id="53" name="TextBox 5"/>
          <p:cNvSpPr/>
          <p:nvPr/>
        </p:nvSpPr>
        <p:spPr>
          <a:xfrm>
            <a:off x="914400" y="4267080"/>
            <a:ext cx="2819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 1997</a:t>
            </a:r>
            <a:endParaRPr b="0" lang="en-US" sz="3600" spc="-1" strike="noStrike">
              <a:solidFill>
                <a:srgbClr val="000000"/>
              </a:solidFill>
              <a:latin typeface="Calibri"/>
            </a:endParaRPr>
          </a:p>
        </p:txBody>
      </p:sp>
      <p:sp>
        <p:nvSpPr>
          <p:cNvPr id="54" name="TextBox 6"/>
          <p:cNvSpPr/>
          <p:nvPr/>
        </p:nvSpPr>
        <p:spPr>
          <a:xfrm>
            <a:off x="380880" y="5410080"/>
            <a:ext cx="83822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and his Hollywood, IPCC United Nations, and Media retainers.</a:t>
            </a:r>
            <a:endParaRPr b="0" lang="en-US" sz="3200" spc="-1" strike="noStrike">
              <a:solidFill>
                <a:srgbClr val="000000"/>
              </a:solidFill>
              <a:latin typeface="Calibri"/>
            </a:endParaRPr>
          </a:p>
        </p:txBody>
      </p:sp>
      <p:sp>
        <p:nvSpPr>
          <p:cNvPr id="55" name="TextBox 7"/>
          <p:cNvSpPr/>
          <p:nvPr/>
        </p:nvSpPr>
        <p:spPr>
          <a:xfrm>
            <a:off x="5334120" y="4267080"/>
            <a:ext cx="281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 2007</a:t>
            </a:r>
            <a:endParaRPr b="0" lang="en-US" sz="3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TextBox 1"/>
          <p:cNvSpPr/>
          <p:nvPr/>
        </p:nvSpPr>
        <p:spPr>
          <a:xfrm>
            <a:off x="609480" y="1492200"/>
            <a:ext cx="777240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 Gore claims that bark beetles are destroying American forests because of global warming</a:t>
            </a:r>
            <a:r>
              <a:rPr b="0" lang="en-US" sz="2200" spc="-1" strike="noStrike">
                <a:solidFill>
                  <a:srgbClr val="000000"/>
                </a:solidFill>
                <a:latin typeface="Calibri"/>
              </a:rPr>
              <a:t>, but, bark beetle infestations are enhanced by decreased rainfall, while rainfall is actually increasing. Bark beetles cannot be enhanced significantly by a 0.5 degree Centigrade per century increase in temperature.</a:t>
            </a:r>
            <a:endParaRPr b="0" lang="en-US" sz="2200" spc="-1" strike="noStrike">
              <a:solidFill>
                <a:srgbClr val="000000"/>
              </a:solidFill>
              <a:latin typeface="Calibri"/>
            </a:endParaRPr>
          </a:p>
        </p:txBody>
      </p:sp>
      <p:sp>
        <p:nvSpPr>
          <p:cNvPr id="96" name="TextBox 2"/>
          <p:cNvSpPr/>
          <p:nvPr/>
        </p:nvSpPr>
        <p:spPr>
          <a:xfrm>
            <a:off x="609480" y="3886200"/>
            <a:ext cx="7772400" cy="1434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l Gore claims that New York, Florida, and San Francisco will be catastrophically flooded by rising seas due to human-caused global warming. </a:t>
            </a:r>
            <a:r>
              <a:rPr b="0" lang="en-US" sz="2200" spc="-1" strike="noStrike">
                <a:solidFill>
                  <a:srgbClr val="000000"/>
                </a:solidFill>
                <a:latin typeface="Calibri"/>
              </a:rPr>
              <a:t>There is not a shred of scientific evidence to support this claim. </a:t>
            </a:r>
            <a:endParaRPr b="0" lang="en-US" sz="2200" spc="-1" strike="noStrike">
              <a:solidFill>
                <a:srgbClr val="000000"/>
              </a:solidFill>
              <a:latin typeface="Calibri"/>
            </a:endParaRPr>
          </a:p>
        </p:txBody>
      </p:sp>
      <p:sp>
        <p:nvSpPr>
          <p:cNvPr id="97" name="TextBox 3"/>
          <p:cNvSpPr/>
          <p:nvPr/>
        </p:nvSpPr>
        <p:spPr>
          <a:xfrm>
            <a:off x="762120" y="3808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over:</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TextBox 1"/>
          <p:cNvSpPr/>
          <p:nvPr/>
        </p:nvSpPr>
        <p:spPr>
          <a:xfrm>
            <a:off x="838080" y="237960"/>
            <a:ext cx="7391520" cy="2104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nally, Al Gore and his Hollywood, IPCC United Nations, and Media retainers claim that an overwhelming “consensus” of scientists agree with his statements, and only a handful of “skeptics” disagree. Yet, </a:t>
            </a:r>
            <a:r>
              <a:rPr b="1" lang="en-US" sz="2200" spc="-1" strike="noStrike">
                <a:solidFill>
                  <a:srgbClr val="000000"/>
                </a:solidFill>
                <a:latin typeface="Calibri"/>
              </a:rPr>
              <a:t>more than 20,000 Americans with university degrees in physical science</a:t>
            </a:r>
            <a:r>
              <a:rPr b="0" lang="en-US" sz="2200" spc="-1" strike="noStrike">
                <a:solidFill>
                  <a:srgbClr val="000000"/>
                </a:solidFill>
                <a:latin typeface="Calibri"/>
              </a:rPr>
              <a:t> – including many of our most eminent scientists – </a:t>
            </a:r>
            <a:r>
              <a:rPr b="1" lang="en-US" sz="2200" spc="-1" strike="noStrike">
                <a:solidFill>
                  <a:srgbClr val="000000"/>
                </a:solidFill>
                <a:latin typeface="Calibri"/>
              </a:rPr>
              <a:t>have signed a petition that reads</a:t>
            </a:r>
            <a:r>
              <a:rPr b="0" lang="en-US" sz="2200" spc="-1" strike="noStrike">
                <a:solidFill>
                  <a:srgbClr val="000000"/>
                </a:solidFill>
                <a:latin typeface="Calibri"/>
              </a:rPr>
              <a:t>:</a:t>
            </a:r>
            <a:endParaRPr b="0" lang="en-US" sz="2200" spc="-1" strike="noStrike">
              <a:solidFill>
                <a:srgbClr val="000000"/>
              </a:solidFill>
              <a:latin typeface="Calibri"/>
            </a:endParaRPr>
          </a:p>
        </p:txBody>
      </p:sp>
      <p:pic>
        <p:nvPicPr>
          <p:cNvPr id="99" name="TextBox 2" descr=""/>
          <p:cNvPicPr/>
          <p:nvPr/>
        </p:nvPicPr>
        <p:blipFill>
          <a:blip r:embed="rId2"/>
          <a:stretch/>
        </p:blipFill>
        <p:spPr>
          <a:xfrm>
            <a:off x="390600" y="2560680"/>
            <a:ext cx="8362800" cy="41083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United States Net Import of Energy costs $300 billion per Year  </a:t>
            </a:r>
            <a:endParaRPr b="0" lang="en-US" sz="4000" spc="-1" strike="noStrike">
              <a:solidFill>
                <a:srgbClr val="000000"/>
              </a:solidFill>
              <a:latin typeface="Calibri"/>
            </a:endParaRPr>
          </a:p>
        </p:txBody>
      </p:sp>
      <p:pic>
        <p:nvPicPr>
          <p:cNvPr id="101" name="Content Placeholder 3" descr="Fig_25_Current_Energy.tif"/>
          <p:cNvPicPr/>
          <p:nvPr/>
        </p:nvPicPr>
        <p:blipFill>
          <a:blip r:embed="rId2"/>
          <a:stretch/>
        </p:blipFill>
        <p:spPr>
          <a:xfrm>
            <a:off x="1523880" y="1981080"/>
            <a:ext cx="6515280" cy="4457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Nuclear and Hydrocarbon Energy are the Least Expensive</a:t>
            </a:r>
            <a:endParaRPr b="0" lang="en-US" sz="4000" spc="-1" strike="noStrike">
              <a:solidFill>
                <a:srgbClr val="000000"/>
              </a:solidFill>
              <a:latin typeface="Calibri"/>
            </a:endParaRPr>
          </a:p>
        </p:txBody>
      </p:sp>
      <p:pic>
        <p:nvPicPr>
          <p:cNvPr id="103" name="Content Placeholder 3" descr="Fig_26_Electricity_Cost.tif"/>
          <p:cNvPicPr/>
          <p:nvPr/>
        </p:nvPicPr>
        <p:blipFill>
          <a:blip r:embed="rId2"/>
          <a:stretch/>
        </p:blipFill>
        <p:spPr>
          <a:xfrm>
            <a:off x="1295280" y="1828800"/>
            <a:ext cx="6400800" cy="4572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ne Palo Verde Nuclear Installation in Each State Results in $200 Billion Net Export of Energy</a:t>
            </a:r>
            <a:endParaRPr b="0" lang="en-US" sz="4000" spc="-1" strike="noStrike">
              <a:solidFill>
                <a:srgbClr val="000000"/>
              </a:solidFill>
              <a:latin typeface="Calibri"/>
            </a:endParaRPr>
          </a:p>
        </p:txBody>
      </p:sp>
      <p:pic>
        <p:nvPicPr>
          <p:cNvPr id="105" name="Content Placeholder 3" descr="Fig_27_Proposed_Energy.tif"/>
          <p:cNvPicPr/>
          <p:nvPr/>
        </p:nvPicPr>
        <p:blipFill>
          <a:blip r:embed="rId2"/>
          <a:stretch/>
        </p:blipFill>
        <p:spPr>
          <a:xfrm>
            <a:off x="1828800" y="2087640"/>
            <a:ext cx="5486400" cy="438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TextBox 3"/>
          <p:cNvSpPr/>
          <p:nvPr/>
        </p:nvSpPr>
        <p:spPr>
          <a:xfrm>
            <a:off x="533520" y="1068480"/>
            <a:ext cx="8153280" cy="4450680"/>
          </a:xfrm>
          <a:prstGeom prst="rect">
            <a:avLst/>
          </a:prstGeom>
          <a:noFill/>
          <a:ln w="0">
            <a:noFill/>
          </a:ln>
        </p:spPr>
        <p:style>
          <a:lnRef idx="0"/>
          <a:fillRef idx="0"/>
          <a:effectRef idx="0"/>
          <a:fontRef idx="minor"/>
        </p:style>
        <p:txBody>
          <a:bodyPr lIns="90000" rIns="90000" tIns="46800" bIns="46800" anchor="t">
            <a:spAutoFit/>
          </a:bodyPr>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truth is that essentially all of Al Gore’s “inconvenient truths” are false.</a:t>
            </a:r>
            <a:endParaRPr b="0" lang="en-US" sz="3200" spc="-1" strike="noStrike">
              <a:solidFill>
                <a:srgbClr val="000000"/>
              </a:solidFill>
              <a:latin typeface="Calibri"/>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is correct that the current debate on “human-caused global warming” involves an “Assault on Reason” – by him.</a:t>
            </a:r>
            <a:endParaRPr b="0" lang="en-US" sz="3200" spc="-1" strike="noStrike">
              <a:solidFill>
                <a:srgbClr val="000000"/>
              </a:solidFill>
              <a:latin typeface="Calibri"/>
            </a:endParaRPr>
          </a:p>
          <a:p>
            <a:pPr>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ydrocarbon energy is not warming the Earth, but it is markedly increasing the amounts of plants and animals and their diversity. </a:t>
            </a:r>
            <a:endParaRPr b="0" lang="en-US" sz="3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TextBox 1"/>
          <p:cNvSpPr/>
          <p:nvPr/>
        </p:nvSpPr>
        <p:spPr>
          <a:xfrm>
            <a:off x="533520" y="237960"/>
            <a:ext cx="8001000" cy="2775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There is a rapidly growing backlash in the scientific community against a group of “atmospheric science” specialists who have severely departed from the scientific method in order to support a United Nations political agenda.</a:t>
            </a:r>
            <a:endParaRPr b="0" lang="en-US" sz="22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n-US" sz="2200" spc="-1" strike="noStrike">
                <a:solidFill>
                  <a:srgbClr val="000000"/>
                </a:solidFill>
                <a:latin typeface="Calibri"/>
              </a:rPr>
              <a:t>This backlash by tens of thousands of American scientists, includes a large percentage of atmospheric scientists and many thousands (more than 20,000 to date) of physical scientists who have become signatories to the following petition:</a:t>
            </a:r>
            <a:endParaRPr b="0" lang="en-US" sz="2200" spc="-1" strike="noStrike">
              <a:solidFill>
                <a:srgbClr val="000000"/>
              </a:solidFill>
              <a:latin typeface="Calibri"/>
            </a:endParaRPr>
          </a:p>
        </p:txBody>
      </p:sp>
      <p:pic>
        <p:nvPicPr>
          <p:cNvPr id="108" name="TextBox 2" descr=""/>
          <p:cNvPicPr/>
          <p:nvPr/>
        </p:nvPicPr>
        <p:blipFill>
          <a:blip r:embed="rId2"/>
          <a:stretch/>
        </p:blipFill>
        <p:spPr>
          <a:xfrm>
            <a:off x="401760" y="3303720"/>
            <a:ext cx="8340480" cy="3193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Petition Signers – Aag to App         </a:t>
            </a:r>
            <a:r>
              <a:rPr b="1" lang="en-US" sz="1200" spc="-1" strike="noStrike">
                <a:solidFill>
                  <a:srgbClr val="000000"/>
                </a:solidFill>
                <a:latin typeface="Calibri"/>
              </a:rPr>
              <a:t>                                                                 Earl Aagaard, PhD, Roger L Aamodt, PhD, M Robert Aaron, Ralph F Abate, Hamed Abbas, PhD, Reza Abbaschian, PhD, Paul Abbett, Wyatt E Abbitt III, David M Abbott Jr, Ursula K Abbott, PhD, Will S Abbott, Riaz F. Abdulla, PhD, J M Abell, Philip H Abelson, PhD, Wayne Aben, Grady Ables, Earl A Abrahamson, PhD, John Abrams, David Acerni, J Wayne Achee, Hans J. Achemann, D T Achord, PhD, Ernest Achterberg, Gene Ackerman, John R Ackerman, William Ackerman, Richard E. Ackermann, Terry Ackman, Donald O Acrey, Lee Actor, Robert K Adair, PhD, Brian Adam, PhD, Chris Adam, John A Adam, PhD, Adams, Arthur Adams, Brook Adams, Charles K Adams, Craig Adams, Daniel Adams, PhD, Daniel B Adams Jr, Dell Adams, Donald Adams, Donald S Adams, Eugene Adams, Gail D Adams, PhD, George B Adams, PhD, Gerald J Adams, PhD, Gregory Adams, Henry Adams, Henry Adams, Howard Adams, James W Adams, Jim Adadms, John Adams, John E Adams, PhD, Kent A. Adams, Leonard C A Adams, PhD, Louis W Adams, PhD, Michael P Adams, Neil Adams, PhD, Opal Adams, Peter Adams, Phillip Adams, PhD, Richard E Adams, Richard L Adams, Robert F Adams, Roy B Adams, Roy M Adams, PhD, Steve W Adams, Walter Adams, William D Adams, William M Adams, PhD, William W Adams, Wilton Adams, PhD, Wilton T Adams, PhD, Wm J Adams, George Adcock, Rusty Adcock, MD, Lionel P Adda, PhD, Albert W Addington, Tim Addington, Bill Addison, John K Addy, PhD, C William Ade, Albert H Adelman, PhD, Barnet R Adelman, L A Adkins, Michael F Adkins, Ronald A Adkins, PhD, Norman Adler, PhD, Lt Col Jacques J Adnet, Anthrony J Adrignolo, PhD, Harry Adrounie, PhD, Richard A Adsero, Steven E Aeschbach, Stephen Affleck, PhD, Siegfried Aftergut, PhD, Jack Agan, Larry D Agenbroad, PhD, Sven Agerbek, George Aggen, PhD, Norman A Aggon, Vincent Agnello, MD, Kenneth Agnes, Mark Agnew, M C Agress, Jorge T Aguinadlo, Roy Ahalt, Robert Aharonov, Richard Ahern, Phillip Ahlberg, Kevin Ahlborg, Mark Ahlert, Terry Ahlquist, Mumtaz Ahmed, PhD, Rafique Ahmed, PhD, Robert Ahokas, PhD, H W Ahrenholz, Edward Ahrens, Rolland W Ahrens, PhD, Robert M Ahring, PhD, John J Aiello, Joseph P. Aiello, MD, S F Aiello, Phil Aigner, Brian R Ainley, Ainsworth, Alfred Ainsworth III, E Bud Ainsworth, Oscar R Ainsworth, PhD, S Aisenberg, PhD, David J Akers, Linda Akers, Willie Akers, Wayne Henry Akeson, MD, Thane Akins, Korkor Akoto, Akram, PhD, John Alai, Robert J Alaimo, PhD, Greg Alan, Vincent M Albanese, A Henry Albaugh, Ed Alberding, Timothy A Albers, MD, Edward Albert, Eric K Albert, PhD, Wm L Albert, James L Alberta, Mark W Albertsen, Frank Addison Albini, PhD, D Douglas Albrecht, Robert Albrecht, Rudolph C Albrecht, Fred R Albright, PhD, James C Albright, PhD, Robert Lee Albright, PhD, Tad B Albright, Marcus Albro, Allwyn Albuquerque, Ernest C Alcaraz, PhD, Garrett D Alcorn, MD, Luis Aldecoa, Frank Alder, Ronald G Alderfer, PhD, Thomas Alderson, PhD, Bill Aldrich, Franklin D Aldrich, PhD, Richard J Aldrich, PhD, Samuel Aldrich, PhD, Samuel Aldrich, PhD, David Aldridge, Robert Aldridge, Wm M Baldwin, Peter C Alecxih Sr, PhD, Russell J Alameda Jr, Perry B Alers, PhD, Steven J Alessandro, Alex F Alessandrini, Joe Alex, Danrick Alexander, Dave Alexander, Harold R Alexander, Ira Alexander, James F Alexander Jr, John C Alexander, Michael L Alexander, Nelson Alexander, Robert Alexander, Moorad Alexanian, PhD, Rex Alford, Robert Alford, Roger C Alig, PhD, R Allahyari, PhD, Dennis Allard, Joel Alldredge, Arly Allen, Belle Allen, Charles C Allen, Christopher G Allen, Clayton H Allen, PhD, David Allen, PhD, Emma G Allen, PhD, Eric R Allen, PhD, F. J. Allen, James Allen, PhD, John L Allen, Kenneth Allen, Merrill P Allen, Mike R Allen, PhD, Pampselo Allen, Randall Allen, Robert Allen, MD, Robert C Allen, Roger B Allen, PhD, Thomas H Allen, PhD, William Allen, William Allen, Robert T Van Aller, PhD, Carl Allesandro, Jonathan Alley, MD, Robt W Allgood, Ronald Alli, Craig Allison, Ronald C Allison, MD, Terry Allison, Kevin E Allisonn, John J Allport, PhD, Albert L Allred, PhD, Ivan D Allred Jr, Victor D Allred, PhD, Arthur W Allsop, Gary L Allurg, MD, R A Allwein, Frank M Almeter, PhD, Richard E Almy, Patrick Aloutto, PhD, James Aloye, Reevis S Alphin, PhD, A Frank Alsobrook, John Alsop, PhD, Sally Alston, Charles Alt, Vincent O Altemose, Timothy Altier, David Altman, PhD, Melvyn R Altman, PhD, Ronny G Altman, Tracy Altman, PhD, Peter C Altner, MD, Edward E Altshuler, PhD, Burton M Altura, PhD, Antonio Alvarez, Byron Alvey, Vern Always, Bradley A Aman, David Saint Amand, Charles D Amata, PhD, Charles Amateis, Ronald Amberger, PhD, Leo E Amborski, PhD, Maynard Amdahl, Donald F Amend, PhD, Marvin E Ament, Richard Amerling, MD, Robert C Amero, Edward J Ames III, Martin Ames, Richard Ames, MD, Michael Amick, Duane R Amlee, A S Ammar, Moris Amon, PhD, Pierre Saiut- Amond, PhD, Richard D Amori, Bonnie Amos, PhD, Dewey H Amos, PhD, J Reeves Ampsco, A Amr, PhD, Desiree Armstrong, PhD, Fred Amsler, MD, Adolph L Amundson, James Amy, Sal A Anazalone, Ernest J Andberg, G Robt D Andborn, John Anders, MD, Donald A Andersen, PhD, Gene P Andersen, Randall H Andersen, Terrell Andersen, PhD, Torben B Andersen, PhD, Wilford H Andersen, PhD, A E Anderson, Allan C Anderson, Anderson, Arthur G Anderson, PhD, Berard J Anderson, PhD, Bruce Anderson, Bruce M Anderson, C M Anderson Jr, Carol Anderson, Chris Anderson, Cristopher Anderson, David A Anderson, David Anderson, MD, David Anderson, David O. Anderson, PhD, David R Anderson, PhD, Donald Hervin Anderson, PhD, Donald N Anderson, PhD, Douglas J. Anderson, MD, Elmer Anderson, PhD, Gerald L Anderson, Glenn L Anderson, Greg Anderson, Harrison C Anderson, MD, HC Anderson, Ingrid Anderson, PhD, J H Anderson, James Anderson, James Anderson, James R Anderson, James R Anderson, Janis W Anderson, Jimmy D Anderson, Joel Anderson, John Anderson, PhD, John O Anderson, Julia W Anderson, PhD, Keith Anderson, Ken Anderson, Kenneth E Anderson, Kerry Anderson, Larry Anderson, PhD, Larry D Anderson, Leif H Anderson, Lowell R Anderson, Mark A Anderson, Mary Anderson, Mitchell Anderson, Nathan Anderson, Orson L Anderson, PhD, P Jennings Anderson, Paul Anderson, Percy Anderson, R L Anderson, Reece B Anderson, Richard A Anderson, PhD, Richard C Anderson, Robert E Anderson, Robt J Anderson, MD, Roger O Anderson, Roy Anderson, Russell Anderson, Staren D Anderson, Thomas Anderson, Thomas Anderson, PhD, Thornton Anderson, Tom Anderson, Warren R Anderson, Deborah Anderstrom, John R Andrade, PhD, Manuel Andrade, Ivan Andrasik, Gilbert M. Andreen, Douglas Andress, James Andrew, James F Andrew, PhD, Lawrence L Andrew, Al Andrews, PhD, Frederick Andrews, Harry N Andrews, John S Andrews, PhD, Marion Andrews, Mel Andrews, Raynal W Andrews, Russell S Andrews, PhD, Louis Andros, Mb Andrus, PhD, Alfredo Ang, PhD, Robert E Angel, Ernest F Angelicola, Vincent Angelo, DDS, Francis M Angeloni, PhD, Steven T Angely, Claude B Anger, Robert Angevine, Ernest Angino, PhD, Kevin P Ankenbrand, David Arnold, Gregory Antal, Bradley C Anthanaitis, PhD, John Anthes, PhD, Eliazbeth Anthony, PhD, Jack R Anthony, Lee S Anthony, PhD, Robt D Anthony, Dan Antonescu-Wolf, MD, Willford Antonson, Sanford Apfelroth, PhD, Carl Apicella, Bruce W Apland, David R Appel, Daniel Appell, Norman Apperson, W H Appich Jr, Lynn Apple, PhD, Robert Apple, Alan Appleby, PhD, Robert H Appleby</a:t>
            </a:r>
            <a:endParaRPr b="0" lang="en-US" sz="1200" spc="-1" strike="noStrike">
              <a:solidFill>
                <a:srgbClr val="000000"/>
              </a:solidFill>
              <a:latin typeface="Calibri"/>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8">
                                  <p:stCondLst>
                                    <p:cond delay="0"/>
                                  </p:stCondLst>
                                  <p:childTnLst>
                                    <p:set>
                                      <p:cBhvr>
                                        <p:cTn id="94" dur="1" fill="hold">
                                          <p:stCondLst>
                                            <p:cond delay="0"/>
                                          </p:stCondLst>
                                        </p:cTn>
                                        <p:tgtEl>
                                          <p:spTgt spid="109">
                                            <p:txEl>
                                              <p:pRg st="0" end="0"/>
                                            </p:txEl>
                                          </p:spTgt>
                                        </p:tgtEl>
                                        <p:attrNameLst>
                                          <p:attrName>style.visibility</p:attrName>
                                        </p:attrNameLst>
                                      </p:cBhvr>
                                      <p:to>
                                        <p:strVal val="visible"/>
                                      </p:to>
                                    </p:set>
                                    <p:anim calcmode="lin" valueType="num">
                                      <p:cBhvr additive="repl">
                                        <p:cTn id="95" dur="5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96" dur="5000" fill="hold"/>
                                        <p:tgtEl>
                                          <p:spTgt spid="10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App to Bar</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         </a:t>
            </a:r>
            <a:r>
              <a:rPr b="1" lang="en-US" sz="1200" spc="-1" strike="noStrike">
                <a:solidFill>
                  <a:srgbClr val="000000"/>
                </a:solidFill>
                <a:latin typeface="Calibri"/>
              </a:rPr>
              <a:t>Donald Applegate, DVM, Lowell N Applegate, John Applegath, Herbert S Appleman, Morris H Aprison, PhD, Charles Apter, PhD, Richard E Apuzzo Jr, J B Aquilla, MD, Ara Arabyan, PhD, Howard Arbaugh, John Arcadi, MD, Ed Arce, John Arch, Amber G Archer, Bill Archer, Diane M. Archer, William Archer, Dave Archibald, Philip Archibald, Robert Archibald, John Archie, William Ard, William Bryant Ard, PhD, Christopher Arend, Dennis Arfmann, Harold V Argo, PhD, Guvenc Argon, Lawrence Ariano, MD, William Arion, PhD, Z S Ariyan, PhD, Gertrude Armbauster, PhD, Richard Armentrout, PhD, Walt Armer, Walter D Armer, Baxter H Armstrong, PhD, Clifford Armstrong, Glenn Armstrong, James Armstrong, James C Armstrong, PhD, Joseph C. Armstrong, PhD, Lou Armstrong, Mark Armstrong, Marvin D Armstrong, PhD, Robert L Armstrong, PhD, Robert Emile Arnal, PhD, Dana Arndt, Gregory Arndt, Jerome Arnett, MD, Ross Arnett, Charles Arney, Philip J Arnholt, PhD, C Arnold, Charles Arnold, PhD, Herbert K Arnold, John Arnold, Lance L Arnold, Randall W Arnold, Robert Arnold Jr, DVM, Rosemary Arnold, Timothy Arnold, Wm A Arnold, PhD, Lester C Arnwine, Casper J Aronson, Seymour Aronson, PhD, Adrian L Arp, PhD, Charles H Arrington, PhD, Dale E Arrington, PhD, Clement R Arrison, Jose J D Arruda, PhD, Arsate, Emerson O Mc Arthur III, James Arthur, PhD, Richard Arthur, Charles G Artinian, MD, Max Artusy, PhD, A G Ash, Edward V Ashburn, Randolph Ashby, PhD, A Ashley, PhD, Holt Ashley, PhD, Warren C Ashley, PhD, Alvin Ashman, Jerome P Ashman, Walter R Ashwil, Walter Ashwill, Bob Ashworth, Monroe Ashworth, Owen Ashworth, Robert Ashworth, Orv Askeland, Ann Askew, Tom W Asmus, PhD, Winifred Alice Asprey, PhD, Mike Assad, Adel Assaf, George Aster, R Lee Aston, PhD, Jim Atchison, Curtis L. Atchley, Robert Aten, PhD, James Athanasion, James Athans, Robert D Athey Jr, PhD, Robert Douglas Athey, PhD, Arthur C Atkins, John Atkinson, John P Atkinson, MD, Larry Atkinson, Lynn Atkinson, Matt Atkinson, Stanley Atnipp, Sharon M Attaway, Ronald Attig, Leonardo D Attorre, William J Attwooll, Mark Atwood, PhD, Robt C Atwood, Darrel D Auch, James C Auckland, Walter Auclair, PhD, Berk Aucoin, W H Audley, Louis A Auerbach, Keith H Aufderheide, PhD, Wm R Aufricht, Dale Augenstein, PhD, J Augspurger, PhD, Frederick N Aukeman, Boris Auksmann, PhD, C M Aulick, PhD, Luther Aull, PhD, Bruce S Ault, PhD, John B Aultmann Jr, Henry S Aurand, Richard Aurand, Alfred E Austin, PhD, Carl Fulton Austin, PhD, D Austin, P E, Harold Austin, Michael N Austin, Robert L Austin, Ward Austin, William H Austin, Canan Avela, William Avera, Victor H Averbach, PhD, Mark Avereit, Jon R Averhoff, Frank Averill, PhD, Alex Avery, Donald Avery, Michael E Avery, Philip Avery, Kenneth Avicola, Arthur J Avila, Joseph Avruch, MD, M Friedman Axler, Mark Axtell, William P Aycock, George L Ayer, Walton Ayer, Robert C Ayers, PhD, Maynard F Ayler, William Aylor, John H Ayme, Bruce Ayres, T G Ayres, Dany Ayseur, Alison M Azar, Max Azevedo, Bryan Baab, Dirk Den - Baars, PhD, William Babbin, Ronald R Bach, PhD, Frederick A Bacher, Henry L Bachman, Kenneth Bachmann, PhD, Joseph Bacho, Alan Backman, David D Bacon, Drury L Bacon, Frank R Bacon, Lloyal O Bacon, Terry Bacon, William Bacon, MD, Robert Baczuk, J Badenhoop, PhD, Warren Badger, T Dale Badgwell, Donald L Baeder, Adrian D Baer, PhD, C David Baer, Carl Baer, PhD, Roger Baer, Tim Baer, Edward A Baetke, AD Baggerley, DVM, Dennis D Baggett, Lester Marchant Baggett, PhD, Jay M Errill Bagley, PhD, Joseph A Baglio, PhD, George Bagnall, J. Brent Bagshaw, Andrew T Bahill, PhD, Donald Bahnfleth, Donald Bahnfleth, Andrejs Baidins, PhD, R. A. Baile, Benton Bailey, Betty L Bailey, C Bailey, Carl Wm Bailey, PhD, D Bailey, Dana Bailey, PhD, Dane E Bailey, David Bailey, David G Bailey, PhD, Donald T Bailey, Ed Bailey, Edmund Bailey, MD, James Bailey, Jim Bailey, John Bailey, R V Bailey, Robert L Bailey, PhD, Ronald M Bailey, W R Bill Bailey, Paul Bailly, PhD, James Bain, PhD, Lee J Bain, PhD, David Bainer, Edward J Bair, PhD, James Baird, Quincey L Baird, PhD, John Bakane, Allen Baker, PhD, Barton S Baker, PhD, Brooks H Baker III, Carl Baker, Daniel M Baker, PhD, DK Baker, PhD, Don Robert Baker, PhD, Gary Baker, Harold N Baker, PhD, Howard T Baker, J Baker, PhD, Jim Baker, Joe Baker, PhD, John Baker, John P. Baker, PhD, Lara H. Baker, PhD, Lee Baker, Lee E. Baker, PhD, Louis Baker, PhD, Mary Ann Baker, PhD, R Baker, PhD, Randal S Baker, Robert Baker, Robert D Baker, PhD, Robert J Baker, Robert W Baker, PhD, Terry Baker, W J Baker, W O Baker, PhD, William Baker, Daniel M Bakker, Lee A Balaklaw, MD, T Balance, Brent P Balcer, Marion Balcerzak, PhD, Orville Balcom, W Loyd Balderson, PhD, W Lloyd Balderston, PhD, Andrew A Baldoni, PhD, Leland B Baldrick, Edgar Baldridge, Ransom Baldwin, PhD, A Richard Baldwin, PhD, Barrett S Baldwin, PhD, David Baldwin, Evart Baldwin, PhD, Cliff Bale, George Balella, MD, R Michael Bales, Amir Balfas, Gary Balint, Stephen J Balint, P Balis, Craig Balistrire, Sallie Baliunas, PhD, Bruno Balke, MD, Frederic M Ball, MD, George Ball, J Austin Ball, MD, Mark Ball, Rayford Ball, PhD, Joseph Ballantyne, PhD, Charels L Ballard, David W Ballard, Glenn A Ballard, Harold N Ballard, Ollie Ballard, Arthur Ballato, PhD, B. Balle, MD, Greg Ballengee, Robert Balling, PhD, Carter Ballinger, MD, Walter E Ballinger, PhD, Tom Ballou Jr, Martin Balow, Robert C Balsam Jr, James Baltar, Arden A Baltensperger, PhD, Judy Balthazor, John S Baltutis, Carole Baltz, John Banchetti, Bruce A Bancroft, PhD, Daniel W Bancroft, George P Bancroft, Lewis C Bancroft, Herman Wm Bandel, PhD, Tom Bane, Debendranath Banerjee, PhD, Richard Banham, Kernan M Banker, Kernen Banker, Cezar Banks, Kerry Eubanks, Randall A Banks, Richard Banks, Willard Banman, Lloyd H Banning, Peter R Bannister, William Bannister, PhD, C S Banquer, Harry Bantham, James W Bantham, Ronald E Banuk, John Paul Barach, PhD, Ronald Barany, PhD, Zot Barazzotto, Bill Barbee, Ted R Barben I I, Anslem H Barber Jr, Art Barber, George A Barber, George Barber, Paul Barber, Paul Barbieri, James Barcikowski, Chloeteele Barclay, Charleton C Bard, PhD, Walter M Barden, Robert A Bardo, Chad J Bardone, Andrew M Bardos, Charles E Bardsley, PhD, Steven Bardwell, PhD, Ernest Barenberg, PhD, Charles Barenfanger, David E Barensfeld, Mark J Bareta, Laurie Barfield, Thomas Barfnecht, PhD, L R Baria, Robert Barish, PhD, Francis J Barker, Frank Barker, Franklin B Barker, PhD, Horace A Barker, PhD, Larry D Barker, Leroy N. Barker, PhD, Roy J Barker, PhD, Steve Barker, Dwight G Barkley, PhD, John E Barkley, PhD, Neal Barkley, B Barks, PhD, Alan A. Barksdale, William B. Barksdale, PhD, R Michael Barland, MD, Mario Barletta, Anthony Barlow, PhD, Mark Owens Barlow, W S Barlow, Wayne Barlow, Alex Barlowen, Douglas D Barman, Charles Barnard, John Barnard, Tom Barnard, Allen L Barnes, PhD, Durton B Barnes, M D Barnes, PhD, Ralph M Barnes, Richard Barnes, Robert F Barnes, PhD, Stephen W Barnes, L Bruce Barnett, PhD, R C Barnett, Ralph Barnett, Robert Barnett, William J Barnett, John Barney, Debra Barngrover, PhD, James R Barnum, PhD, Charles J Baroczy, Jeremiah A Barondess, MD, Louis J Barone, Barquist, MD, Walter Barquist, MD, Douglas Barr, Kenneth Barr, Lawrence D Barr, Rosemary Barr, Carrol M Barrack, PhD, Kenneth H Barratt, Clem A Barrere, PhD, C Barrett, Christopher M Barrett, Helen Barrett, Kenneth A Barrett, Mrs Carol A Barrett, Wallace H Barrett, James Barrick, PhD</a:t>
            </a:r>
            <a:endParaRPr b="0" lang="en-US" sz="1200" spc="-1" strike="noStrike">
              <a:solidFill>
                <a:srgbClr val="000000"/>
              </a:solidFill>
              <a:latin typeface="Calibri"/>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28">
                                  <p:stCondLst>
                                    <p:cond delay="0"/>
                                  </p:stCondLst>
                                  <p:childTnLst>
                                    <p:set>
                                      <p:cBhvr>
                                        <p:cTn id="102" dur="1" fill="hold">
                                          <p:stCondLst>
                                            <p:cond delay="0"/>
                                          </p:stCondLst>
                                        </p:cTn>
                                        <p:tgtEl>
                                          <p:spTgt spid="110">
                                            <p:txEl>
                                              <p:pRg st="0" end="0"/>
                                            </p:txEl>
                                          </p:spTgt>
                                        </p:tgtEl>
                                        <p:attrNameLst>
                                          <p:attrName>style.visibility</p:attrName>
                                        </p:attrNameLst>
                                      </p:cBhvr>
                                      <p:to>
                                        <p:strVal val="visible"/>
                                      </p:to>
                                    </p:set>
                                    <p:anim calcmode="lin" valueType="num">
                                      <p:cBhvr additive="repl">
                                        <p:cTn id="103" dur="5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5000" fill="hold"/>
                                        <p:tgtEl>
                                          <p:spTgt spid="11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Bar to Bet                            </a:t>
            </a:r>
            <a:r>
              <a:rPr b="1" lang="en-US" sz="1200" spc="-1" strike="noStrike">
                <a:solidFill>
                  <a:srgbClr val="000000"/>
                </a:solidFill>
                <a:latin typeface="Calibri"/>
              </a:rPr>
              <a:t>Leland Barrington, Allen Barron, Cory W Barron, Donald Barron, Lance R Barron, Oscar N Barron, Lawrence J Barrows, PhD, Benjamin A Barry, Joel Barry, John L Barry, Todd R Bart, Robert Bartak, John Bartel, PhD, J H Barten, Eugene Barth, Jon Barth, Merlin J Barth, Maria V Bartha, Cristina Barthle, Jack Bartholmai, MD, Howard Bartlett, B Bartley, PhD, Gary Bartley, Carol J Bartnick, PhD, Charles J Barto Jr, Clyde Barton Jr, Hugh B Barton, Larry R Barton, Richard C Barton, Jerry Bartos, Robert J Bartosh Jr, William P Bartow, David L Bartsch, Blaine Bartz, Don Bartz, Bratzatt, PhD, Edward J Barvick, MD, David T Basden, Cecil O Basenberg, Mark Basile, John Basinski, PhD, George Baskin, Alex Baskous, MD, Jim Basnik, John W Bass, MD, Jonathan Langer Bass, PhD, Steven Craig Bass, PhD, Alton Herman Bassett, Mark J Bassett, PhD, Don Bassler, David Batchelder, Robert L Batdorf, PhD, Samuel Batdorf, PhD, Richard L Bate, James Bateman, James L Bateman, Carl Bates, PhD, Charles C Bates, PhD, Charles C Bates, PhD, Earl Bates, Lynn S Bates, PhD, Andy Batey, PhD, Robert W Batey, Terry E Batlalino, Kevin Batt, Albert Batten, PhD, George Batten, PhD, Joe Battista, Sam Battista, PhD, Jack Battle, Willis R Battles, Kirk Battleson, PhD, Joseph Battocletti, PhD, Richard Baubles, E Baudoin, Armand Bauer, PhD, Carl A Bauer, PhD, Ceo E. Bauer, David Bauer, Kerry E Bauer, Larry G Bauer, PhD, Mark S Bauer, Michael H Bauer Jr, Milton C Bauer, DVM, Paul Bauer, PhD, Thomas Bauer, Bauermeister, T Mack Baugh, George L Baughman, Joseph H Baum, PhD, Kurt Baum, PhD, Linda L Baum, PhD, Wolfgang Baum, PhD, Thomas P Baumgarth, John W Bauman, PhD, Rick Bauman, Robert Bauman, Arthur N Baumann, Norman P Baumann, PhD, Steve Baumann, Wolfgang Baumann, PhD, Lisa L Baumbach, PhD, Sandra R Baumberger, Max Baumeister, Jim Baumer, PhD, Kenneth Baumert, PhD, A W Baumgartner, AZ Baumgartner, Eric Baumgartner, Peter Bausch, Gerhard Baut, Monte Paul Bawden, PhD, Kirby Bayerle, John G Bayless, Robert L Bayless Jr, Robt Bayless, Steve Bayless, Frank Bazzanella, Joe Bazzelle, Charles Beach, Dwight Beach Jr, Gordon Beaham, A Beal, Jack W Beal, PhD, Mark Beal, Edward W Beall, Gary Beall, PhD, Herbert Beall, PhD, James M Beall, Paula T Beall, PhD, Samuel E Beall, Terry W. Beall, Brian Bean, Sam Bean, Arthur L. Bear, Marshall Bearce, James B Beard, PhD, N. Gerald Beard, Thomas Beard, Scott Beardemphl, Carl Bearden, Henry J Bearden, PhD, Wm Beardmore, PhD, Melville W Beardsley, Carl Beark, Charles Bearse III, Reginald H Bearsley, Donald Beasley, PhD, Wayne M Beasley, William Beaton, James Beattie, PhD, Ken Beatty, David Beaucage, PhD, Robert Beauchamp, Robert A Beaudet, PhD, Charles G Beaudette, James H M Beaudry, Edward A Beaumont, Frank Beaumont, Lee Beaumont, Dennis Beaver, Harold Beaver, Paul Becher, PhD, Richard Becherer, PhD, Gayle D Bechtold, Bill Beck, Craig A Beck, Curt B Beck, Curt B U Beck, Curtis Beck, David Beck, Donald Beck, Douglas B Beck, Lloyd Beck, Niels Beck, PhD, Tom G Beck, William Beck, Willie Beck, A D Beckerdite, Clarence Becker, PhD, Don Becker, Ernest I Becker, Gordon E Becker, PhD, Harry C Becker, PhD, John C Becker, Louis S Becker, Milton Becker, PhD, Ralph Sherman Becker, PhD, Robert P Becker, PhD, Robert S Becker, PhD, Wilbur Becker, Sidney D Beckett, PhD, Roger H Beckham, Arnold Beckman, PhD, Joseph A Beckman, PhD, Kermit R Beckmann, David Beckner, Merrill Beckstead, PhD, Scott Beckstrand, Thoams Becnel, Charles Bedell, Glenn Bedell, PhD, Rowland Bedell, Thomas E Bedell, PhD, Kenneth L Bedford, PhD, Tom Bedford, Phillip Bednarek, William C Bedoit, PhD, Curtis M Beechan, PhD, Brian Beecken, PhD, Scott K Beegle, Giselle Beeker, Kenneth Beeney, Tom Beer, David Beerbower, Edward Lee Beeson, Jr, PhD, Mark Beget, Mark Beget, H Dale Beggs, PhD, O Beggs, Jana Begor, Nicholas Begovich, PhD, Francis J Behal, PhD, Pat Behm, Wallace B Behnke, Buriel A Behrens, Greg P Behrens, Herbert Ernest Behrens, Richard Behrens, PhD, John Behun, PhD, Rudi Beichel, Alan Beiderman, Henry Beilstein, PhD, Arthur B Reindorff, PhD, Walter F Beineke, PhD, Carl A Beiser, PhD, John Beitia, Paul Bekarik, Ihor Bekersky, PhD, Gary L Beland, Orris D Belanger, Abdeldjelil Belarbi, PhD, Kevin P Belcher, Ralph Belcher, PhD, Curtis Belden, Dan Beldy, Leo T Belill, Bruce Bell, PhD, C Allen Bell, Charles Bell, PhD, Gregory Bell, James M Bell, Jeffrey Bell, John Bell, PhD, John Bell, Linda S Bell, Mark R Bell, PhD, Robert Bell, Stephen W Bell, Thomas Bell, DVM, Wallace Bell, PhD, William Bell Jr, Zeb Bell, John C Bellamy, PhD, Joseph S Bellassai, Thomas E Bellinger, Robert Bellino, MD, Wade Bellon, Robert A Bellows, PhD, Daniel T Belmont, PhD, Stephen Belmont, PhD, Lawrence C Belnoski, E F Belohoubek, PhD, Randy Belstad, Delfin Beltran, MD, James Noble Bemiller, PhD, Paraskevi M Bemiller, PhD, John Ben, Robert D Benbow, Edward Benchik, Raymond L Bendure, PhD, Rudolf J Beneda, James H Benedict, PhD, Rettig Benedict, PhD, James F Benedum, James Benegne Jr, MD, David Benforado, Ashley Bengali, PhD, Ray Benge, Ford Benham, Carol Benhemdorf, H W Benischek, James A Benjamin, PhD, John Benjamin, PhD, Robert Benjamin, Michael Benkert, William Benne, PhD, Albert G Bennett Jr, PhD, Bennett, Charles Bennett, Donald W Bennett, Douglas A Bennett, G Bennett, PhD, John Bennett, MD, Joseph Bennett, RS Bennett, Thomas C Bennett, William W Bennett, John Bennetts, Paul A Bennington, Allan Bennison, Sharon Beniot, Alvin K Benson, PhD, Andrew A Benson, PhD, Fred C Benson, PhD, Gordon Benson, MD, Harold Benson, John D Benson, Robert Benson, Roger Benson, Sidney W Benson, PhD, William Benson, Ray Bentall, Jack Bentley, Jack C. Bentley, Kenton E Bentley, PhD, Allen W Benton, PhD, Wesley G Bentrude, PhD, Charles M Bentzen, Bernard D Benz, Edward J Benz, MD, Robert Benz, George Benzing, MD, Ray A Berard, PhD, John A Berberet, PhD, William Berberich, Warren Berce, E Paul Bercegeay, PhD, Hugh Berckmueller, MD, Andrew Berg, Edgard L Berg, J Berg, PhD, Laurence C Berg, MD, Ronald Berg, Louis Bergdahl, Maxmimilian H Bergendahl, PhD, Alan Berger, MD, Brian Berger, MD, Jay M Berger, PhD, Lev Berger, PhD, Louis Berger, Louis Berger, Otto Berger, Roger Berger, T F Berger, Arne Bergh, PhD, C. B. Bergin, Marion J Bergin, Ernest Bergman, Oswald R Bergmann, PhD, Warren C Bergmann, Dick Bergren, PhD, Mike Bergsmg, Rod Bergstedt, Robt Beringer, PhD, Robert Berkebile, MD, Donald C Berkey, Eric N Berkhimer, Dan Berkman, Willima Berks, Leland Berkwits, MD, John J Berky, PhD, David T Berlin, Brian Berman, Elliot Berman, PhD, Marshall Berman, PhD, Curtis L Bermel, John Wilfrid Bernard, Louis Bernath, PhD, Richard Bernhard, Andre Bernier, Warren W Berning, Joseph Bernstein, MD, Kenneth Bernstein, Julius R Berreth, Dave Berrier, Lester P Berriman, Dan Berry, Dan Berry, Edwin Berry, PhD, Edwin Berry, PhD, Herbert W Berry, PhD, James W Berry, PhD, Robert W Berry, PhD, Roy A Berry, PhD, William Berry, John R Berryhill, PhD, Charles F Bersch, M Bersch, PhD, Arthur Bershman, Albert C Bersticker, Charles W Bert, PhD, Allen J Bertagne, Robert G Bertagne, Bruce I Bertelsen, Kevin Bertermann, Siegfried R Berthelsford, MD, Frances Berting, PhD, Robert L Bertram, B. Rodney Bertramson, PhD, Bertrand, Rodney A Bertsch, Arlen D Besel, Kurt Von Besser, PhD, Robert Bessette, Robert Best, PhD, Robert C Beste, David U. Betcha, Arthur F Betchart, Jack Bethards, Robert K Bethel, Peter Bethell, Art L Bethke, PhD, Nedavia Bethlahmy, PhD, Harry E Betsill</a:t>
            </a:r>
            <a:endParaRPr b="0" lang="en-US" sz="1200" spc="-1" strike="noStrike">
              <a:solidFill>
                <a:srgbClr val="000000"/>
              </a:solidFill>
              <a:latin typeface="Calibri"/>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28">
                                  <p:stCondLst>
                                    <p:cond delay="0"/>
                                  </p:stCondLst>
                                  <p:childTnLst>
                                    <p:set>
                                      <p:cBhvr>
                                        <p:cTn id="110" dur="1" fill="hold">
                                          <p:stCondLst>
                                            <p:cond delay="0"/>
                                          </p:stCondLst>
                                        </p:cTn>
                                        <p:tgtEl>
                                          <p:spTgt spid="111">
                                            <p:txEl>
                                              <p:pRg st="0" end="0"/>
                                            </p:txEl>
                                          </p:spTgt>
                                        </p:tgtEl>
                                        <p:attrNameLst>
                                          <p:attrName>style.visibility</p:attrName>
                                        </p:attrNameLst>
                                      </p:cBhvr>
                                      <p:to>
                                        <p:strVal val="visible"/>
                                      </p:to>
                                    </p:set>
                                    <p:anim calcmode="lin" valueType="num">
                                      <p:cBhvr additive="repl">
                                        <p:cTn id="111" dur="5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112" dur="5000" fill="hold"/>
                                        <p:tgtEl>
                                          <p:spTgt spid="11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 Gore’s Explanation to Children of Global Warming</a:t>
            </a:r>
            <a:endParaRPr b="0" lang="en-US" sz="4000" spc="-1" strike="noStrike">
              <a:solidFill>
                <a:srgbClr val="000000"/>
              </a:solidFill>
              <a:latin typeface="Calibri"/>
            </a:endParaRPr>
          </a:p>
        </p:txBody>
      </p:sp>
      <p:pic>
        <p:nvPicPr>
          <p:cNvPr id="57" name="" descr=""/>
          <p:cNvPicPr/>
          <p:nvPr/>
        </p:nvPicPr>
        <p:blipFill>
          <a:blip r:embed="rId2"/>
          <a:stretch/>
        </p:blipFill>
        <p:spPr>
          <a:xfrm>
            <a:off x="1143000" y="1676520"/>
            <a:ext cx="6858000" cy="4572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0998" fill="hold"/>
                                        <p:tgtEl>
                                          <p:spTgt spid="57"/>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57"/>
                    </p:tgtEl>
                  </p:cond>
                </p:stCondLst>
                <p:childTnLst>
                  <p:par>
                    <p:cTn id="8" fill="hold">
                      <p:stCondLst>
                        <p:cond evt="onClick">
                          <p:tgtEl>
                            <p:spTgt spid="57"/>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Bet to Bou                          </a:t>
            </a:r>
            <a:r>
              <a:rPr b="1" lang="en-US" sz="1200" spc="-1" strike="noStrike">
                <a:solidFill>
                  <a:srgbClr val="000000"/>
                </a:solidFill>
                <a:latin typeface="Calibri"/>
              </a:rPr>
              <a:t>George W Bettge, John Bettinger, MD, Andrew Betts, Austin Betts, Austin W Betts, Ernest Beutler, MD, Rowland S Bevans, PhD, Vladislav Bevc, PhD, Robert Beverly, Vicky L Bevilacqua, PhD, Vincent D Bevill, Albert J Bevolo, PhD, Cecil Bewner, John H Beyer, PhD, James Beyl, Peter R Beythen, MD, Rahul Bhaduri, Maneesh Bhatnagar, Swapan Bhattacharjee, PhD, Debanshu Bhattacharya, PhD, John M Biancardi, Peter Bianchetta, Kenneth L Del Bianco, Philip Bias, Vic Biazis, William R Bibb, PhD, George Bibel, PhD, Conrad Biber, PhD, Edward G Bich, Peter B Eichelberger, Hans Bichsel, PhD, Michael D Bick, PhD, Rudolf Bickel, MD, William S Bickel, PhD, Arden Bicker, Karin Bickford, Lewis J Bicking Jr, Ervin F Bickley Jr, William E Bickley, Donald Bickmore, A W Bickner Sr, John H. Biddle, Rh Biddle, Jean M Bidlace, PhD, Lawrence R Bidwell, PhD, Charles Bieber, John Bieber, Kenneth Bielat, PhD, Yan Bielek, Gregg Bierei, Theo Karl Bierlein, PhD, J Bierman, Joseph F Bieron, PhD, Jerry N. Biery, Doug N Biewitt, Jean M Bigaouette, Bigelow, PhD, John E Bigelow, Donald Bigg, PhD, James Biggs, PhD, R Dale Biggs, PhD, Rodney E Bigler, PhD, Arthur Bigley, William Bihrle, Dean Bilden, Keith Bildstein, PhD, John M Bilhorn, PhD, John D Shaylor- Billings, David L Billingsley Jr, Dan A Billman, George E Billman, PhD, Billones, D G Bills, PhD, John L Bills, PhD, Larry Bilodeau, Edward G Bilpuch, PhD, Robt Bilski, Jack Binford, Arthur Bing, PhD, Billy E Bingham, PhD, Nancy L Bigham, Lisa Binkley, Dan Binning, Layton C Binon, R L Binsley, William Bintzer, Michael Binzer, Biolchini, Frank S Riordan, PhD, Matthew C Birch, Michael A Birch, Norman Birch, M J Birck, Charles F Bird, Chris M Bird, Kenneth Bird, PhD, Peter Bird, E. F. Birdsall, PhD, Carmel Birdwell, Jack Birk, Wm Birkemeier, PhD, Kathleen Biros, Seymour Bristein, William Bisbing, Alfred F Bischoff, James L Bischoff, PhD, James M Bisett, Gerald E Bisgard, PhD, Amin Bishara, Bob Bishop, David Bishop, Dennis W Bishop, Floyd Bishop, George D Bishop, Guy W Bishop, PhD, John W Bishop, PhD, Marshall D Bishop, Raymond Bishop, Richard E Bishop, Richard H Bishop, PhD, Richard S Bishop, PhD, Larry Bisimmers, Kenneth Bisson, MD, J L Bitner, James Bitner, Joseph Bitsock, MD, Burt J Bittner, Walter E Bixby, Benny Bixenman, John Bixler, Thomas Bjerke, Charles Black, PhD, Charles E Black, Darvil Black, PhD, Dean Black, PhD, Dennis Black, Don Black, Donald E Black, Horlod Black, James R. Black, John S Black, Larry Black, Sammy M Black, Timothy Black, Tom Black, Wesley F Black, William Black, Albert W Blackburn, Brian D Blackburn, Jon Blackburn, Larry G Blackburn, Lloyd Blackburn, Clinton R Blackmon, James Blackmon, Jerry M Blackmon, Perry Blackstock, M L Blackwell, Eli W. Blaha, PhD, R G Blain, Alex Blaine, Blair, PhD, Charles M Blair, Edward Blair, Helen Blair, Katherine Blair, Leon F. Blair, Luther Blair, Mr Barry Blair, Paul V Blair, PhD, Bruce A Blake, George R Blake, PhD, Rolland L Blake, PhD, J Warren Blaker, PhD, Robert B Blakestad, Francis Blanc, Dave Blanchard, Doug Blanchard, Donald W Blancher, Lorraine T Blanck, C Dudley Blancke, William M Bland Jr, Philip J Blank, PhD, Robert Blanke, PhD, Dav Blankenhagen, John Blankenhorn, James Blankenship, Ron J Blanton, Nik Blaser, John Blasing, John R Blasing, Barbara Blass, PhD, Joel J Blatt, PhD, Robert C Blatz, Henry H Blau, PhD, Clyde Blauer, George A Blay, PhD, Stephen Blaylock, Gilbert K Bleck, Douglas Bledsoe, Larry J Bledsoe, W N Bledsoe, Sheldon J Bleicher, MD, Rodney Bleifuss, PhD, Carl Bleil, PhD, William Bleimeister, Daryl A Blessing, John Blethen, PhD, Robt E Blevins, Zegmund O Bleviss, PhD, Wm Blew, Charles William Blewett, PhD, David Blewett, Edward Blick, PhD, Brian Bliss, Warren M Bliss, C James Blom, PhD, C R Blomberg, William Blomdahl, Duane Bloom, PhD, James A Bloom, George L Bloomsburg, PhD, Joe Bloomsburg, Stan Blossom, William V Bluck, James W Blue, PhD, M D Blue, PhD, Claire Bluestein, PhD, Aaron L Bluhm, PhD, Harold F Bluhm, Eugene Blum, Fred G. Blum, MD, John Blum, M Blumenberg, PhD, Naoma Blumer, G Bluzas, G. W. Elvernum, David L Bnalinski, Thomas A Boardley, Warren P Boardman, Joshua T Boatwright, John G Bobak, David A Bobaugh, Robert S Bobbitt, Jack E Bobek, Thomas C Boberg, PhD, Thomas M Bobik, Sergey Boblcov, Terry Bobo, Charles Bocage, Dave Bocchini, Fred Bock, PhD, Gene Bock, Jane Bock, PhD, Richard F Bock, Wayne D Bock, PhD, Gary Bockus, Bohdan Boczkaj, PhD, Stephen J Bodar, PhD, David E Boddy, PhD, Arthur P Bode, PhD, Loren E Bode, PhD, Kenneth Bodek, MD, George Boder, Donald D Bodewig Jr, S Bodily, PhD, Larry P Bodin, Frank T Bodurtha, PhD, Willard A Bodwell, Marvin Boedeker, Carl R Boehane, Robert J Boehle, Frank R Boehm, Carl R. Boehme, Hollis Boehme, PhD, Eldron Boehmer, John Boehune, Howard Boeing, J Robert Boen, Jack E Boers, PhD, David H Boes, Philip D Bogdonoff, PhD, J Neil Boger, MD, Colleen Boggs, Johnny Boggs, Steven A Boggs, PhD, Leslie K Bogle, Seymour M. Bogdonoff, Kevin M Bohacs, PhD, Barry Bohannon, John Bohannon, Joseph Terril Bohanon, PhD, Carl Bohl, PhD, Richard A Bohling, James Bohn, William M Bohon, Kees Boi, PhD, Norman R Boisse, PhD, Charles E Boklage, PhD, Art F Boland, Jonathan Boland, Mike Boland, Paul W Boldt, Regnald A Boles, M S Boley, PhD, Mark S Boley, Mark S Boley, Nicholas C Bolgiano, PhD, Dean Bolick, John N Bolin, Gerald L Bolingbroke, PhD, Harry J Boll, PhD, Eugene Bollay, Paul V. Bollerman, Bruce Bollermann, Clay B Bollin, Edward H Bollinger, PhD, A Bollmeier, Robert L Bolmer, Gerald J Bologna, Sam Bolognia, Carole Boltz, James Boltz, Kelsey Boltz, Sam Boltz, Dudley Bolyard, E Arthur Bolz, MD, H Joel Boman III, Jerry C Bommer, PhD, Blair Bona, PhD, Brad Bona, Glenn Bonacum, MD, Patrick L Bond, Stephon T Bond, PhD, Victor Bond, PhD, Walter D Bond, PhD, William Bond, James M Bondi, Terry Bonds, J R Bone, Susan Boner, Lee Bongirno, Lawrence P Bonicatto, L P Bonifaci, Anthony Bonner, PhD, Charles M Bonner, John Franklin Bonner, PhD, Marlowe Bonner, G Wayne Bonsell, Patrick V Bonsignore, PhD, Lewis Book, Raymond Book, Stephen A Book, PhD, Arnold B Booker, Jane M Booker, PhD, Noel Booker, Jerry L Boom, PhD, R J Boomex, Daniel R. Boone, Deidre Boone, Jack Boone, PhD, James Boone, PhD, Paul Boonen, PhD, Warren J Boord, Lawrence E. Boos, PhD, Arthur Booth, MD, Arthur S Booth Jr, MD, Bruce L Booth, PhD, David Booth, PhD, Richard Booth, Robt M Booth, E M Boothe, Jay M Bopp, Hamid Borazjani, PhD, Samia Borchers, MD, Bordeaux, PhD, Adam Bordelon, Charles Borden, Robert Borden, MD, L Bordenave, Stuart Boreen, J B Boren, PhD, Katarina Borer, PhD, Robert Borg, Philip Borgerding, Jerry Borges, Dan Borgnaes, PhD, W K Borgsmiller, MD, John W Boring, PhD, John A. Bork, Walter A Bork, Alex B Borkovec, PhD, Annette H Borkowski, Manfred Borks, PhD, Harold J Born, PhD, William Bornhorst, Robert C Bornmann, MD, Raul H Borrastero, David Borrownam, Borsari, Hanid Boruzzi, Theodore Bos, PhD, Randal S Bose, Benjamin A Bosher, Ronald Boshista, William E Bosken, Robert Bosler, Bosnak, Kenneth J Boss, PhD, Paul N Bossart, Peter B Bosserman, Robert Bosshart, PhD, Thomas Bossler, Robert Bossung, Howard Bost, PhD, Keith A Bostian, PhD, Steve Boswell, Steven T Boswell, William Bosworth, Askel A Bothner By, PhD, John N. Botkin, CJF Bottcher, PhD, Margurette E Bottje, PhD, William G Bottjer, Edmond M Bottorff, PhD, Truman A Botts, PhD, Geo I Bouadiieff, Jeffrey A Boucher, Michel Boudart, PhD, John H Boughton, PhD, John Boulet, MD</a:t>
            </a:r>
            <a:endParaRPr b="0" lang="en-US" sz="1200" spc="-1" strike="noStrike">
              <a:solidFill>
                <a:srgbClr val="000000"/>
              </a:solidFill>
              <a:latin typeface="Calibri"/>
            </a:endParaRPr>
          </a:p>
        </p:txBody>
      </p:sp>
    </p:spTree>
  </p:cSld>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8">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repl">
                                        <p:cTn id="119" dur="5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20" dur="5000" fill="hold"/>
                                        <p:tgtEl>
                                          <p:spTgt spid="11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txBox="1"/>
          <p:nvPr/>
        </p:nvSpPr>
        <p:spPr>
          <a:xfrm>
            <a:off x="457200" y="609480"/>
            <a:ext cx="8229600" cy="5516640"/>
          </a:xfrm>
          <a:prstGeom prst="rect">
            <a:avLst/>
          </a:prstGeom>
          <a:noFill/>
          <a:ln w="0">
            <a:noFill/>
          </a:ln>
        </p:spPr>
        <p:txBody>
          <a:bodyPr anchor="t">
            <a:normAutofit fontScale="74000"/>
          </a:bodyPr>
          <a:p>
            <a:pPr marL="253800" indent="-2538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Bou to Bro                          </a:t>
            </a:r>
            <a:r>
              <a:rPr b="1" lang="en-US" sz="1200" spc="-1" strike="noStrike">
                <a:solidFill>
                  <a:srgbClr val="000000"/>
                </a:solidFill>
                <a:latin typeface="Calibri"/>
              </a:rPr>
              <a:t>George Boulter, Robert L Boulware, Arnold H Bouma, PhD, Robert H Bourke, PhD, M N Golarz De Bourne, PhD, Sara Bouse, Mohamed Boutjdir, PhD, Harvey B Boutwell, R K Boutwell, PhD, Gerardus D Bouw, PhD, George S Bovis, Gary Bovyer, Rl Bowden, Anthony J Bowdler, PhD, Joseph C Bowe, PhD, David Bowen, H Kent Bowen, PhD, John T Bowen, Peter F Bowen, Richard Bowen, Richard D Bowen, Charles A Bower, PhD, John Roy Bower, PhD, Leonard Bower, PhD, Richard Bowerman, Christopher Bowers, Clarence Bowers, John Bowers, Larry Q Bowers, Robert C Bowers, Roger L Bowers, Susan H Bowers, MD, Sydney Bowers, Sidney A Bowhill, PhD, Robert M Bowie, PhD, Jean A Bowles, PhD, Kaydell C Bowles, Lamar D Bowles, Floyd E Bowling, Robert E Bowling, PhD, William Bowlus, MD, Charles Bowman, Harry Bowman, Harry G. Bowman, James L Bowman, Jan Bowman, John K Bowman, Lewis W Bowman, PhD, Marie Bowman, R Bowman, Robert S Bowman, PhD, Norman Bowne, Colin Bowness, PhD, Samuel Bowser, PhD, B W Box, James E Box, PhD, Roger Box, Chris M. Boxell, MD, Michael Boxer, MD, Kevin Boyack, PhD, Robert E Boyar, Boyatt, Boyyce, Graybeal &amp; Sayre, Inc, David Boyce, John T Boyce, Wilson E Boyce, Frederick Mervin Boyd, PhD, J T Boyd, James Boyd, Jimmy W Boyd, Philip A Boyd, PhD, Richard Boyd, Robert Boyd Iii, Timothy M Boyd, Willis Boyd, Gary Boyer, Lance Boyer, Paul S Boyer, PhD, Robert A Boyer, PhD, Robert E Boyer, PhD, Wm D Boyer, PhD, James A Boyes, Ralph L. Boyes, T M Boyett, Ben Boykin, Dave Boykin, John F Boyle, MD, Patrick Boyle, Richard J Boyle, John Boyles, MD, Bozlee, PhD, Ben Brabb, PhD, Dennis Brabec, Paige Bracci, John D Brack, Sherry L. Brackeen, Barth Bracken, Brett K Bracken, Robert G Brackett, PhD, David Brackney, Dorothy L Bradbury, James Bradbury, J Tj Braddock, Joseph U Braddock, PhD, Shawn Braden, Lawrence G Bradford, PhD, William C Bradford, Andrew N. Bradley, MD, Bruce Bradley, John Bradley, MD, Michael Bradley, Robert F Bradley, PhD, Robert S Bradley, William E Bradley, Charles Bradshaw, MD, George Bradshaw, Jerry A Bradshaw, Matin D Bradshaw, PhD, Samuel Bradshaw, W Newman Bradshaw, PhD, Derek Bradstreet, R Bradt, PhD, Bob Brady, John R Brady, Matthew E Brady, Robert Brady, S D Brady III, Samuel B Brady, Tom Brady, PhD, William Brady, DDS, William Brady, William J Brady, MD, Douglas G Braid, Alan D Brailsford, PhD, Arthur Van De Brake, Fred W Brakebusch, J C Brakensieck, Eric M Bram, David Brambury, Kenneth A Brame, Michael Bramwell, Erwin F Branahl, Emanuel L Brancato, Cynthia R Branch, Thomas Brandlein, Patrick J Brandner, MD, Stewart Brandon, Edward N Brandt, MD, Robert Brandt, Robert Brandt, Thomas Brandt, William Brandt, PhD, William L Brandt, Alan D Branham, M Branman, Raymond Brannan, PhD, Mike Brannen, Ross E Brannian, Carl F Branson, Albert W Brant, PhD, Charles W Brant, Glenn S Brant, Wm W Brant, Susan Brantley, Webb E Braselton, PhD, Bradley A Brasfield, John F Brass, George Bratton, PhD, Charles Bratzrus, Stanton Braude, PhD, Richard H Braumlich, David Braun, Jeffrey M Braun, Jennifer Braun, Kenneth Martin Brauner, PhD, Allan Brause, PhD, Johnny A Brawner, MD, Thoams Braxtan, MD, Ben Bray, PhD, Bruce G Bray, PhD, William H Bray, MD, James F Brayton, PhD, James P Brazel, William Breach, Carl L Breaux, Ernest Breaux, Russell W Breaux, Theodore Breaux, Lee Brecher, PhD, Robert L Breckenridge, MD, Claude E Breed, Townsend Breeden, James Breeding, Larry Breeding, Reginald Breeding, Bertram V Breemen, William M Breene, PhD, Sydney Breese, Bob Breeze, Martin Bregman, PhD, E J Bregmann, William R Breher, William R Breher, John E Brehm Sr, B M Breining, C H Breitenfelder, Richard Breitling, Thomas O Breitling, Ted Breitmayer, A C Breller, James Breman, Bart J Bremmer, David L Brenda, William Breneman, Alan S. Brengle, Arthur Brennan, Harold Brennan, John P Brennan, Michael J Brennan, MD, William J Brennan, Ronald G Brenneman, Abner Brenner, PhD, Henry W Brenniman Jr, J Allen Brent, PhD, Paul D Brent, William B Brent, PhD, Frederick Breslin, PhD, John H Bress, M N Bressler, Pe, Inc, Joseph Breston, PhD, William A Brett, Kurt Bretterbauer, Randolph H Bretton, PhD, Harold W Bretz, PhD, Andrew J Breuder, MD, Charles B Breuer, PhD, Jerald Brevick, PhD, James Brewbaker, PhD, Clyde Brewer, Doug Brewer, Gregory J Brewer, PhD, Herbert L Brewer, J R Brewer, Ken N Brewer, Michael Brewer, Walter B Brewer, Doug Brewster, Robert N Brey, Robt N Brey, PhD, Edward Breyere, PhD, Darlene R Brezinski, PhD, P L Thibaut Brian, PhD, Alan G Bridge, PhD, Lindell Bridges, Luther W. Bridges, PhD, P M Bridges, Robert M Bridges, Andrew Briedenbach, Claudia Briell, Brian O Brien, Corale L Brierley, PhD, David A Brierley, James A Brierley, PhD, Arthur R Briggs, Edward M Briggs, James E Briggs, PhD, Mike Briggs, Mrs R O Briggs, Robert O Briggs, Steve Briggs, PhD, W Briggs, PhD, Robert B Brigham, Mont J Bright Jr, Karen Brignac, Mike Brignac, Tom Brignac, Bruce Edwin Briley, PhD, Karl Briley, Frank Brimelow, Clifton Briner, Allan Briney, MD, Robert Bringer, PhD, Donald F Brink, PhD, Edwin C Brinker, George W Brinker, Sandra Brinker, Tyler Brinker, Larry K Brinkman, MD, Raymond S Brinkmey, PhD, Michael Brinkmeyer, James Brinks, PhD, Thomas R Brinner, PhD, Richard K Brinton, Charles Des Brisay, R. Brisbin, Anne M Briscoe, PhD, James Briscoe, Mike Briscoe, Francis Brislawn, J O Brittain, PhD, Paul Brittain, Michael Brittan, PhD, Wayne Brittian, Michael W Britton, Robert Britton, Alfred C Broad, PhD, Hyrum S Broadbent, PhD, Robt C Broadbent, Sue Broadston, George Brock, H Kent Brock, Jeffrey Brock, Rainer Brocke, PhD, Douglas A Brockhaus, D Broderick, PhD, Ivor Brodie, PhD, JB Brodie, F S Broerman, Woody Brofman, PhD, Robert W Broge, PhD, Chirs Brioli, Jerome Bromkowski, MD, David A Bromley, PhD, Richard K Bronder, Tanya Broniszewski, Vin Brono, Charles E Bronson, John Bronstein, PhD, Mark Bronston, PhD, John Brook, PhD, Hampton R Brooker, Frank Brookings, Bruce Brooks, Dean C Brooks, Fred A Brooks, Gordon Brooks, James Brooks, James E Brooks, PhD, Kent Brooks, Lois Brooks, ND Brooks, Ray Brooks, Robert A. Brooks, PhD, Robert R Brooks, PhD, Richard Broschat, John R Brose, W E Broshears, Fred B Brost, Charles O Brostrom, PhD, James Brothen, Robert J Brotherton, PhD, Walter Brouillette, PhD, Paul C Broun, MD, Francis Broussard, Mary J Broussard, Matthew Broussard, Allen S Brower, George Brower, PhD, J Brower, Rick A Brower, Thomas D Brower, MD, Alan B Brwon, Albert L Brown, PhD, Apryl Brown, Arlen Brown, PhD, Bahngrell W Brown, PhD, Ben Brown, Billings Brown, PhD, Bob D Brown, Brad Brown, Brenda Brown, Bruce L Brown, C A Brown, Charles Brown, PhD, Charles Brown, Charles R Brown I I, Christopher J Brown, MD, David Brown, David P Brown, PhD, Donnie Brown, Doug L Brown, Douglas S Brown, Elise A Brown, PhD, Ellsworth Brown, PhD, Eugene Brown, Fitzhugh L Brown, G All Brown, Gary L Brown, Gerald R Brown, PhD, Glenn Brown, PhD, Hal W Brown, Henry BR Brown, Henry S Brown, PhD, Herbert Brown, PhD, Howard Brown, J B Brown, J Paul Brown, James Brown, James Brown, James Brown, PhD, James Brown Jr, James M Brown, PhD, James S Brown, Jeremy J Brown, Jerry W Brown, PhD, Jim Brown, Jim Brown, John B Brown, John Brown, John D Brown, John F. Brown, John M Brown, PhD, John N Brown, John W Brown, Kenneth T Brown, PhD, Larry Brown, Leonard F Brown, Jr, PhD, Lewis F Brown, PhD</a:t>
            </a:r>
            <a:endParaRPr b="0" lang="en-US" sz="12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8">
                                  <p:stCondLst>
                                    <p:cond delay="0"/>
                                  </p:stCondLst>
                                  <p:childTnLst>
                                    <p:set>
                                      <p:cBhvr>
                                        <p:cTn id="126" dur="1" fill="hold">
                                          <p:stCondLst>
                                            <p:cond delay="0"/>
                                          </p:stCondLst>
                                        </p:cTn>
                                        <p:tgtEl>
                                          <p:spTgt spid="113">
                                            <p:txEl>
                                              <p:pRg st="0" end="0"/>
                                            </p:txEl>
                                          </p:spTgt>
                                        </p:tgtEl>
                                        <p:attrNameLst>
                                          <p:attrName>style.visibility</p:attrName>
                                        </p:attrNameLst>
                                      </p:cBhvr>
                                      <p:to>
                                        <p:strVal val="visible"/>
                                      </p:to>
                                    </p:set>
                                    <p:anim calcmode="lin" valueType="num">
                                      <p:cBhvr additive="repl">
                                        <p:cTn id="127" dur="5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8" dur="5000" fill="hold"/>
                                        <p:tgtEl>
                                          <p:spTgt spid="11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Bro to Cam                           </a:t>
            </a:r>
            <a:r>
              <a:rPr b="1" lang="en-US" sz="1200" spc="-1" strike="noStrike">
                <a:solidFill>
                  <a:srgbClr val="000000"/>
                </a:solidFill>
                <a:latin typeface="Calibri"/>
              </a:rPr>
              <a:t>Lloyd L Brown, Melvin H Brown, PhD, Murray A Brown, PhD, N Brown, Olen Brown, PhD, P T Brown, Ralph Brown, Raymond E Brown, Richard B Brown, PhD, Richard Brown, Richard E Brown, MD, Richard L Brown, Robert B Brown, Robert Brown, PhD, Robert Brown, PhD, Robert E Brown, Robert E Brown, PhD, Robert G Brown, Robt A Brown, PhD, Robt C Brown, MD, Robt E Brown, Roderick B Brown, MD, Ronald Brown, PhD, Roy W Brown, S Kent Brown, MD, Stephen Brown, MD, Stephen R Brown, Steven Brown, Thomas V Brown, Walter R J Brown, Will Brown, William Brown, William M Brown, PhD, Cornelius P Browne, PhD, James Browne, Phillip Browne, MD, RL Browne, D Brownell, Don Brownfield, Shelby H Brownfield, Robt S Brownhill, James A Browning, Jimmy D. Browning, John S Brtis, Burton D Brubaker, PhD, James E Brubaker, Paul Eugene Brubaker, PhD, Peter Brubaker, Charles R Bruce, PhD, Dail Bruce, David Bruce, MD, George H Bruce, Paul L Bruce, Peter C Bruce, Sandra Bruce, Carl W Bruch, PhD, Kenneth B Bruckart, Robert Brueck, Col Wm Bruenner, Don Brumm, Harrison Brundage, Eugene J Brunelle, PhD, Madelyn Bruning, Lloyd Brunkhort, Charles E. Brunner, Mark S Brunner, Arthur D Bruno, John Bruno, PhD, Thomas Bruno, PhD, Kelly W Bruns, Lester G Bruns, PhD, Robert F Burns, PhD, Gerald R Brunskill, Tim Brunson, John B Brush, Walter Brush, Merlyn A Brusven, PhD, Frederick V Brutcher, Jr, PhD, Samuel R M Burton, Anthony Bruzzese, MD, David A Bryan, PhD, Gary G Bryan, Howard Bryan, John D Bryan, Sibley Bryan, Tom Bryan, Barry W Bryant, PhD, Carrel Bryant, David W Bryant, John H Bryant, John M Bryant, Michael D Bryant, PhD, Robert W Bryant, Thomas Bryant, Thomas Bryant, Charles Bryson, Ken Brzozowski, PhD, Charles B Bucek, Anne H Buchanan, Russell A Buchanan, Shawn P Buchanan, Steven Buchanan, Richard L Bucheit, Donald Buchholz, John H Buchholz, PhD, Smil S Buchman, R Buchy, Carl Buck, PhD, Ellen F Buck, Joel W Buck, Harold M. Buckey, John Buckinger, Tom Buckleitner, Ellis Bucklen, David A Buckley, Edward H Buckley, PhD, Jim E Buckley, Ronald E Buckley, Stuart Buckmaster, Donald Buckner, Gary L Buckwalter, PhD, Edsel T Bucovaz, PhD, J Fred Bucy, PhD, Roy S. Brucy, MD, Carl J Buczek, PhD, Perry Buda, Kevin Buddie, Teresa Buden, Wallace D Budge, PhD, Edwin Buehler, PhD, Elizabeth Buell, Mary M Buerger, Walter Buerger, MD, Brent J Buescher, PhD, Larry Buess, Greg Buffington, J F Buffington, Norris L Buffington Jr, Philip G Buffinton, Charles R Buffler, PhD, Rodger K Bufford, PhD, Sterling L Owe Bugg, Victor Buhrke, PhD, Francis Buiting, C James Bulla, Daniel Bullard, PhD, Ervin T Bullard, PhD, Paul Buller, Lloyd Bullerman, PhD, William Bullis, PhD, David Bullock, Lawrence E Bullock, Rich Bullock, Roy L. Bulls, Walter T Bulson, Bill Bumgarner, Paul L Bunce, MD, David Wm Bunch, PhD, Harry D Bunch, PhD, John Bunch, Wm H Bunch Jr, Robt W Bundick, Michael Bundra, Hallie Flowers Bundy, PhD, Stephen Bundy, Merle Bunker, PhD, H Franklin Bunn, MD, John Bunnell, Mark Bunnell, George J Buntley, PhD, Martin Bunton, Edward Buonopane, MD, Kenneth Burbank, PhD, James H Burbo, Paul Burbutis, Elisabeth Burch, Holly Burch, James C Burch, T L Burch, James J Burchall, PhD, Donald F Burchfield, PhD, Jacob Burckhard, Daivd Burdeaux, Harvey Burden, PhD, Robert Burdick, Hugh J Burford, PhD, Henry Burger, PhD, Philip C Burger, PhD, Robert Burger, Brian Burges, John C Burgeson, Calvin Burgess, John Burgess, Michael Burgess, Roy A Burgess, William Burgess, Roger C. Burggraf, Justin Burggraff, Ronald Burgher, PhD, Leonard F Burkart, PhD, Amy L Burke, Amy S. Burke, Burke, David T Burke, E A Burke, Edward W Burke, PhD, Gary Burke, J E Burke, PhD, Marty Burke, Richard L Burke, PhD, Walter Burke, John P Burkett, David S Burkhalter, Harold E Burkhart, PhD, Richard Burkhart, James F Burkholder, Brad Burks, Ralph Burks, Ned Burleson, PhD, David R Burley, PhD, R F Burlingame, Jay B Burner, Bryan Burnett, Craig Burnett, J R Burnett, PhD, John N Burnett, PhD, Peter G Burnett, Donald C Burnham, Robert Burnham, Robert W Burnop, Frank B Burns, PhD, John Burns, MD, Leslie L Burns, PhD, Michel S Burns, Robert Burns, Robt D Burns, PhD, Stanley Burns, Victor W Burns, PhD, Mike Burnson, William P Burpeau Jr, John F Burr, Michael Burrell, Steve Burrell, Greg Burrough, Joe Burroughs, W F Burroughs, Kevin Burrows, Richard S Burrows, PhD, William Burrows, PhD, Eddie Burt, PhD, Philip B Burt, PhD, B Burton, PhD, Gary Burton, Nancy Burton, Everett Burts, Calvin C Burwell, James Robert Burwell, PhD, John Burwell, Richard S Burwen, Alan Burwinkel, MD, Donald L Buscarello, Daniel A Busch, PhD, Edward G Busch, Neal Busch, PhD, Tom Busch, Rick Buschini, Gary D Buser, Robert Bush, Roger Bush, T Bush, Thomas Bush, Edwin F Bushman, Robert Bushnell, PhD, Robert Busing, Elsworth R Buskirk, PhD, Daniel H Buss, Duane J Buss, PhD, Robert Buss, MD, Stanley E Buss, Gregory Bussell, Ceil Bussiere, W V Bussmann, PhD, Susan Buta, Bill Butler, David Butler, Dennis L Butler, Don Butler, Fred Butler, George B. Butler, PhD, James Butler, James L Butler, PhD, Karl D Butler, PhD, Margaret K Butler, O Doyle Butler, Philip Alan Butler, PhD, Rhendal C Butler, Ronald Butler, Scott E Butler, PhD, T Butler, Thomas Butler, Wm R Butler, Paul Butman, Robert Buto, Stan Butt, Gordon B Butterfield, Thomas A Butterworth, PhD, Sidney E Buttrill, PhD, Carolyn Buttross, MD, Jake D Butts, Michael A Butts, Rodney G. Butts, Ralph O Butz, MD, E B Buxton, E B Buxton, Warren F Buxton, PhD, Cathy T Buzzo, Clinton Bybee, P D Bybee, Jr, P Edward Byerly, PhD, Nelson Byman, Donald G Bryant, PhD, Richard D Byrd, PhD, Robert C Byrd, W D Byrd, Bernard Byrne, PhD, Ken Byrne, William M. Byrne, PhD, John Byrnes, MD, Roy Byrom, Algyte R Cabak, Mike Cabirac, Edwin Cable, Ann Cabot, Patricia R Cabral, Fred B Caddell, Joan L Caddell, MD, Fernando Cadena, PhD, C Cadenhead, PhD, Wm P Cadogan, PhD, Anthony P Cadrioli, Warren D Cadwell, Howard H Cady, PhD, Michael S Cafferty, Edward George Caflisch, PhD, Ben J Cagle, William S Cagle, Dennis Cahill, Dennis Cahill, Roger Cahill, DVM, William M Cahill, David S Cahn, PhD, Xiaolong Cai, PhD, Charles E Cain, PhD, Geo B. Cain, Harry J Cain III, Lynn Cain, Stephen R Cain, PhD, T J Cain, Curtis Caine, MD, David W Caird, J B Caird, Larry Caisoin, Daniel L Calahan, PhD, Leonard J Calbo, PhD, A G Caldwell, PhD, Elwood Caldwell, PhD, James B Caldwell, PhD, James Caldwell, Steven Caldwell, PhD, Richard E Cale, Daniel Caless, Robert E Calhoo, PhD, Brian S. Calhoun, Joel Calhoun, John Calhoun, Patty Calhoun, S. Pittman Calhoun, William Calhoun, Lawrence A Caliguiri, MD, Charles Calkins, MD, Mike Callahan, Jon Callen, Gene Callens, PhD, Dixon Callihan, PhD, Lynn B Calton, Chris Calvert, PhD, David D Calvert, Lee Cambre, Marvin E Camburn, PhD, William Camerer, Bruce Cameron, Charles Cameron, Christopher P Cameron, PhD, J W Cameron, John R Cameron, PhD, Mike Cameron, Wm L Cameron, Raymond Cammack, PhD, Terry J Cammon, Frederick W Camp, PhD, Jerry L Camp, John Campagna, Nicholas A Campagna, Jr, David A Campaigne, PhD, Ernest Campaigne, PhD, Robert Campana, Leonard Campanaro, John D Campanella, Bob Campbell, Douglas J Campbell, George Campbell, PhD, H D Campbell, Jeff Campbell, John Campbell, John M Campbell, PhD, John S Campbell, Larry Campbell, Lynn D Campbell, Milton Hugh Campbell, R L Campbell, MD, Robert Campbell, Robert Campbell, Robert E Campbell, Robert F Campbell, Shirley Campbell</a:t>
            </a:r>
            <a:endParaRPr b="0" lang="en-US" sz="1200" spc="-1" strike="noStrike">
              <a:solidFill>
                <a:srgbClr val="000000"/>
              </a:solidFill>
              <a:latin typeface="Calibri"/>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28">
                                  <p:stCondLst>
                                    <p:cond delay="0"/>
                                  </p:stCondLst>
                                  <p:childTnLst>
                                    <p:set>
                                      <p:cBhvr>
                                        <p:cTn id="134" dur="1" fill="hold">
                                          <p:stCondLst>
                                            <p:cond delay="0"/>
                                          </p:stCondLst>
                                        </p:cTn>
                                        <p:tgtEl>
                                          <p:spTgt spid="114">
                                            <p:txEl>
                                              <p:pRg st="0" end="0"/>
                                            </p:txEl>
                                          </p:spTgt>
                                        </p:tgtEl>
                                        <p:attrNameLst>
                                          <p:attrName>style.visibility</p:attrName>
                                        </p:attrNameLst>
                                      </p:cBhvr>
                                      <p:to>
                                        <p:strVal val="visible"/>
                                      </p:to>
                                    </p:set>
                                    <p:anim calcmode="lin" valueType="num">
                                      <p:cBhvr additive="repl">
                                        <p:cTn id="135" dur="5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36" dur="5000" fill="hold"/>
                                        <p:tgtEl>
                                          <p:spTgt spid="11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Cam to Che                         </a:t>
            </a:r>
            <a:r>
              <a:rPr b="1" lang="en-US" sz="1200" spc="-1" strike="noStrike">
                <a:solidFill>
                  <a:srgbClr val="000000"/>
                </a:solidFill>
                <a:latin typeface="Calibri"/>
              </a:rPr>
              <a:t>Sidney Campbell, Steve K Campbell, Todd Campbell, Tom Campbell, Warren E Campbell, PhD, Antonio M Campero, PhD, Robt D Campo, PhD, Alan Campoli, PhD, Enrico Camporesi, MD, Fernando Campos, MD, Paul B. Canale, MD, Daniel T Canavan, Joseph Candella, A Van Caneghem, MD, Zoe Canellakis, PhD, Paul Canevaro, Carl M Canfield, James N Canfield, M Canham, William T Cannady, Dickson Cannon, G Scott Cannon, Howard Cannon, PhD, Hugh N Cannon, J E Cannon, Peter Cannon, PhD, Philip Cannon, PhD, Peter J Canterino, PhD, Daniel J Cantliffe, PhD, Joe A. Cantlon, Craig Cantoni, Manfred Cantow, PhD, Brian L Cantrell, Walter Canzonier, Hengshu Cao, PhD, David Cape, Randy S Cape, Juan J Capello, MD, Fredric S Capitosti, Michael E Caplis, PhD, James F Capobianco, Louis J Capozzoli, PhD, Frank Cappelli, Robert Carbonara, PhD, Kathy Carbrey, Harold E Carda, AE Carden, PhD, Arnold E Carden, PhD, Bryan J Carder Jr, MD, Thomas D Carder, William Thomas Cardwell, Darrel E Cardy, Mario Carelli, PhD, Curtis D Carey, John J Carey, Russell Carey, George Carini, PhD, George Carini II, PhD, Lenore Carleton, Harold E Carley, PhD, E N Carlier, Philip H. Carlisle, Scott Carlisle, Don S Carloss, Eric Carlsen, PhD, F L Carlsen, Gary Carlsen, A William Carlson, Arne Carlson, Carl E Carlson, Carlson, Charles Carlson, Dave Carlson, David R. Carlson, Donald Carlson, PhD, Douglas Carlson, Edward C Carlson, PhD, Frederick P Carlson, PhD, Fredric Carlson, PhD, Garry Carlson, George Carlson, PhD, J David Carlson, PhD, Lawrence O Carlson, Peter R Carlson, Roy F Carlson, Steve M Carlson, Thomas C Carlson, William A Carlson, Alan Carlton, Glenn Carman, David W Carnell, B Ronald Carnes, Peyton Carnes, William P Carney, PhD, E Louis Caron, PhD, Arthur Carpenito, Arthur Carpenito, Benjamin H Carpenter, PhD, Bruce N Carpenter, Charles Carpenter, PhD, David Carpenter, Elaine Carpenter, Jack W Carpenter, PhD, Lyle L Carpenter, Robert Carpenter, Robert K Carpenter, Scott Carpenter, Thomas Carpenter, Will D Carpenter, PhD, Barry Carr, PhD, Brenda L Carr, C Jelleff Carr, PhD, Edward M Carr, Jerome B Carr, PhD, Leo Carr, Lester E Carr Iii, PhD, Richard S Carr, Victor Carr, Laura H Carreira, PhD, Roland Carreker, PhD, Charles Carrell, Michael J Carrera, R S Carrice, Edward Carriere, PhD, Bonnie Carrington, Marion M Carrion, PhD, Gilbert C Carroll, MD, Greg R Carroll, J Randall Carroll, James A Carroll, PhD, James Carroll, John Carroll, PhD, John Carroll, Jon M Carroll, Laj Carroll, Phillip Carroll, Thomas Carroll, W Carroll, Keith T Carron, PhD, Stephen Carrozza, Brent Carruth, Charles Carson, PhD, Chuck Carson, Gwendolyn Carson, PhD, J. A. Carson, James Carson III, Richard M Carson, Shawn Carson, Mary E Carsten, PhD, Bowdre Carswell, MD, David Carta, PhD, David G Carta, Lynn K Carta, PhD, David Carter, David L Carter, PhD, Fred Carter, MD, Greg Carter, J. O. Carter, John P Carter, Joseph O. Carter, Kenneth Carter, MD, Louise Carter, Mason C Carter, PhD, Oran R Carter, Steven L. Carter, Thomas R Carter, William Carter, Marshall F Cartledge, Michael R Cartwright, Betty Carty, Joseph Caruana, Louis B Caruana, PhD, Louis M Caruana, Alan Caruba, J C Caruthers, Mark Carvalho, Clara D Carver, Hugh W Carver, James Clark Carver, PhD, John G Carver, PhD, Robert Carver, PhD, John De Carville, Aubrey M Cary Jr, Audra B Cary, Robert C Casagranda, Tony Casagranda, Lewis Casbon, Charles Case, Douglas Case, Eddie Case, Mike Case, Robert B Case, MD, William J Caseber Jr, Richard M Casello, Phillip M Caserotti, Jeffrey Casey, M. V. Casey, Robert M Casey, Chris Cash, W T Cashdollar, Davis Caskey, George R Caskey, PhD, Armano Casola, PhD, Sidney Casrle, Richard S Cass, Don S Cassell, Steve Cassell, Edward Cassidy, John Cassidy Jr, Patrick E Cassidy, PhD, J K Cassil, Stan J Casswell, Neal Castagoli, PhD, Valen Castellano, Gary Castellaw, Alan W Castellion, PhD, Anthony J Castiglia, MD, Craig T Castille, Ralph Castille, Joseph Castillo, John G Castle, PhD, J Steven Castleberry, Kenneth Castleton, Thomas P Castronovo, Peter Castruccio, Peter Castruccio, PhD, William Caswell, Dominic Anthony Cataldo, PhD, Paul Cate, Paul D Cate, Frank P Catena, Jack Cates, Robert L Catherman, MD, Billy R Catherwood, Lawrence M Cathles, PhD, Renata E Cathou, PhD, John W Catledge, Thomas E Catlett, Jim Caton, Tim Caton, David Cattell, PhD, David Cattron, Paul Caubin, Robert Lee Caudill, MD, Warren D Caudle, W L Caudry, Thomas K Caughey, PhD, John A Caughlan, Jerry Caulder, PhD, Chaels Causey, James Causey, Thomas Cavaiani, PhD, Robert Cavalleri, PhD, Michael Cavanaugh, PG Cavazos, Bruce W Cavender, E Caveney, Bill K Caylor, Steven L Cazad, Paul Cazier, Toni Cecil, Carl N Cederstrand, PhD, Peter La Celle, PhD, Chris Cellucci, PhD, Zoltan J Cendes, PhD, Thomas W. Cendrowski, Rosemary L Centner, Nancy L Centofante, MD, Philip Ceriani, MD, Samuel Cerni, PhD, Lawrnece J Cervellino, Steven Chabotte, John F. Chadbourne, PhD, Ronald A Chadderton, PhD, Arthur V Chadwick, PhD, John Chadwick, Pamela Chaffee, Rowand Chaffee, PhD, Charles T Chaffin, PhD, Paritosh M Chakrabarti, PhD, William L Chalmer, Adrian R Chamberlain, PhD, Barry Chamberlain, Bruce Chamberlain, Carlton Chamberlain, Charles Chamberlain, PhD, David L Chamberlain, PhD, Dilworth W Chamberlain, PhD, Samuel Z Chamberlain, Angelo Chamberlin, Paul Chamberlin, Roger S Chamberlin, RS Chamberlin, Charles M Chambers, PhD, David Chambers, Doyle Chambers, PhD, Glen D Chambers, John E Chambers, John S Chambers, MD, Ken Chambers, Philip Chambers, Roger Chambers, Carroll W Chambiss, PhD, William P Chamlee, Edwin B Champagne, PhD, John Champion, Jr, Kenneth Champion, PhD, Robert Champlin, Chun K Chan, PhD, Sham- Yuen Chan, PhD, Shu F Chan, PhD, Sunney L Chan, PhD, Z. Chan, Britton Chance, Ronald R Chance, PhD, Charles H Chandler, Clarence Chandler, Frances Chandler, Jeff Chandler, John Chandler, Leonard B Chandler, PhD, Steven Chandler, DDS, William R Chandler, Berken Chang, PhD, Chung Jam Chang, PhD, Freddy W Chang, PhD, Robin Chang, PhD, Yung Feng Chang, PhD, Nicholas D Change, Stanley A Changon, Stanley Changnon, Jr, Donald J Channin, Raymond E Chapel, Alain De La Chapelle, MD, Daniel W Chapman, James W Chapman, John Judson Chapman, PhD, P F Chapman, Robert T Chapman, John Chappell, Rick Chappell, Douglas E Chappelle, Harlan Chappelle, Stanley Charap, PhD, Luis Charbonier, MD, Al Charland, James Charles, Lloyd M. Charles, MD, M. J. Charles, MD, Robert C Charles, Bruce R Charlton, John M Charnes, PhD, Edward Charney, William Charowhas, Robert A Charpie, Frank Charron, Vanieca L Charvat, Andrew J Chase, Charles H Chase, Jim C Chase, Kenneth Chase, PhD, Marci M Chase, Morley Chase, Paul Chase, Robt H Chase, JM Chasler, DDS, Jacob Chass, David Chastain, Thomas J Chastant, Edward Chastka, MD, Ashok K Chatterjee, Norman Chatterton, PhD, Robert Chauvin, PhD, Glenn Chaves, Brad N Chazotte, PhD, Lynn Chcoran, Curtis A Cheatham, E Cheatham, Robert E Chech, PhD, Paul S Check, Dennis Wm Cheek, PhD, Zafarullah K Cheema, PhD, Robert L Cheever, John Chehaske, Chen, PhD, Chi Hau Chen, PhD, Kun Hua Chen, PhD, Stuart S Chen, PhD, Chi- Yang Cheng, PhD, Craig F Cheng, K L Cheng, PhD, Kuang Liu Cheng, PhD, Thomas C Cheng, PhD, Wade Cheng, PhD, Lou Chenot, William L Chenoweth, Kenneth P Chepenick, PhD, Genady Cherepanov, PhD, Dean Chergotis, S Chernish, MD, Roy Cherris, Jimmie L Cherry, PhD, Peter Chesney, Robert F Chesnik, Arthur Chester, PhD, John W Chester, Alfred P Chestnut, PhD, Paul A Chevernick, MD, Dhan Chevli, PhD, William Chewning</a:t>
            </a:r>
            <a:endParaRPr b="0" lang="en-US" sz="1200" spc="-1" strike="noStrike">
              <a:solidFill>
                <a:srgbClr val="000000"/>
              </a:solidFill>
              <a:latin typeface="Calibri"/>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8">
                                  <p:stCondLst>
                                    <p:cond delay="0"/>
                                  </p:stCondLst>
                                  <p:childTnLst>
                                    <p:set>
                                      <p:cBhvr>
                                        <p:cTn id="142" dur="1" fill="hold">
                                          <p:stCondLst>
                                            <p:cond delay="0"/>
                                          </p:stCondLst>
                                        </p:cTn>
                                        <p:tgtEl>
                                          <p:spTgt spid="115">
                                            <p:txEl>
                                              <p:pRg st="0" end="0"/>
                                            </p:txEl>
                                          </p:spTgt>
                                        </p:tgtEl>
                                        <p:attrNameLst>
                                          <p:attrName>style.visibility</p:attrName>
                                        </p:attrNameLst>
                                      </p:cBhvr>
                                      <p:to>
                                        <p:strVal val="visible"/>
                                      </p:to>
                                    </p:set>
                                    <p:anim calcmode="lin" valueType="num">
                                      <p:cBhvr additive="repl">
                                        <p:cTn id="143"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144" dur="5000" fill="hold"/>
                                        <p:tgtEl>
                                          <p:spTgt spid="11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txBox="1"/>
          <p:nvPr/>
        </p:nvSpPr>
        <p:spPr>
          <a:xfrm>
            <a:off x="457200" y="609480"/>
            <a:ext cx="8229600" cy="5516640"/>
          </a:xfrm>
          <a:prstGeom prst="rect">
            <a:avLst/>
          </a:prstGeom>
          <a:noFill/>
          <a:ln w="0">
            <a:noFill/>
          </a:ln>
        </p:spPr>
        <p:txBody>
          <a:bodyPr anchor="t">
            <a:normAutofit fontScale="67000"/>
          </a:bodyPr>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Che to Col                          </a:t>
            </a:r>
            <a:r>
              <a:rPr b="1" lang="en-US" sz="1200" spc="-1" strike="noStrike">
                <a:solidFill>
                  <a:srgbClr val="000000"/>
                </a:solidFill>
                <a:latin typeface="Calibri"/>
              </a:rPr>
              <a:t> Benjamin F Cheydleur, Long Chi Lee, PhD, Nancy A. Chiafulio, Yuen S Chiang, PhD, V Chiappardi, R Chiarenzelli, Ken Chiavone, Gerald Chicoine, T D Avid Chikalla, PhD, David Chilcote, PhD, Ronald B Child, Milton Childers, PhD, Thomas Childers, David Childs, James Childs, MD, Michael J. Chiles, George Chilingar, PhD, Kenneth Chilton, PhD, Frank Chimenti, PhD, David T Chin, PhD, Hong Chin, PhD, Lincoln Chin, PhD, Melvin Ching, PhD, Chris Chisholm, J D Chism, John Chism, Craig Chismarick, Shyamala Chitaley, PhD, John G Chittick, Randy Chitwood, David Chleck, Soung Moo Cho, PhD, Darrel L Choate, Dale Chodos, MD, DS Choi, PhD, Ye C Choi, PhD, William M Chop Jr, MD, Manoj Chopra, PhD, Kenneth Choquette, MD, Frank W Chorpenning, PhD, Robert J Chorvat, PhD, Sham Chotai, Edward Choulnard, PhD, Tai-Low Chow, PhD, Wen L Chow, PhD, Peter S Chrapliwy, PhD, Channing B Chrisman, Geo A Christenberry, PhD, Alan Christensen, Bent A Christensen, PhD, Bruce P Christensen, PhD, Charles R Christensen, PhD, Don Christensen, Duane Christensen, Duane Christensen, Howard Christensen, John Christensen, Kent Christensen, Odin Christensen, PhD, Peter Christensen, Richard Christensen, Robin Christensen, Robt L Christensen, PhD, Ron V Christensen, David Christiansen, James B Christiansen, PhD, Richard Christiansen, PhD, Robert M Christiansen, PhD, Kent B Christianson, Warner Howard Christie, PhD, Kenneth Christman, MD, Sally Christman, J W Chirstoff, Jay P Christofferson, PhD, Jonathan Christopher, Dennis Christopherson, Alfred L Christy, PhD, Donald O Christy, PhD, Francis Christy, J Steve Christy, Kenneth G Christy, Jack C Chroy, Chrysler, PhD, Ryan A Chrysler, Boa The Chu, PhD, Constantino Chua, C. R. Chung, MD, Eugene L Church, PhD, John P Church, PhD, Robert Church, Robert T. Church, Stanford Church, Steven R Church, PhD, Habte G Churnet, PhD, Petr Chylek, PhD, Donald J Ciappenelli, PhD, Alfred E Ciarlone, PhD, J. Joseph Ciavarra, Jr, Ja Cifonelli, PhD, Marc Cimolino, PhD, Deborah M Ciombor, PhD, Howard Cion, Jon A Ciotti, Joseph Cipolla, Michael Circosta, Kenneth W Ciriacks, PhD, A Cisar, Joseph R Cissell, James Civis, Edwin Claassen, PhD, Gary D Clack, M. Caldwell, PhD, Stephen Claeys, Robert M Claflin, PhD, Gregory S Claine, Clarence Clapp, David Clapp, James L Clapp, PhD, Richard Clapp, Leroy Clardy, Tim Clarey, PhD, Albert F Clark, Bill P Clark, PhD, Charles Clark, PhD, Chris Clark, Clark, David T Clark, PhD, Donald Clark, Donald L Clark, PhD, Ginger Clark, Grady Clark, PhD, Howard G Clark, PhD, Hugh Clark, PhD, Ian Clark, J Donald Clark, James Clark, PhD, James G Clark, PhD, James W Clark, James Wm Clark, Jim Clark, John A Clark, PhD, John B Clark, John B Clark, PhD, John Clark, MD, John Clark, MD, John Clark, MD, John Clark, Jon G Clark, Kenneth Clark, Kent Clark, Kimball Clark, PhD, Lawrence E Clark, MD, Lincoln Clark Jr, M Clark, Paul B Clark, Randall D Clark, Randil L Clark, MD, PhD, Richard A Clark, Richard T Clark, Richard W Clark, Robert Clark, Robert Clark, Robert Clark, Robey Clark, Thomas Clark, William Clark, William Clark, MD, Danny J Clarke, Duane G Clarke, PhD, Earlin N Clarke, James Clarke, PhD, James R Clarke, John Clarke, John Clarke, John F Gates Clarke, PhD, Joseph W Clarke, Larry Clarke, Otis M Clarke Jr, Richard H Clarke, PhD, Richard P Clarke, PhD, John T Clarno, Calvin Miller Class, PhD, James Classen, James Classen, Karen Clausen, John F Clauser, PhD, Don Clauson, Chris Clay, Harris Clay, Jerry H Clay, John A. Clay, CK Claycomb, PhD, Gordon M Claycomb, David Clayton, PhD, Fred Clayton, PhD, John W Clayton, PhD, Ronald Clayton, Stan G Clayton, William Clayton, Bill Cleary, John Cleary, James L Cleason, Fran Van Cleave, PhD, John C Clegg, PhD, La Var Clegg, Wallace Cleland, PhD, Wm L Cleland, Leroy H Clem, PhD, William M Clement, PhD, Bob Clements, Neil C Clements, MD, Stephen F Clements, Gerhardt Clementson, PhD, John A Clendening, PhD, Jack Cleveland, Jeffrey Clevenger, William A Clevenger, Charles B Cliett, Howard J Clifford, Charles Cilfone, W Clift, James O Climo, F W Clinard, PhD, Fred W Clinard, David Cline, Dennis Cline, James D Cline, JT Cline, Warren K Cline, PhD, HB Clingempeel, Mansfield Clinnick, Alan Clodfelter, Thomas L Cloer Jr, M Gerard Cloherty, MD, Christian J Blom, PhD, Todd Cloninger, David M Close, PhD, Jim Cloud, Miline Clough, Ray William Clough, PhD, Michael R Clover, PhD, Douglas Clow, Lloyd S Cluff, David N Clum, Mike Clumper, Peter Clute, Daniel G Coake, J David Coakley, Mary Coakley, PhD, Clarence L Coates, PhD, Thomas Coates, Keith H Coats, PhD, David M Cobb, Howard Cobb, Ty Cobb, W Frank Cobb Jr, William Cobb, James H Cobbs, William J Coben, James F Coble, PhD, Dennis Coburn, James Coburn, PhD, Donald Cochran, Leighton S Cochran, PhD, Paul Cochran, W A Cochran, Jr, Carl Cochrane, J R Cockerham, Jerry Cockerham, Wm H Cockerham, Susan Cockerhan, Benjamim T Cockrill Jr, Elmer Lendell Cockrum, PhD, Richard Cockrum, DVM, James Codding, Joseph W Coddou, Paul Coder, Daniel Codespoti, PhD, Charles W Coe Ii, William D Coe, Edward D Coen, Fritz Coester, PhD, Charles Cofer, Harland E Cofer, PhD, William Coffeen, PhD, Wm R Coffelt, C Robert Coffey, Michael Coffey, Nick Coffey, J M Coffield, Michael Coffman, PhD, Philip Coffman, Anthony Cofrancesco, PhD, Wade E Cogan, PhD, Allen Cogbill, PhD, Chris Coggins, PhD, David B Coghlan, Arthur Cogle, Theodore Cogut, William T Cohan, Allan H Cohen, PhD, Arnold Cohen, PhD, Bernard A Cohen, PhD, Flossie Cohen, MD, Harvey H Cohen, Howard J Cohen, PhD, Lawrence Cohen, Merrill Cohen, MD, Norman Cohen, Richard M Cohen, PhD, Ronald E Cohen, PhD, Sam Cohen, Susanne K Cohen, William C Cohen, PhD, Charles Erwin Cohn, PhD, Ernst M Cohn, Robert Cohn, MD, Sanford Cohn, Harry Cohnger, C E Coke, PhD, Patricia Cokeley, Clayton Coker, Glen P Coker, Ralph Coker, D E Cokley, Lt Col Andre Gerner, Francis Colace, MD, Stefan Colban, Gene Louis Colborn, PhD, Mar Colburn, W B Colburn, Edward E Colby, M W Colchin, Lawrence E Coldren, Avean W Cole, PhD, B Theodore Cole, PhD, Christopher J Cole, Clarence R Cole, PhD, David R Cole, Douglas E. Cole, Eugene Cole, PhD, Frank W Cole, George R Cole, PhD, Henry B Cole, James W Cole, John Cole, Kenneth R Cole, Lee A Cole, PhD, Mariette Cole, PhD, Randall K Cole, PhD, Samuel P Cole, Stephen Cole, PhD, Forrest Donald Colegrove, PhD, Anthony J Colella, Philip J Colella, Roberto Colella, PhD, Bobby Coleman, Donald Coleman, Michael Coleman, Paul Coleman, PhD, R. G. Coleman, PhD, Richard A Coleman, Robert Coleman, PhD, Robert G Coleman, Robert G Coleman, PhD, Steven Coleman, William E. Coleman, Woodrow Coleman, Frank Coles, R D Coles, Andrew Coley, Jr, MD, Robt Coley, Donald Colgan, J R Colgan, MD, Summer Colgan, Lawrence Colin, DDS, Hans Coll, PhD, Jeffrey M Collar, A Collard, Joel Colley, MD, Don Collier, Donald W Collier, James Collier, PhD, Thomas F Collier, MD, PhD, Wm B Collier, PhD, Alan Collins, PhD, Andy R Collins, Aubrey Collins, Charles A. Collins, Clifford B Collins, David B Collins, Dennis Collins, PhD, Edward Collins, PhD, Frederick C Collins, PhD, Gary Collins, PhD, Geo H Collins, MD, George Collins, H Douglas Collins, MD, Horace R Collins, Jane E Collins, Jimmie Collins, PhD, Kenneth B Collins, Robert L Collins, Stephen L Collins, Ted Collins, William Henry Collins, William P Collins, Wm F Collins, PhD, P J Collipp, MD, Bruce Collippns, Bertram W Collyer, Carlos A Colmenares, PhD, Arthur F Colombo, PhD, Don J Colton</a:t>
            </a:r>
            <a:endParaRPr b="0" lang="en-US" sz="1200" spc="-1" strike="noStrike">
              <a:solidFill>
                <a:srgbClr val="000000"/>
              </a:solidFill>
              <a:latin typeface="Calibri"/>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8">
                                  <p:stCondLst>
                                    <p:cond delay="0"/>
                                  </p:stCondLst>
                                  <p:childTnLst>
                                    <p:set>
                                      <p:cBhvr>
                                        <p:cTn id="150" dur="1" fill="hold">
                                          <p:stCondLst>
                                            <p:cond delay="0"/>
                                          </p:stCondLst>
                                        </p:cTn>
                                        <p:tgtEl>
                                          <p:spTgt spid="116">
                                            <p:txEl>
                                              <p:pRg st="0" end="0"/>
                                            </p:txEl>
                                          </p:spTgt>
                                        </p:tgtEl>
                                        <p:attrNameLst>
                                          <p:attrName>style.visibility</p:attrName>
                                        </p:attrNameLst>
                                      </p:cBhvr>
                                      <p:to>
                                        <p:strVal val="visible"/>
                                      </p:to>
                                    </p:set>
                                    <p:anim calcmode="lin" valueType="num">
                                      <p:cBhvr additive="repl">
                                        <p:cTn id="151" dur="5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52" dur="5000" fill="hold"/>
                                        <p:tgtEl>
                                          <p:spTgt spid="11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Col to Cro                             </a:t>
            </a:r>
            <a:r>
              <a:rPr b="1" lang="en-US" sz="1200" spc="-1" strike="noStrike">
                <a:solidFill>
                  <a:srgbClr val="000000"/>
                </a:solidFill>
                <a:latin typeface="Calibri"/>
              </a:rPr>
              <a:t> Gregg B Colton, Andre Coltrin, Clair R Colvin, PhD, Todd Colvin, Robert Neil Colwell, PhD, William T Colwell, PhD, E Keith Colyer, Leon Combs, PhD, John Comeaux, Jack Comeford, PhD, E James Comer, Thomas Comi, PhD, Comisford, Robert Comizzoli, PhD, Robert Commander, John Commerford, PhD, Wayne M Compton, H Comsio, Michael W Conaboy, Floyd S Conant, Leonard Conapinski, Thor Concepts, James Concilla, John Conconnan, Norman I Condit, George T Condo, PhD, Gregory J Condon, MD, H Anson Cone, MD, John S. Cone, Johns Cone, F Dee Conerly Jr, Robert G Confer, Rosemary Conger, John P Conigilo, Martin E Coniglio, John Conlan, D Conley, PhD, Gary Conley, Gary Conley, Joseph H Conley, R Conley, Carter B Conlin, Ralph D. Conlon, Paul K Conn, PhD, Rex B Conn, MD, Robert Conn, H E Connell, James Connell, James R Connell, John J Connelly, PhD, John J Connelly, Michael S Connelly, T Donnelly, PhD, Barry G Conner, Charles Conner, Dennis D Conner, Teresa A Conner, Wm J Connick, Jr, James D Connolly, John I Connolly Jr, PhD, P E Connolly, John M Connor, Wayne M O Connor, Eugene A Conrad, PhD, George Conrad, Paul W Conrad, Ralph L Conrad, Robert Conrad, Roddy Conrad, PhD, Walter E Conrad, PhD, Jeff Conroy, Paul Consroe, PhD, David L Constans, Gheorghe M Constantinescu, PhD, Donald R Conte, James Conway, PhD, John P Conway, Mary Conway, Thomas W Conway, PhD, William Conway, Mark Cook, PhD, Addison G Cook, PhD, C Cook, Charels Cook, Donald J Cook, PhD, Douglas H Cook, Frandk Cook, PhD, George W Cook, Glenn C Cook, MD, Henry E Cook Jr, James H Cook, Janice Cook, Karl Cook, LP Cook, Maurice G Cook, PhD, Melvin A Cook, PhD, Michael Cook, Mr Vernon O. Cook, Robert C Cook, Robert Cook, Robt B Cook, PhD, Shirl E Cook, Steven Cook, Thomas B Cook Jr, PhD, Wendell Cook, Anson R Cooke, PhD, James Barry Cooke, James M. Cooksey, Bingham Cool, PhD, Richard Cool, David Coolbaugh, PhD, Denton Arthur Cooley, MD, William E Cooley, PhD, Daniel P Coolidge, Marguerite W Coomes, PhD, Anne M Cooney, Edward Cooney, Harvey L Coonts, Rosa Lee Coonts, Daniel Cooper, Flip Cooper, George P Cooper, Gordon Cooper, PhD, Harry C Cooper, James R Cooper, PhD, Jane Cooper, Jeff Cooper, John C Cooper, Martin Cooper, Max E Cooper, Peter Cooper, Raymond Cooper, PhD, Robert C Cooper, PhD, Robert S Cooper, PhD, Thomas Cooper, PhD, David F Cope, PhD, A D Copeland, Kenneth R Copeland, Louis Copeland, MD, Harry B Copelin, Frederick A Copes, PhD, John D Copley, John Copolos, William Copperman, William Coppoc, Wm S Corak, PhD, M Yavuz Corapcioglu, PhD, Robert B Corbett, PhD, Kevin Corbin, Murray D Corbin, MD, Carl Corbit, John Corboy, MD, John M. Corboy, MD, Eugene F Corcoran, PhD, John Corcoran, MD, Stephen Corcoran, Charles Cordalis, Francis M Cordell, PhD, Ronald E Cordell, MD, Cllinton N Corder, MD, Carl Cordes, Arthur Cordisco, Christopher Cordle, PhD, John F Cordone, Vincent F Cordova, Eugene Core, Patrick Core, John S. Cornett, Robert L Corey, PhD, Henry E Corke, PhD, Walter H Corkern, PhD, James M Corkill, Kenneth C Corkum, PhD, John L Corl, Corley, Frank A Cormier, William E Cormier, Russell Corn, Robert L Cornelius, Creighton N Cornell, David Cornell, John Cornell, S D Cornell, PhD, Stephen W Cornell, PhD, Arlen C Cornett, Holley Cornette, John S Cornett, Neil Cornia, Bahne C Cornilsen, PhD, L Corns, David G Cornwell, PhD, Nancy Cornwell, Roy S Cornwell, PhD, Nicholas J Corolis, Don Corona, Deborah A Corridon, Thomas Corrigan, PhD, Charles E Corry, PhD, Wayne T Corso, Matthew Corulli, Kenneth M. Cory, Michael Coryn, Arthur J Cosgrove, George Cosmides, PhD, Wm H Cost III, Eugene Costa, James P Costa, Peter F Costa, Ronald A. Costanzo, Mark J Costello, Nationwide Envro Svcs, Rebecca B Costello, PhD, John Costlow, PhD, Allen Costoff, PhD, Kevin Cotchen, Mark D Cote, Wilfred A Cote, PhD, Harry E Cotrill Jr, Harold Cott, PhD, Grant Cottam, Richard O Cottie, Frank E. Cotton, Jr, PhD, Marion Cotton, PhD, Spencer M Cotton, William R Cotton, PhD, Vincent F Cottone, Phil Cottrell, David G Cotts, Richard L Coty, Larry Coudriet, Clifton Couey, Ronald A Coulson, PhD, Richard Councill, Marcus L Countiss, Gary Countryman, Galen L Coupe, Arnold Court, PhD, Arnold Court, PhD, Arthur Courtney, Charles R Courtney, Francis E. Courtney, Jr, William H Courtney III, PhD, Raymond C Cousins, PhD, Sylvere Coussement, PhD, Ross Couwenhoven, PhD, Fred Covelli, Eugene Covert, PhD, Joy Covey, Robt E Covey, Robert Covington, Carl Cowan, Daniel F Cowan, MD, George Cowan, MD, Tracy Cowan, Wm A Cowan, PhD, Jeffrey L Coward, John B Cowden, Ronald R Cowden, PhD, Russ Cowden, Vincent F Cowling, PhD, John D Cowlishaw, PhD, Brian Cox, Carrol B Cox, Clifford H Cox, PhD, Cyrus W Cox, Dan M Cox, David Cox, Don C. Cox, Don Cox, Donald J Cox, PhD, Edwin Cox, Frederick Cox, Hiram M Cox, Jack D Cox, James A Cox, Jerry Cox, Joe B Cox, Lawson G Cox, MD, Louis Cox, PhD, Michael F Cox, Mike Cox, Morgan Cox, Neil D Cox, PhD, Robert P. Cox, Sidney G Cox, Francis Coy, MD, Aaron S Coyan, Alan Coykendall, Robert D Coyle, Kenneth R Coyne, Jerry Crabb, C H Cracauer, Dan Crackel, Sheldon Craddock, Cecil I Craft, Donald K Craft, Rex R Craft, Kent Craghead, Cragin, PhD, Richard A Crago, Edward J Cragoe, Jr, MD, Kenneth B Craib, Alan M Craig, Bruce Craig, PhD, Dexter Craig, Felicia Craig, Irving M Craig, James Craig, PhD, John A. Craig, John Merrill Craig, John P. Craig, MD, Ronald Craig, R E Craigie Jr, Gordon E Craigo, Donald Lee Crain, PhD, Glenn D Crain, Jerry L. Crain, David D. Cram, PhD, Donald J Cram, PhD, Howard Cramer, PhD, John A Cramer, PhD, Rex C Cramer, Richard Cramer, Edmund T Cranch, PhD, John R Crandall, PhD, Walter Crandall, PhD, Dale E Crane, Frederick L Crane, PhD, Lowell Crane, Chris L Craney, PhD, Richard A Craven, James F Cravens, Thomas Cravens, Thomas V Cravens, Clara D Craver, PhD, Doyle Craver, Mark W Craver, Dean Crawford, Don Crawford, Duane A Crawford, James Crawford, Jonathan Crawford, Steven P Crawford, Thomas Crawford, PhD, Robt S Craxton, PhD, David Craymes, Ron Creamer, S J Creane, Ben Creason, Buford Creech, Wendell Creech, Kevin Creedon, Michel Creek, Prentice Creel, T Ch Creese, R.S. Cremisio, PhD, Valerie Voss Crenshaw, Robert Cresci, PhD, Anne E Cress, PhD, C Raymond Cress, PhD, Frank Cress, Kenneth S Cressman, Ronald Cresswell, PhD, John Edwin Crew, PhD, Bradford R Crews, Gregory A Crews, Phillip O Crews, PhD, Diana Creyes, Jim Cribbs, Richard E Cribbs, Robert W Cribbs, Donald F Crie, Peter Crimi, PhD, Richard Crippen, Harry N Cripps, PhD, Peter A. Crisi, Joseph P Crisler, PhD, Kurt Criss, Thomas B Criss, PhD, Robert Crist, J L Crittenden, Thomas Bernard Croat, PhD, Charlie Crocker, Luanne S Crockett, George T Croft, PhD, Jerry Croft, Michael Croft, Wayne S Croft, William Croft, Blake Cromartie, Daniel Crone, Donald C Cronemeyer, PhD, Steven W Cronin, Robert K Crookston, PhD, Edward Crosby, Edward Crosby, G Kingman Crosby, Shawn J. Crosby, Ajmes G Crose, PhD, Thomas J Crosier, David Crosley, Elden Cross, Kevin P Cross, Robt F Cross, DVM, William Cross, A Scott Crossfield, Tom Crossman, Kenneth A Crossner, PhD, D B Crouch, John Croul, David L Crouse, Stephen Crouse, Robert M Crout, Morgan L Crow, Gene Autrey Crowder, PhD, Helen Crowder, Curtis Crowe, David Crowe, Delmar N Crowe Jr, Donald E Crowell, Edwin P Crowell, Chris Crowley, John Crowley, Michael S Crowley, PhD, Mrs Jamie Crowley, John A Crown Jr, C Richard Crowther, PhD</a:t>
            </a:r>
            <a:endParaRPr b="0" lang="en-US" sz="1200" spc="-1" strike="noStrike">
              <a:solidFill>
                <a:srgbClr val="000000"/>
              </a:solidFill>
              <a:latin typeface="Calibri"/>
            </a:endParaRPr>
          </a:p>
        </p:txBody>
      </p:sp>
    </p:spTree>
  </p:cSld>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8">
                                  <p:stCondLst>
                                    <p:cond delay="0"/>
                                  </p:stCondLst>
                                  <p:childTnLst>
                                    <p:set>
                                      <p:cBhvr>
                                        <p:cTn id="158" dur="1" fill="hold">
                                          <p:stCondLst>
                                            <p:cond delay="0"/>
                                          </p:stCondLst>
                                        </p:cTn>
                                        <p:tgtEl>
                                          <p:spTgt spid="117">
                                            <p:txEl>
                                              <p:pRg st="0" end="0"/>
                                            </p:txEl>
                                          </p:spTgt>
                                        </p:tgtEl>
                                        <p:attrNameLst>
                                          <p:attrName>style.visibility</p:attrName>
                                        </p:attrNameLst>
                                      </p:cBhvr>
                                      <p:to>
                                        <p:strVal val="visible"/>
                                      </p:to>
                                    </p:set>
                                    <p:anim calcmode="lin" valueType="num">
                                      <p:cBhvr additive="repl">
                                        <p:cTn id="159" dur="5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160" dur="5000" fill="hold"/>
                                        <p:tgtEl>
                                          <p:spTgt spid="11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Cro to Dem                          </a:t>
            </a:r>
            <a:r>
              <a:rPr b="1" lang="en-US" sz="1200" spc="-1" strike="noStrike">
                <a:solidFill>
                  <a:srgbClr val="000000"/>
                </a:solidFill>
                <a:latin typeface="Calibri"/>
              </a:rPr>
              <a:t> Robert H Crowther, Frank C Croxton, PhD, Richard Cruce, William J Cruice, Michael Cruickshank, PhD, Duane Crum, PhD, Edward H Crum, PhD, Glenn H Crumb, PhD, Cris Cruz, Richard L Cryberg, PhD, Billy Crynes, Tihamer Csaky, MD, Tihamer Z Csaky, MD, Gabriel T Csanady, PhD, Alan L Csontos, J K Cuar, W D Cubbedge, William Cubbedge, Cubre, Etta Cuccinello, Jerry F Cuderman, PhD, Donald Cudmore, Donald F Cue, Ronald Cuenod, Alfred G Cuffe, John R Culbert, Verne Culbertson, Chris Cull, Char C Cullari, John S Cullen, Stephen L Cullen, MD, William C Cullen, PhD, Donald M Culler, Floyd Culler, A S Cullick, PhD, Walter E Cullmann, H. R. Culver, Lester C Culver, PhD, Ray Culver, Peter Cumerford, Bradford Cummings, David Cummings, PhD, Kenneth D Cummins, Richard W Cummins, PhD, Tom Cundiff, Lawrence E Cunnick, Allen Cunningham, David C Cunningham, Howard Cunningham, PhD, John E Cunningham, PhD, Joseph A Cunningham, MD, Kyle Cunningham, Walter Cunningham, PhD, Thomas Curin, PhD, Peter Curka, MD, Donald E Van Curler, Joseph Mc Curnin, Thomas J Curphey, PhD, Walter E Currah, Curran, Francis M Curran, John T Curran, Ira B Current, James L Current, Tom P Currie, Wm S Currie, William W Currier, PhD, Janet C Curry, John Curry, Thomas Curry, PhD, Timmy F Curry, William Curry, PhD, Frazier Curt, MD, Maria A Curtin, PhD, Thomas Curtin, Fred W Curtis, Jr, Hannah Curtis, Merlyn Curtis, Stuart Curtis, Chopin Cusachs, PhD, Charles Cusack III, Charles E Cusack Jr, Joseph Cusack, Bendit Cushman-Roisin, PhD, Michael S Cuskelly, Herman C Custard, PhD, Gretchen Custer, Steven R Custer, John M Cuthbert, Lron G Cuthbert, PhD, Leonard Cutler, PhD, Richard Cutler, PhD, Richard Cutler, PhD, James R Cutre, Ernest Cutter Jr, Alan Cutting, J F Cuttino, PhD, Jerry Cuttler, PhD, James Cutts, W T Cutts, George B Cvijanovich, PhD, Burt L St Cyr, Nelson Cyr, Walter J Czagas, Charles Czbrumberg, Rita Czek, Thomas P Czepiel, PhD, Jacob Czerwienlec, James Oziomek, PhD, Shannon Czysz, John Dabbs, PhD, George C Dacey, PhD, Jaak Jk Daemen, PhD, Calvin Daetwyler, PhD, William Daffron, R Dafoe, Charles H Daggs, Clark J. Daggs, Paul D. Dague, H Douglas Dahl, PhD, Harry M Dahl, PhD, Dirk Dahlgren, PhD, Duane M Dahlgren, Robert S Dahlin, PhD, Donald Dahlstrom, PhD, Russell Dahlstrom, Paul Daiber, Peter C Daigle, Russell E Dailey, W V Dailey, James T Dakin, PhD, Alfred Dakrig, Snezana Kili- Dalafave, PhD, Anthony A Dale, Glenn I Dale, Thomas A Dale, James Daley, Joseph Dalley, PhD, John C Dallman, PhD, Jesse L Dally, PhD, John J Dalnoky, John Daloia, George F Dalrymple, Charles Dalton, PhD, Harry Dalton, PhD, James U Daly, Kevin M Daly, Michael Daly, Michael Daly, James J Damato, Heinz H Damberger, PhD, Richard Aasen Damerow, PhD, Dwight H Damon, PhD, George Damon, PhD, Edward Dana, Jerome Samuel Danburg, PhD, James Dancho, MD, Richard M Dangelo, Barry D Dangerfield, Charles A Daniel, Charles D Daniel, PhD, Scott Daniel, Stephen R Daniel, Thomas W Daniel, Wayne E. Daniel, William Daniel, Anders P Daniels, PhD, Charlie Daniels, James Daniels, Jess Donald Daniels, PhD, Ned R Daniels, Warren B Daniels, Wayne Daniels, Richard J Danke, PhD, Wm M Danley, William R. Dannels, William Dannemeyer, Stephen Danner, William Dannhausen, Jerry Danni, Raisfeld I Danse, MD, S Dantiki, PhD, Victor Danushevsky, PhD, Paul Danyluk, Donald Danz, Morris J Danzig, PhD, Fred Darady, Gerald M Darby Jr, Joseph Darby, Jr, PhD, Frank Darden, Forrester B Darling, Rodney C Darrah, Michael J Darre, PhD, Josephe E Darsey, MD, PhD, Mozelle Darsey, L R Dartez, Dean Daryani, Kaz Darzinskis, Hriday Das, PhD, Theodore Dashman, PhD, Edward Daskam, Anton M Dattilo, Clarence T Daub, PhD, Pierre Dauby, PhD, Roland G Daudelin, Gregory W Daues, Roger A Daugherty, Shawn Daugherty, William E Dauksch, T C Dauphine, PhD, Joseph R Daurora, Bruce R Dausman, Dennis Dautreuil, Rodnoosh R Davari, Marion Davenport, Thomas L Davenport, PhD, Jeff David, Moses M David, PhD, Clayton L Davidson, Don Davidson, Donald Davidson, PhD, James Davidson, James M Davidson, PhD, Julian Davidson, PhD, Thomas Davidson, W H Davidson, MD, Chad Davies, PhD, Dean Davies, Dean Davies, DH Davies, MD, Edward J Davies, PhD, Emlyn B Davies, PhD, Frank W Davies, Harold Davies, Harold W Davies, PhD, Julian A Davies, PhD, William Davies, Alfred Davis, Anariba Davis, Brian D Davis, Bruce W Davis, PhD, D K Davis, Dana E Davis, David L Davis, Dennis Davis, Derek Davis, Dick Davis, PhD, Donald E Davis, PhD, Douglas Davis, Duane Davis, PhD, Ed Davis, Frances M. Davis, PhD, Francis Davis, PhD, Fred Davis, George Davis, H. Turia Davis, Harriett Davis, Harry Davis, PhD, Herbert G. Davis, James A Davis, PhD, James Davis, James Davis, James P Davis, Jesse L. Davis, Jimmy D Davis, John Davis, MD, John R Davis, Joseph Davis, PhD, Kent R. Davis, Larry A Davis, PhD, Larry C Davis, Lewis L Davis, Linda B Davis, M Davis, PhD, Mark Davis, Mark Davis, Michael Davis, Paul Davis, Ralph Davis, Raymond Davis, PhD, Robert Davis, Robert W Davis, S Davis, Thomas Davis, PhD, W Kenneth Davis, Wallace Davis, PhD, Walter Davis, PhD, Wane Davis, Warren B Davis, William Davis, William H Davis, Wm C Davis, DVM, Wm R Davis, PhD, John A Davis Jr, PhD, Michael Davison, Arthur D Dawson, PhD, Dale E Dawson, David Dawson, Harry H Dawson, HR Dawson, PhD, Mike Dawson, Tom Dawson, William Dawson, Frank Dax, Charles Day, D M Day, David Day, Dennis Day, Donald F Day, PhD, Harry G Day, PhD, Ivana Day, PhD, Michael Day, PhD, Noorbibi K Day, MD, Paul Day, R A Day, PhD, Robt D Day, Thomas M Day, William Day, PhD, Duke Dayton, Myron Dayton, PhD, Stephen Dazzo, Frank De Felice, Charles De Ganahl, James De Ganahl, Donald W De Jong, PhD, Carlo J De Luca, PhD, Bruce De Ment, Thomas De Pippo, Eugene De Rose, PhD, Anthony C. De Vuono, PhD, David Deacon, PhD, John Deacon, Forest C Deal Jr, PhD, David L Dean, PhD, Frederick H Dean, John Dean, Lyndon Dean, Nathan W Dean, PhD, Robert Dean, Robert E Dean, Sheldon W Dean, PhD, W Kit Dean, PhD, Warren E Dean, PhD, William D Dean, Donald Deardorff, PhD, James Deatherage, Bobby C Deaton, PhD, B D Debaryshe, David W Deberry, PhD, Edward Dale Deboer, Charles Deboisblanc, Francis Debons, PhD, Robt E Debrecht, Ronald J Debruin, Peter Debrunner, PhD, Robert J Debs, PhD, Nancy E Dechant, Arthuir J Decker, PhD, Bruce Decker, Fred W Decker, PhD, Fred W Decker, PhD, Walter Decker, William M Decker, Wayne Deckert, PhD, Paul Decusati, PhD, Dederich, W Edward Deeds, PhD, Emil Deeg, PhD, David G Deeken, Philip E. Deering, John M. Dees, John D Defelice, Gary Defoti, PhD, Paul J Defries, Joseph Defusco, Rosalie F Degiovanni-Donnelly, PhD, Gerald Degler, Stephen Degray, MD, Rebecca Dehlinger, John Dehn, PhD, Greg D Dehne, Eugene Wm Dehner, PhD, Robert Dehoff, PhD, Robert F Deibel, Jr, Susan Deines, Michael P Deisenroth, PhD, Everett Dejager, John Dejager, Ken Dejager, Glenn Dejong, John H Dekker, Thomas R Delahunt, Chirs Delaney, Erwin Delano, PhD, J M Delano, J W Delano, PhD, Henry Delarosa, Marion B Delarye, Phillip Delassus, PhD, Kirk F Delaune, L Delaura, William M Delaware, Joe D Delay, PhD, Robert M Delcamp, PhD, Jaap B Delevie, MD, Douglas A. Delhay, Mark Delinger, E F Delitala, Robert J Dellenback, PhD, Paul S Deller, Gary Dellerson, MD, Louis P Delliquadri, Dale Delong, Jon Delong, Herbert Delrich, MD, Frank Deluca, Anthony J Delucca, John Deluccia, PhD, Lynns I Demarco, MD, J Demarest, PhD, Tom Demars</a:t>
            </a:r>
            <a:endParaRPr b="0" lang="en-US" sz="1200" spc="-1" strike="noStrike">
              <a:solidFill>
                <a:srgbClr val="000000"/>
              </a:solidFill>
              <a:latin typeface="Calibri"/>
            </a:endParaRPr>
          </a:p>
        </p:txBody>
      </p:sp>
    </p:spTree>
  </p:cSld>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afterEffect" fill="hold" presetClass="entr" presetID="28">
                                  <p:stCondLst>
                                    <p:cond delay="0"/>
                                  </p:stCondLst>
                                  <p:childTnLst>
                                    <p:set>
                                      <p:cBhvr>
                                        <p:cTn id="166" dur="1" fill="hold">
                                          <p:stCondLst>
                                            <p:cond delay="0"/>
                                          </p:stCondLst>
                                        </p:cTn>
                                        <p:tgtEl>
                                          <p:spTgt spid="118">
                                            <p:txEl>
                                              <p:pRg st="0" end="0"/>
                                            </p:txEl>
                                          </p:spTgt>
                                        </p:tgtEl>
                                        <p:attrNameLst>
                                          <p:attrName>style.visibility</p:attrName>
                                        </p:attrNameLst>
                                      </p:cBhvr>
                                      <p:to>
                                        <p:strVal val="visible"/>
                                      </p:to>
                                    </p:set>
                                    <p:anim calcmode="lin" valueType="num">
                                      <p:cBhvr additive="repl">
                                        <p:cTn id="167" dur="50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repl">
                                        <p:cTn id="168" dur="5000" fill="hold"/>
                                        <p:tgtEl>
                                          <p:spTgt spid="118">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Dem to Dri                           </a:t>
            </a:r>
            <a:r>
              <a:rPr b="1" lang="en-US" sz="1200" spc="-1" strike="noStrike">
                <a:solidFill>
                  <a:srgbClr val="000000"/>
                </a:solidFill>
                <a:latin typeface="Calibri"/>
              </a:rPr>
              <a:t> David C Demartini, PhD, Traci Demecs, Gerald Demers, John Deming, Harold D Demirjian, Winston R Demonsabert, PhD, Albert M Demont, Thomas Demull, Kenneth J Denault, PhD, Louis J Denes, PhD, David Denhardt, PhD, Louis Dentini, Adam Denison, MD, Frank W Denison, PhD, Scott C Denison Jr, Joseph Denk, David R Denley, PhD, Steve Denner, PhD, Warren W Denner, PhD, Robert Dennett, Richard Denney, William J Denney, Robt A Dennin Jr, Aaron Dennis, Alan M Dennis, Richard S Dennis, Roy Dennis, William E Dennis, PhD, Joseph L Dennison Jr, Ronald W Dennison, Cleve Denny, Larry Denny, Lawrence A Denny, Don Deno, PhD, Norman C Deno, PhD, Al H Denson, James Denton, Ralph D Denton, Richard A Denton, T G Denton, Thomas Denton, Kenneth R Deove, MD, Wm Davis Derbyshire, PhD, Edmond J Derderian, PhD, David Derenzo, Kenneth Derick, Dimitris Dermatas, PhD, Lawrence E Dernbach, T Derossett, PhD, Frank Derrick, Larry Derscheid, James Deruiter, MD, Salvatore J Desalva, PhD, Peter A Desantis, Jeffrey Desautels, Charles Desbordes, Don Desborough, Henry Deshazo, Harold Desilets, Wm Deskin, PhD, George R Desko, Ryan Desko, Armand Desmarais, Edward Desrochers, Herbert C Dessaver, PhD, Raymond E Dessy, PhD, R P Destefano, PhD, Steven A Destefano, MD, Raymond Destephen, John H Detar, PhD, Thomas R Detar, MD, Herman Dethman, William D Detlefsen, PhD, Don Detrick, WR Dettmer, R Deufel, PhD, Maurice Deul, Marshall E Deutsch, PhD, John Devaney, Ravi S Devara, MD, James E Devay, PhD, Karl W Devenport, MD, G E Alan Dever, PhD, G E Dever, PhD, G Taft Devere, William Devereux, Edward J Devillez, PhD, John W Devine, PhD, Gerald E Devitt, John Devitt, Terry Devitt, Gregore Devlin, Robert M Devlin, PhD, Thomas F. Devlin, PhD, Bob Devonshire, Robert V Devore, PhD, Frederick W Devries, Robert Devries, PhD, Martha Deweese, Louis Dewenter, Donald R Dewey, PhD, James Dewey, Roy Dewey, Roland Dewit, PhD, Ward Dewitt, MD, Jim Dews, Mel Dewsnup, Jerry J Dewulf, Alan Dexter, PhD, Charles Dexter, MD, F D Dexter, Franklin D. Dexter, James A Deye, PhD, Seshasayi Dharmavaram, PhD, Robt Di Falco, PhD, Cecil M Dinunno, Paul J Dial, Arthur M Diamond, PhD, Arthur S Diamond, Marian C Diamond, PhD, Pedro Diaz, David Dibbley, James D Dibdin, MD, John K Dibitz, Rudolph John Dichtl, Macdonald Dick, MD, Phillip Dick, Richard J Dick, David Dicken, Stewart Dicken, Charles Edward Dickerman, PhD, Charlesworth L Dickerson, PhD, Jerry B Dickey, John I Dickinson, MD, Lee G Dickinson, W D Dickinson, Jr, Wade Dickinson, Warren D Dickinson, Winifred Dickinson, PhD, Wm B Dickinson, PhD, Stanley Dickison, Dave Dicksor, John Dickmann, Don R Dickson, Howard Dickson, Bryan J Dicus, Albert Diddle, MD, Ellizabeth Didier, PhD, Henry A Diederichs, MD, Paul A Dieffenthaller, Harison Diehl Jr, Kenneth Diesburg, PhD, Jerry A Dieter, PhD, John Dieterman, Allan H Dietrich, Dennis Dietrich, MD, Diane Dietrich, Alm Dietz, Peter Dietze, Edward J Diggs, Armand Digiacomo, PhD, Joseph B Digiorgio, PhD, Ken Dillard, Robert G Dillard, Robert B Dillaway, PhD, Jeffrey A Dille, John R Dille, MD, Roger Dille, Daniel Dillon, Douglas Dillon, MD, Malcolm Dillon, Ray Dillon, Raymond Dillon, PhD, Pryia C Dimantha, Raymond Dimartini, PhD, Robt L Dimmick, Robert Hudson Dinegar, PhD, John Ding, Joe Dingman, Steven Dingman, Tom Dingo, John Dini, Kenneth J Dinnhaupt, Howard L Dinsmore, PhD, Ronald J Dinus, PhD, William Dinusson, PhD, Michael Dion, Ascanio G Dipippo, Richard M Dippolito, Eugene Dirk, PhD, R. W. Dirks, Ray Dirling, Louis Dischler, James Disiena, Ronald E Distefano, Steve Ditko, David Ditmars, Albert Dittmer, Timothy Dittmer, C J Diver, Omer Dix, Charles J Dixon, H Marshall Dixon, PhD, James D Dixon, PhD, John K Dixon, Kent Dixon, Kent Dixon, Marvin P Dixon, PhD, Richard W Dixon, PhD, Robert C Dixon, Ross J Dixon, Steve Dixon, Thomas O. Dixon, William L Dixon, MD, David B Doan, David B Doan, Elliott Doane, PhD, Paul Dobak, Donald Dobbin, Harry D Dobbs, PhD, Herbert H Dobbs, PhD, Carroll Dobratz, PhD, Donald C Dobson, PhD, Gerard Dobson, PhD, Martin L Dobson, Robert W Dobson, Daniel Dodd, Glen R Dodd, Ronald Dodd, Nama Doddi, PhD, Earl S Doderer, PhD, George C Doderer, Charles F. Dodge, PhD, Marvin Dodge, PhD, Richard A Dodge, PhD, W Brent Dodrill, Ronald P Dodson Jr, Wand Dodson, PhD, D C Doe, Richard Doe, Stephen Doe, Thomas C Doe, Gerald E Doeden, PhD, Jim Doehla, Eugene Doering, William A. Doerner, PhD, Charles Doersam, Matthew A Doffer, J W Dohr, Edwin Dojka, Edward M Dokoozian, PhD, James Dolan, John E Dolan, Michael F Dolan, Geoffrey E Dolbear, PhD, Wm Read Dolbier, PhD, Richard Dolecek, John Dolehide, MD, Ronald U Dolfi, W. W. Dollison, Bruce J Dolnick, PhD, Peter A Dolph, Richard M Dom, PhD, John M Domagala, PhD, John M Domagala, PhD, Joseph Domblesky, PhD, Abel Dominguez, PhD, Erich Dominik, Edwin J Dommisse, Calvin M Donaghey, Robert Donahue, PhD, Thomas Donahue, William Donald, PhD, Allen Donaldson, B Donaldson, PhD, Chick Donaldson, Gary B Donart, PhD, Henry Donato, PhD, John R Doner, PhD, E D Doney, Wenju Dong, PhD, James E. Donham, Edward E O Donnell, PhD, David Donnelly, George Donnelly, Wayne Donnelly, Cornelius M O Donovan Jr, James Donovan, Susanne Donovan, Terry W. Donze, David Dooley, Mark C Dooley, Thomas P Dooley, PhD, Wynell Dooley, Robt F Doolittle, PhD, Barbara Doonan, PhD, Harold E Doorenbos, PhD, Alejandro Dopico, PhD, Billie Dopstauf, Leigh E Doptis, Timothy J. Dore, C Doremus, Jeff Dorenkanp, Patrick Dorgan, Guy H Dority, PhD, Jerome P Dorlac, Bernhadt Dorman, PhD, Kenneth J Dormer, PhD, Irene Dorner, Donald E Dorney, Dennis Dorotiak, Ronald J Dorovi, Larry Dorris, Frank G Dorsi, W F Dost Jr, D Dotson, Robert Dotson, MD, Keith L Doty, PhD, Robert W Doty, PhD, William O Doty, PhD, Joe Dotzlaf, R J Doubek, Roark Doubt, Lawrence G Doucet, Patrick J Dougherty, Rae Dougherty, John Doughty, PhD, Ralph D Doughty, Hugh Douglas, Jocelyn Douglas, PhD, Kathleen Douglas, Michael G Douglas, PhD, Robin Douglas, Rose T Douglas, Westmoreland J Douglas, PhD, Robert W Douglass, PhD, Spencer Douglass, W Campbell Douglass III, MD, Gilbert Douglas Jr, MD, John Doull, PhD, Arthur Ostantinos Doumas, PhD, Gary L Douthitt, Haninia Dover, S Dow, Stephen Dow, MD, Sandra Dowdell, Edward J Dowdy, PhD, Nancy M Dowdy, PhD, William Louis Dowdy, James D Dowell, John E Dowis, V. Gerald Dowless, Edward C Dowling Jr, PhD, Thomas J Dowling, Kenny Downer, Theron Downes, PhD, Fred Downey, PhD, Harold J Downey, James A Downey III, Jerry D Downey, Patrick Downey, Gary Downing, Jack Downing, Jeffrey Downing, MD, Roland Downing, PhD, Terrell Downing, S L Downs, Tom Downs, PhD, William F Downs, PhD, Doxtader, PhD, B J Doyle, Frederick J Doyle, PhD, Larry J Doyle, PhD, Stephen Doyle, Douglas Dozier, MD, Robert Dragnich, Frank Dragoun, David J Drahos, PhD, Andrew Drake, Arthur E Drake, PhD, Bruce D Drake, PhD, Hugh H Drake, James F Drake, PhD, Michael C Drake, PhD, Rex Drake, William L Drake Jr, MD, Gary L Draper, Jean Draper, Edward A Dratz, PhD, Frederick Drauschke, Vincent H Dreeszen, Bill Drennan, Mary Drennan, Stanley Drennan, MD, George L Drenner Jr, Arthur Drescher, William M Dresher, PhD, James Drew, PhD, Larry A Drew, PhD, Harry J Driedger, MD, Albert John Driesch, Frank E Driggers, PhD, Fletcher Driscoll, PhD, Gary L Driscoll, PhD, Margaret Driscoll, Raymond L Driscoll, Richard Drisko, PhD, Thomas E Driver</a:t>
            </a:r>
            <a:endParaRPr b="0" lang="en-US" sz="1200" spc="-1" strike="noStrike">
              <a:solidFill>
                <a:srgbClr val="000000"/>
              </a:solidFill>
              <a:latin typeface="Calibri"/>
            </a:endParaRPr>
          </a:p>
        </p:txBody>
      </p:sp>
    </p:spTree>
  </p:cSld>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28">
                                  <p:stCondLst>
                                    <p:cond delay="0"/>
                                  </p:stCondLst>
                                  <p:childTnLst>
                                    <p:set>
                                      <p:cBhvr>
                                        <p:cTn id="174" dur="1" fill="hold">
                                          <p:stCondLst>
                                            <p:cond delay="0"/>
                                          </p:stCondLst>
                                        </p:cTn>
                                        <p:tgtEl>
                                          <p:spTgt spid="119">
                                            <p:txEl>
                                              <p:pRg st="0" end="0"/>
                                            </p:txEl>
                                          </p:spTgt>
                                        </p:tgtEl>
                                        <p:attrNameLst>
                                          <p:attrName>style.visibility</p:attrName>
                                        </p:attrNameLst>
                                      </p:cBhvr>
                                      <p:to>
                                        <p:strVal val="visible"/>
                                      </p:to>
                                    </p:set>
                                    <p:anim calcmode="lin" valueType="num">
                                      <p:cBhvr additive="repl">
                                        <p:cTn id="175" dur="5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76" dur="5000" fill="hold"/>
                                        <p:tgtEl>
                                          <p:spTgt spid="11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Dro to Ene                           </a:t>
            </a:r>
            <a:r>
              <a:rPr b="1" lang="en-US" sz="1200" spc="-1" strike="noStrike">
                <a:solidFill>
                  <a:srgbClr val="000000"/>
                </a:solidFill>
                <a:latin typeface="Calibri"/>
              </a:rPr>
              <a:t> Daniel D Drobnis, Earl G. Droessler, Mark Drolet, J P Droppleman, Richard A Drossler, John A. Drozd, Don A. Sibley, PhD, A J Druce Jr, James E. Drummond, PhD, Harry V Drushel, PhD, G L Dryden, PhD, Gil Dryden, PhD, Richard S Dryden, Murray Dryer, PhD, C F Duane, James L Dubard, PhD, Del R M Dubbs, PhD, E H Dubois, Louis Dubois, S C Dubios, Richard E Dubroff, PhD, William Dubroff, PhD, Scott Duncanson, Kenneth L Duck, Ronald H Duckstein, Jr, Leonard Duda, PhD, Patricia M. Duda, Ken Dudeck, Richard A Dudek, PhD, Thomas J Dudek, PhD, Howard Dudley, Kenneth Dudley, Thomas Dudley, Underwood Dudley, PhD, Joan Dudman, Roy Dudman, Roy Dudman, Dudt, PhD, Donald J Dudziak, PhD, Margaret Dudziak, Gregory A. Dueffert, Al Dueitt, Robert J Duenckel, R E Duernells, S. E. Duerr, Robert J Duery, Michael S Duesbery, PhD, C J Duet, Loring R. Duff, David Duffy, John C Duffey, V Duffy, PhD, William T Duffy, PhD, Kenneth Dufrane, Joseph Dufresne, Doyle Dugan, Edward Dugan, PhD, Leroy Dugan, PhD, Sean Dugan, Sherman Dugan, Raymond J Dugandzic, Terry Dughman, Jonathan Duhamel, Terry M Duhon, Donald T Duke, Harold R. Duke, PhD, Taylor Duke, William Duke, MD, William W Duke, MD, D Durkee, PhD, Gary R Dukes, PhD, Peter P Dukes, PhD, Marilyn Duke -Woodside, MD, John Dulchinos, Herbert M Dumas, Ronnie Dumire, Thomas Dumler, MD, Samuel M Dunaway Jr, Dougals Dunbar, Malcolm E Dunbar, Philip Gordon Dunbar, PhD, C M Duncan III, Charles L Duncan, PhD, Dean D Duncan, PhD, James D Duncan, Paul M. Duncan, R F Duncan, PhD, Peter L Duncanson, E B Dunckel, L Jean Dunegan, MD, Lawrence Dunegan, MD, James M Dunford, Henry Dunham, MD, Warren Dunkel, James Dunkelberg, Cleo Dunlap, Henry F Dunlap, PhD, R C Dunlap, Jr, James Dunlop, Howard Dunn, James Dunn, PhD, Joseph Dunn, MD, Larry Dunn, Michael Dunn, Neil Dunn, MD, Richard Dunn, Robert G Dunn Jr, George Dunnavan, Nora E Dunnell, John Ray Dunning, PhD, Kenneth L Dunning, PhD, Donol Dunstall, Harry E Duprey, Robert Dupriest, MD, Sidney Dupuy, MD, Michael L Duran, Wm N Durand, Arthur Durans, Frederick C Durant III, Dermot J Durcan, MD, Jack D Duren, Scott N Durgin, James A Durham, Marcus Durham, PhD, Mary Durick, James Durig, PhD, John Durig, Gordon B Durnbaugh, G Durocher, James A Durr, Sajjad Durrani, PhD, Jed Durrenberger, John Durrett, PhD, John B Duryea, W S Duryea, Edwin R Dusek, PhD, Martin Dusel, Forester J. Dusell, Richard Dusenbery, PhD, Sophie Dutch, Allen L Dutt, Chizuko M Dutta, PhD, Gary Dutto, D Dutton, Granville Dutton, A. J. Duvall, James Duvall, James Duvall, MD, PhD, Paul B Duvall, MD, Victor Duvall, MD, Jean Duvivier, Mark Duwe, Ernest J Duwell, PhD, James P Dux, PhD, Roger L Van Duyne, PhD, W P Duyvesteyn, PhD, George J Dvorak, PhD, Isaac Dvoretzky, PhD, Dushan Dvornik, PhD, Jeffrey L Dwiggins, Julian J Dwornik, PhD, Francis G Dwyer, PhD, John Dwyer, MD, John J Dwyer Jr, Michael Dwyer, Paul Dwyer, Alan C Dyar, Zbigniew Dybczak, PhD, Clifford D Dybing, PhD, David L Dye, PhD, Steven Dyer, Walter R Dyer, PhD, Cornelius Van Dyke, Owen Dykema, Lawrence Dykers, Roscoe A Dykman, PhD, Clifford Dykstra, PhD, J Robert Dynes, PhD, T Dzik, PhD, Philip J Dziuk, PhD, John Dzurino, Robert J Eagan, PhD, J. T. Eagen, Dr Joe R Eagleman, PhD, Joe R Eagleman, PhD, Bertram E. Eakin, PhD, Eric Earl, James Earle, O Keener Earle, Thomas Earles, Fred N Earll, PhD, R C Earlougher, R C Earlougher Jr, PhD, Donald R East, W S Easterling, PhD, John Eastlick, D B Easty, PhD, George W Eaton Jr, James H Eaton, John A Eaton, John R Eaton, Philip E Eaton, PhD, Thomas Eaton, PhD, Gordon Eballardyce, Robert Ebbers, MD, Kenneth Ebel, PhD, Dennis M Eben, John R Ebensberger, MD, John Eberhard, William T Eberhard, William E Eberhardt, Gary Eberly, Jae Ebert, Floyd Eberts, PhD, DP Ebright, Lawrence T Eby, PhD, Bernard Ecanow, PhD, Anita Eccles, Anita Eccles, Andrew Van Echo, Joseph T Echols, Dana A Echter, Alieta Eck, MD, Richard Eck, C Eckels, Michael T Eckert, B J Eckholdt, Charles Eckman, Jeffrey D Eckstein, Lee W. Eddington, Bobby R Eddleman, PhD, Carrie Eddy, Dale P Eddy, Fred Edelman, Howard Edelson, Jack Eden, PhD, Richard C Eden, PhD, W Kent Eden, Jim Edgar, Charles K Edge, PhD, Janes M. Edgecombe, Robt Edgerton, PhD, Steven Edgerton, John Edgington, Don Edington, Allen Edison, PhD, George R Edlin, PhD, Paul Edmiston, PhD, George F Edmonds Jr, Stephen W Edmondson, MD, Nathan Edmonson, PhD, Ronald K Edquist, President, John A Edward, Lay Edward, Jr, Charles Edwards, Charlie Edwards, David F Edwards, PhD, Eugene H Edwards, PhD, J. Gordon Edwards, PhD, Joseph F Edwards, Robert L Edwards, William R Edwards, Jozef W Eerkens, PhD, Howard Egan, PhD, Maurice Egan, PhD, Thomas Egan, Weldon T Egan, MD, Paul Egbers, Robert Egbers, Wm F Egelhoff, PhD, Jason Egelston, Eric Eggelston, James P Egger, Janet Eggers, Leon Eggers, Bernard Eggert, David Eggert, Donald A Eggert, PhD, Robert J Eggert Sr, Eggleston, PhD, Peter Egli, Richard Egly, PhD, John Ehlen, Kenneth W Ehlers, PhD, Steven Ehlinger, C D Ehrardt Jr, William Ehringer, PhD, Dion R Ehrlich, MD, H P Ehrlich, PhD, I R Ehrlich, PhD, Paul E Ehrlich, PhD, Sandra Ehrlich, Walter Eich, Robert Eichelberger, PhD, William H Eichelberger, Paul Eichenberger, Val L Eichenlaub, PhD, Gerald Eichhoefer, PhD, Jacob Eichhorn, PhD, Peter M Eick, M Kathryn Eickhoff, Donald I Eidemiller, PhD, Gerald I Eidenberg, Robert Eidsvoog, Barry Eikmann, Dean Eiland, Kendrick R Eliar, PhD, Keith Eilers, Gary L Eilrich, PhD, Jack Einkopf, Dean W Einspahr, PhD, Kurt F Eise, Paul Eisele, PhD, H Richard Eisenbeis, Joseph J Eisenhuth, PhD, George Eisenman, MD, Tom Eisenmenger, David Eitman, Nancy Ekart, Darrel L Eklund, PhD, Wayne Eklund, Jokomo A Ekpaha-Mensah, MD, James Ekstrand, J. David Ekstrum, Guindy Mahmoud Ismail El, PhD, Jack Elam, PhD, Dennis Eland, Richard E Elden, Robert Elder, Klaus E Eldridge, PhD, Robt M Eldridge, Jack R Elenbaas, James Eley, PhD, Tricia Elgavish, Gabriel Elgavish, PhD, Rotem Elgavish, Sam Elhoe, George Eliades, Thomas Eliaren Jr, Abdalla M. Elias, Hans Elias, PhD, Luis R Elias, PhD, John Elkin, Michael J Elkind, James Elkins, Lloyd E Elkins, Rush E Elkins, PhD, Jesse G Ellard, Chris Ellefson, Henry J Ellenbast Jr, William J Ellenberger, Arthur Eller, PhD, Howard Lyman Ellinwood, PhD, M Edmund Ellion, PhD, Douglas G Elliot, PhD, John Elliot, John Elliot, Alice E. Elliott, PhD, Alice Elliott, PhD, Bruce Elliott, PhD, Gary Elliott, Howard C Elliott, PhD, John Elliott, John Elliott, Lloyd S Elliott, Mark H Elliott, Robert D Elliott, Rodger L Elliott, Ronald Elliott, Ted Elliott, W S Elliott, William H Elliott Jr, Andrew E Ellis, Arthur Ellis, David A Ellis, PhD, David Ellis, Donald A Ellis, Edison Ellis, Everett L Ellis, PhD, Frampton F Ellis, Jr, James L. Ellis, Keith S Ellis, Paul J Ellis, PhD, Richard J Ellis, PhD, Robert Ellis, MD, Robert W Ellis, PhD, Scott Ellis, Walter D. Ellis, PhD, Walter H Ellis, Simon Ellomary, MD, James O. Ellis, Hugh W Ellsaesser, PhD, K Donald Ellsworth, Edward Elmer, MD, Joe Elmer, Andy Elms, Sandy Elms, Howard G Elrlich, PhD, David Elrod, PhD, Shaker El-Sherbini, PhD, Lamont Eltinge, PhD, William K Elwood, DDS, George F Emch, Donald W Emerich, PhD, George Emerle, Edgar Emery, Edward Emery, PhD, Frank Emery, PhD, Louis Emery, PhD, Philip A Emery, Philip H Emery Jr, PhD, Matt Emison, William B Emke, Calvin W Emmerson, John L Emmerson, PhD, Frederick Emmons, Richard Emmons, Amsrl-Is-Ew, Youichi Endo, PhD, E W Endzel, Frank Ene</a:t>
            </a:r>
            <a:endParaRPr b="0" lang="en-US" sz="1200" spc="-1" strike="noStrike">
              <a:solidFill>
                <a:srgbClr val="000000"/>
              </a:solidFill>
              <a:latin typeface="Calibri"/>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8">
                                  <p:stCondLst>
                                    <p:cond delay="0"/>
                                  </p:stCondLst>
                                  <p:childTnLst>
                                    <p:set>
                                      <p:cBhvr>
                                        <p:cTn id="182" dur="1" fill="hold">
                                          <p:stCondLst>
                                            <p:cond delay="0"/>
                                          </p:stCondLst>
                                        </p:cTn>
                                        <p:tgtEl>
                                          <p:spTgt spid="120">
                                            <p:txEl>
                                              <p:pRg st="0" end="0"/>
                                            </p:txEl>
                                          </p:spTgt>
                                        </p:tgtEl>
                                        <p:attrNameLst>
                                          <p:attrName>style.visibility</p:attrName>
                                        </p:attrNameLst>
                                      </p:cBhvr>
                                      <p:to>
                                        <p:strVal val="visible"/>
                                      </p:to>
                                    </p:set>
                                    <p:anim calcmode="lin" valueType="num">
                                      <p:cBhvr additive="repl">
                                        <p:cTn id="183" dur="5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repl">
                                        <p:cTn id="184" dur="5000" fill="hold"/>
                                        <p:tgtEl>
                                          <p:spTgt spid="12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Ene to Fis                            </a:t>
            </a:r>
            <a:r>
              <a:rPr b="1" lang="en-US" sz="1200" spc="-1" strike="noStrike">
                <a:solidFill>
                  <a:srgbClr val="000000"/>
                </a:solidFill>
                <a:latin typeface="Calibri"/>
              </a:rPr>
              <a:t>Norman H Enestein, PhD, A M Engebretson, PhD, Richard J Engel, Albert Engelhardt, PhD, Alvin Engelke, Charles E Engelke, PhD, Raymond Engelke, PhD, L R Engelking, PhD, Franz Engelmann, PhD, John E Engelsted, PhD, John Egenolf, PhD, Gary England, Donald D Engle, Larry Engle, Mike S Engle, W Engle, Charles F Engles, Kenneth English, Kim English, Robert W English, Arthur E Englund, David Engwall, PhD, Gerard Enigk, T Enloe, John Joseph Ennever, DDS, Richard Enoch, Nancy Enright, Dale Ensminger, Leonard E Ensminger, PhD, Roger C Entringer, PhD, Bruce K Entwisle, Lawson Entwistle, Bruce Enyeart, John W Enz, PhD, Debra A Ephraim, Jack F Epley, R L Epling, Gilbert K Eppich, Jay Eppink, Jeffrey F Eppink, Richard A Eppler, PhD, Thomas Eppler, PhD, J Michael Epps, MD, Seymour Epstein, PhD, Robert Allan Erb, PhD, John K Erbacher, PhD, Eric A Erber, William Erby, PhD, George E Erdman, John Erdmann, Robert D Erhardt Jr, Albert Erhert III, Rick L. Ericksen, Alexander Erickson, Alvin Erickson, Amy Erickson, Andy C Erickson, Curt Erickson, Harold P Erickson, PhD, John G Erickson, PhD, Joshua A Erickson, Karl L Erickson, PhD, Richard Erickson, PhD, Ted Erickson, Roger Erickstad, Roger Eriekson, Klaas Eriks, PhD, Jack Eriksen, Jan Erikson, PhD, Jay A Erikson, PhD, Mary J Erikson, Lars Eriksson, Christine Erkkila, Paul Erlandson, PhD, Eric P Erlanson, Paul Ermlich, Franklin Enrest, Charles M Ernst, F H Ernst Jr, MD, Franklin Ernst, George W Ernst, PhD, Harry Ernst, Richard Erpelding, MD, Christopher F Erskine, James L Erskine, PhD, Robert Erskine, Don R Erwin, James V Erwin, R W Erwin, Ed Escallon, John T. Eschbaugh, Theodore W Esders, PhD, Paul H Eshenaur, Brenda Eskelson, Rodney L Eson, Ralph H Espach, William Espander, PhD, Edward B Espenshade, Ramon Espino, PhD, Terry Ess, Robert H Essenhigh, PhD, Ed Essick, Alvin Essig, MD, FR Estabrook, James Estep, PhD, Daniel Esterline, PhD, Edward R Estes, John H Estes, PhD, Frances C Esteve, Juliette Estevez, Dean Ethridge, PhD, S Etter, Steve Eudy, Neil Eurick, Robert H Eustis, PhD, Wm Henry Eustis, PhD, Albert Edwin Evans, PhD, Charles A Evans, PhD, Charles Evans, Charles R Evans, Claudia T Evans, PhD, David H Evans, PhD, Douglas A Rees- Evans, George Evans, Howard E Evans, PhD, James A Evans, James Evans, MD, Kenneth R Evans, Leonard Evans, PhD, Marjorie W Evans, PhD, Philip Evans, R Evans, Ralph A Evans, PhD, Rick Evans, Roger Evans, MD, Scott Evans, Stewart Evans, Thomas Walter Evans, PhD, W E Evans, Wm Evans, Earle Evavold, Harmon Edwin Eveland, PhD, Phyllis Eveleth, PhD, F Monte Evens, PhD, A Gordon Everett, PhD, James L Everett, Robert Everett, PhD, Robert Everett, Robert H Everett, Woodrow W Everett, III, Martin E Everhard, MD, PhD, Donald L Everhart, PhD, Craig Evers, PhD, Ed Eves, Don Evinger, James J Ewers, Ted Eyde, Richard Eyler, Ed Eyring, Eugene Eyster, PhD, Herman A. Fabert, Thomas J Fabish, PhD, Edward A Fabrici, Martin L Fackler, MD, Atir Fadhli, PhD, Joseph P Fagan Jr, David R Fagerburg, PhD, Dennis E Fagerstone, K Marshall Fagin, Gary A Fahl, Mr F R Fahland, Stephen R Fahnestock, PhD, Carl Fahrenkrugh, Richard B Lai Fatt, PhD, Thomas Fails, Thomas G Fails, James R Fair, Jr, PhD, John C Fair, PhD, Michael Fairbourne, Paul C Fairchild, Diane Faist, Dennis A Falgout, PhD, Arthur Falkler, John B Fallon, Peter Fallon, DDS, Leonard S Falsone, Donald Fancher, PhD, Robert E Fankhauser, Ken Fann, Don Fanslow, PhD, Robert S Fant, Steve Fanto, MD, Farber, Earl Faria, Helen Faria, Miguel A Faria Jr, MD, Miguel A Farica, MD, Joseph Farinelli, Anthony L Farinola, Marc Fariss, PhD, Robert H Fariss, PhD, Charles Farley, John M Farley, Bruce Farlwald, Allan G Farman, PhD, B L Farmer, MD, Gary Farmer, DVM, Kenneth K Farmer, Mike Farmer, Robert Farmer, Ron Farmer, W Michael Farmer, PhD, Ollie Farnam, William J Farnen, Frank Farnham, Mark Farnham, MD, Willard Farnham, Wells Fransworth, PhD, Michael Farona, PhD, Charles H Farr, MD, Pauline Farr, Sd Farrar, Charles Farrell, PhD, David Farrell, PhD, Eugene P Farrell, Gregory A Farrell, Robert P Farrell, William Farrell, MD, Thomas Farrior, Billie Farris, Geo Farwell, PhD, David Fashimpaur, Gerald Fassell, Charles Fassnacht, Arlo W Fast, PhD, Michael A Faten, Dennis C Fater, PhD, Charles R Faulders, PhD, Theodore Faulders, David Faulkinberry, Homer D Fausch, PhD, Claude Marie Faust, PhD, Donald Faust, MD, Ernest H Faust, Jerry W Faust, S R Faust Jr, Anthony J Favale, Felix Favorite, PhD, John R Favorite, Art Favre, Sherwood Fawcett, PhD, Patrick M Fay, Robert Fay, Robt Fay, PhD, James Fayard, Gene R Feaster, PhD, C Featherston, Donald P Featherstone, Katherine B. Featherstone, Henry A Feddern, PhD, Enrico T Federighi, PhD, Mary J Fedor, James Fedrich, PhD, John C Feeley, PhD, A N Feellemifer, Pierce Feenstra, Gary Z Fehrmann, J D Feichtner, PhD, J Roberto Feige, Abraham S Feigenbaum, PhD, Michael Feil, Tom Feil, Harvey L Fein, PhD, Matthew Fein, George Feinbaum, MD, J S Feinstein, Louis Feinstein, PhD, Robert Feisel, David M Feit, Martin Felicita, Hank Feldstein, PhD, Bill Feldt, Leonard S Feldt, PhD, Lincoln Felkins, Joe T Fell, Archie D Fellenzer, Jr, D Feller, PhD, Mark Fellner, William J Felmlee, William O Felsmon, Ronald L Felsted, PhD, Michael J Feltes, Lorie M Felton, Steve Fenderson, Robert Fenech, Patrick Fenelon, John Fenger, MD, Richmond Fenn, Robert W Fenn, PhD, Edward L Fennell, V Hayes Fenstermacher, Ronald W. Fenstermaker, Donald Fenton, PhD, John Fenton, PhD, Robt B Fenwick, PhD, WJ Fergerson, Andrew Fergus, Courtney S Ferguson, PhD, D Bryan Ferguson, Dave D Ferguson, David Ferguson, PhD, Donald Ferguson, FW Ferguson Jr, Howard Ferguson, John Ferguson, Keith Ferguson, Robert Ferguson, Robert Ferguson, Richard L Ferm, PhD, Arthur T Fernald, PhD, John H Fernandes, PhD, Rene Fernandez, Verno Fernandez, PhD, Steve Ferraro, Charles M Ferrell, William James Ferrell, PhD, Jorge Ferrer, Craig Ferris, William P Fertall, Wm A Fessler, PhD, Dale A Fester, Jerry Fetter, Edward M Fettes, PhD, Kenneth Feucht, MD, Robt M Feuss, H Richard Fevold, PhD, John A. Feyk, Virgil Ficarra, MD, Herbert J Fick, Marian Fickbohm, Bruce Ficken, Joseph Fidler, PhD, Richard Fidsihun, Bradley J Field, Byron D Field, Cyprus W Field, PhD, Harry L Field, PhD, Jack Field, PhD, James R Field, MD, Ray Field, PhD, Thomas Field, PhD, H T Fielding, Franklin E Fields, Joshua A Fierer, MD, John Fierke, Paul L. Figel, Tim Figgie, Wm Guiterrez Figueroa, MD, Prof Roy H Filby, PhD, Alexandra T Filer, Theodore H Filer, PhD, Tom Filesi, Terence M Filiplak, Warren FilleyFilley, MD, O. Wayne Fillingame, William Filmer, Carmen Fimiani, Charles Richard Finch, PhD, David Finch, R D Finch, PhD, Norton E Fincher, D Findorff, Robert Findorff, Martin Finerty Jr, Alvin W Finestone, MD, D.M. Fink, James Fink, PhD, Joanne K Fink, PhD, John B Fink, PhD, Richard P Fink, Reinald G Finke, PhD, Barney Finkel, MD, Paul Finkelstein, PhD, Robert E Finken, Charles Finkl, PhD, Peter S Finlay, PhD, Charles Finley, PhD, Frances M Finn, PhD, John M Finn, PhD, Margaret Finn, Martha Finney, Frederick T Finnigan, Lou Fintor, James Fiordalisi, PhD, Ross F Firestone, PhD, David A Firmage, Harlan I Firminger, MD, Melvin Wm First, PhD, Arnold G Fisch, Bryant C Fischback, David Fischel, PhD, Dwayne Fischer, PhD, Grace Mae Fischer, MD, Grahme Fischer, Leon Fischer, PhD, Patrick C Fischer, PhD, William G Fischer, Thomas L Fischetti, John Fischley, Steve Fiscor, Bruce Fiscus, David Fish, Elson Fish, Ferol F Fish, PhD, GL Fish, Gordon H Fish, Roger W Fish, Wayne W Fish, PhD, J W Fishback I I, Gerald R Fishe, Ken Fishel, Donald Fisher</a:t>
            </a:r>
            <a:endParaRPr b="0" lang="en-US" sz="1200" spc="-1" strike="noStrike">
              <a:solidFill>
                <a:srgbClr val="000000"/>
              </a:solidFill>
              <a:latin typeface="Calibri"/>
            </a:endParaRPr>
          </a:p>
        </p:txBody>
      </p:sp>
    </p:spTree>
  </p:cSld>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8">
                                  <p:stCondLst>
                                    <p:cond delay="0"/>
                                  </p:stCondLst>
                                  <p:childTnLst>
                                    <p:set>
                                      <p:cBhvr>
                                        <p:cTn id="190" dur="1" fill="hold">
                                          <p:stCondLst>
                                            <p:cond delay="0"/>
                                          </p:stCondLst>
                                        </p:cTn>
                                        <p:tgtEl>
                                          <p:spTgt spid="121">
                                            <p:txEl>
                                              <p:pRg st="0" end="0"/>
                                            </p:txEl>
                                          </p:spTgt>
                                        </p:tgtEl>
                                        <p:attrNameLst>
                                          <p:attrName>style.visibility</p:attrName>
                                        </p:attrNameLst>
                                      </p:cBhvr>
                                      <p:to>
                                        <p:strVal val="visible"/>
                                      </p:to>
                                    </p:set>
                                    <p:anim calcmode="lin" valueType="num">
                                      <p:cBhvr additive="repl">
                                        <p:cTn id="191" dur="5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92" dur="5000" fill="hold"/>
                                        <p:tgtEl>
                                          <p:spTgt spid="12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Picture 5" descr="Fig_06_Temperature_Fluctuation_Comparisons.tif"/>
          <p:cNvPicPr/>
          <p:nvPr/>
        </p:nvPicPr>
        <p:blipFill>
          <a:blip r:embed="rId2"/>
          <a:stretch/>
        </p:blipFill>
        <p:spPr>
          <a:xfrm>
            <a:off x="4846680" y="609480"/>
            <a:ext cx="3840120" cy="2743200"/>
          </a:xfrm>
          <a:prstGeom prst="rect">
            <a:avLst/>
          </a:prstGeom>
          <a:ln w="0">
            <a:noFill/>
          </a:ln>
        </p:spPr>
      </p:pic>
      <p:sp>
        <p:nvSpPr>
          <p:cNvPr id="59" name="TextBox 6"/>
          <p:cNvSpPr/>
          <p:nvPr/>
        </p:nvSpPr>
        <p:spPr>
          <a:xfrm>
            <a:off x="914400" y="3733920"/>
            <a:ext cx="7467480" cy="2714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2800" spc="-1" strike="noStrike">
                <a:solidFill>
                  <a:srgbClr val="000000"/>
                </a:solidFill>
                <a:latin typeface="Calibri"/>
              </a:rPr>
              <a:t>The temperature change during the entire past 3,000 years would have essentially no effect on the melting rate of Susie’s ice cream cone. </a:t>
            </a:r>
            <a:endParaRPr b="0" lang="en-US" sz="2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verage United States temperature changed 0.5 degrees C during the past century – 1% of the ordinary range in Oregon</a:t>
            </a:r>
            <a:r>
              <a:rPr b="1" lang="en-US" sz="3200" spc="-1" strike="noStrike">
                <a:solidFill>
                  <a:srgbClr val="000000"/>
                </a:solidFill>
                <a:latin typeface="Calibri"/>
              </a:rPr>
              <a:t>.</a:t>
            </a:r>
            <a:endParaRPr b="0" lang="en-US" sz="3200" spc="-1" strike="noStrike">
              <a:solidFill>
                <a:srgbClr val="000000"/>
              </a:solidFill>
              <a:latin typeface="Calibri"/>
            </a:endParaRPr>
          </a:p>
        </p:txBody>
      </p:sp>
      <p:pic>
        <p:nvPicPr>
          <p:cNvPr id="60" name="Content Placeholder 7" descr="Fig_01_Sargasso_Sea.tif"/>
          <p:cNvPicPr/>
          <p:nvPr/>
        </p:nvPicPr>
        <p:blipFill>
          <a:blip r:embed="rId3"/>
          <a:stretch/>
        </p:blipFill>
        <p:spPr>
          <a:xfrm>
            <a:off x="838080" y="609480"/>
            <a:ext cx="3840120" cy="27432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Fis to Gab                               </a:t>
            </a:r>
            <a:r>
              <a:rPr b="1" lang="en-US" sz="1200" spc="-1" strike="noStrike">
                <a:solidFill>
                  <a:srgbClr val="000000"/>
                </a:solidFill>
                <a:latin typeface="Calibri"/>
              </a:rPr>
              <a:t>Ed Fisher, Geo H Fisher, PhD, John B Fisher, PhD, John Fisher, PhD, John I Fisher, Philip C Fisher, PhD, Reed E Fisher, Richard Fisher, MD, Robt D Fisher, MD, Russell L Fisher, MD, William Gary Fisher, William R Fisher, MD, Arthur Fishkin, William H Fishman, PhD, John D Fisk, MD, Glenn Fisseler, David Fitch, Richard A Fitch, Wade Fite, PhD, Travis G Fitts Jr, Gregory N Fitzgerald, J Ed Fitzgerald, PhD, James J Fitzgerald, John J Fitzgerald, Kevin G Fitzgerald, Mark R Fitzgerald, MD, Marlow Fitzgerald, Peter A Fitzgerald, Donna Fitzpatrick, Francis Fitzpatrick, Hugh M Fitzpatrick, James L Fitzpatrick, William J Fitzpatrick, PhD, James W Fitzsimmons, MD, Richard Fixott, DDS, Klaus Flach, PhD, Leonard Flachman, Werner E Flacke, MD, John F Flagg, PhD, Robert F Flagg, PhD, Gary Flandro, PhD, Michael Flanigan, Adrian Ede Flatt, PhD, C D Flatt, Eugene Flaumenhaft, PhD, Stephen W Flax, PhD, RM Fleig, Charles W Fleischmann, PhD, Alison Fleming, PhD, Bruce Ingram Fleming, PhD, Clarence Fleming, Fred F Fleming, Jr, Harry Fleming, Julius Fleming, Alvin Flesher, Dean G Fletcher, Gordon D Fletcher, James Fletcher, MD, James R Fletcher, John E Fletcher, PhD, R E Fletcher, Thomas H Fletcher, PhD, James Fleur, Robert Flicker, William Flis, James L Flocik, Harold W Flood, Peter Flood, Jose Flores, PhD, Richard J Flores, Leon W Florschuetz, PhD, Robert W Flournoy, PhD, Daniel F Flowers, PhD, David Flowers, G Flowers, PhD, Jay E. Floyd, Paul Floyd, Lowell R Flud, John Flynn, Roger Flynn, PhD, Anthony H Foderaro, PhD, Edward Gotthard Foehr, PhD, Gary R Foerster, Michael Fogarty, Irving M Fogel, Timothy Fohl, PhD, Robert R Foil, PhD, James E Foley, James Foley, Jay Foley, Jeffrey Foley, Thomas P. Foley, Will Foley, William M Foley, John E Folk, PhD, Jay E Folkert, PhD, John Folliott, Foltz, MD, Paul V Fonnesbeck, PhD, Darryl Fontaine, MD, James Fontaine, Marc E Fontaine, PhD, Martin M Fontenot, Herman Fonteyne, John T Foorley, PhD, Robert Foos, MD, DVM, K Randy Foote, Robert Foote, Wilford Foote, PhD, Allan L Forbes, MD, Janie Forbes, Michael S Forbes, PhD, Phillip B.Forbes, Daniel Forbush, Dale Force, George E Ford, PhD, George H. Ford, J Ford, PhD, Kenneth Ford, Partick Ford, R Ford, PhD, Roger G Ford, PhD, Thoams Ford, PhD, Wallace W Ford, William Ford, PhD, James L Fordham, Edmund H Fording, Jr, President, Samuel W Fordyce, Steve Fordyce, John W. Foreman, Wm F Foreman, Edward Forest, PhD, Robert T. Forest, J M Forgotson Jr, James M Forgotson, PhD, John Forman, Eugene J Fornefeld, PhD, Bob Fornell, Albert J Forney, Bill Forney, Bobby Forrester, R C Forrester III, PhD, Marion E Forsman, PhD, Denis Forster, PhD, Michael Forster, PhD, John Forsyth, PhD, Raymond A Forsyth, Donald J Foss, Dennis Fost, PhD, C R Foster, Charles Foster, Cy E Foster, D R E M Foster, PhD, Donald M Foster, PhD, Gerald Foster, PhD, Helen Laura Foster, PhD, Irving S Foster, PhD, J S Foster, James Foster, John A Foster, Mac Foster, PhD, Norman C Foster, PhD, R Foster, MD, Randall Foster, Robt John Foster, PhD, Scott Foster, Stanley L Foster, Walter E Foster, PhD, Marilyn Fotheringham, William A Fotheringham, Daniel Foty, PhD, George Fournier, Chris Fountain, PhD, Doyle F Fouquet, Nancy Fournoy, PhD, James D Foust, PhD, Thomas Fowke, Elliott Fowkes, PhD, Dan Fowler, Eric B Fowler, PhD, Frank C Fowler, PhD, Gary D Fowler Jr, James Fowler, Jutta Fowler, Louis H Fowler, Mark Fowler, Mike Fowler, Grant R Fowles, PhD, Dwaine Fowlkes, Bennett R Fox, Corri Fox, David Wm Fox, PhD, Earl Fox, Forrest L Fox, G Sidney Fox, Gerald Fox, Irving H Fox, MD, J Fox, James M Fox, Joseph Fox, Michael R. Fox, PhD, Mike Fox, Neil S Fox, PhD, Philip Fox, Russell E Fox, PhD, James J Foy, PhD, Wade Foy, PhD, Stephen J Fraenkel, PhD, Walter J Frajola, PhD, David Fraley, PhD, Donald Frames, Roger Frampton, PhD, Matthew France, Lee Francis, R D Francis, PhD, Michael S Francisco, Ron Francken, Elsa Franco, Guy J Del Franco, Bruce A Frandsen, John Frangos, Allan J Frank, Anne Frank, Charles E Frank, PhD, Charles Frank, Clifford Frank, Lowell Frank, R S Frank, Victor R Frank, Steve Frankamp, Gordon Franke, PhD, Julian Frankenberg, PhD, William Frankl, MD, Bill Franklin, James M Franklin, Paul Franklin, S. Burce Franklin, PhD, Neal E Franks, PhD, Martin S Frant, PhD, Andrew G Frantz, Bruce Frantz, Douglas Frantz, W Frantz, Gunter Franz, PhD, Warren L Franz, PhD, Daniel W Frascella, PhD, Lewis G Frasch, Donald Fraser, MD, Margaret S Fraser, PhD, Harry D Frasher, Lisa Frasson, Frank E Frawley Jr, Nile N Frawley, PhD, R Thomas Frazee, Marchall E Frazer, PhD, Don W Frazier, George E. Frazier, James Frazier, Jim Frazier, Randy Frazier, Richard Frazier, Roger Frazier, Stephen E Frazier, PhD, William R Frazier, Andrew Frebong, Kenneth R Frech Jr, Dpa, PhD, Richard Frechette, E L Freddolino, Raymond Frederici, Daniel Frederick, Donald A Frederick, Ghislaine Frederick, PhD, John Frederick, Lloyd R Frederick, PhD, Robert Frederick, Theodore A Fredericks, Bernard A Free, Max Freeland, PhD, Ernest R Freeman, James F Freeman, PhD, Joe Freeman, Reola L Freeman, Wallace L Freeman, PhD, Walter J Freeman, MD, William E. Freeman, Richard Freen, Burlin E. Freeze, Walter F Freiberger, PhD, Emil J Freireich, MD, Stephen M Fremgen, Benjamin Fremming, DVM, Jeffrey French, Kenneth French, PhD, Kenneth French, PhD, LL French, Lloyd A French, Samuel E French, PhD, Scott French, William S French, PhD, Melvin Frenzel, Michael Frese, PhD, Roman Fresnedo, PhD, Melchior Freund, Stephen R Frew, Charles Frey, Donald N Frey, PhD, Frey, Wilfred Freyberger, PhD, Robert Friar, PhD, Arthur L Fricke, PhD, Edwin F Fricke, PhD, Marion T Friday, Vance H Fried, Dick Freiden, Gilbert Friedenreich,Pe, Jim V Friederick, Joe Fiedlander, Gerald M Friedman, PhD, Herbert Friedman, PhD, Joel Friedman, Paul Friedman, MD, Raymond Friedman, PhD, Samuel Friedman, Serena Friedman, MD, H Friedmann, Herbert C Friedmann, PhD, Inge Friedrich, MD, S Scott Frielander, Edward Friend, Dwayne T Friesen, PhD, Friess, Charles R Frink, PhD, Fripiat, PhD, H Howard Frisinger, PhD, Harry K Fritchman, PhD, John Frith, J M Fritschy, Gerald E Fritts, Marshall Fritz, Alfred K Fritzche, PhD, Tom Fritzke, Herbert Farley Frolander, PhD, Norm Froman, Joseph Fromme, David Fromson, PhD, U George Frondorf, Glenn W Froning, PhD, H R Froning, PhD, Wm Frontman, PhD, Arthur A Frost, PhD, John Frost, PhD, Richard L Frost, PhD, Eugene Frowe, S W Fruehling, David H Fruhling, Si Frumkin, Charles Fry, PhD, Earl Fry, Eric Fry, Keith Fry, Keith Fry, PhD, Ronald S Fry, William K Fry, Charles Frye, George Fryzelka, Maryann Fuchs, Michael L Fudge, Alfred E Fuehs, Robert Fugrer, Jim Fuhr, F A Fuhrman, PhD, J E Fuikerson Jr, Masanobu R Fujioka, Norihiko Fukuta, PhD, Roland C Fulde, PhD, William Terry Fuldner, Robert S Fulghum, PhD, Robert Fulks, Charles Fuller, Forst D Fuller, PhD, Patricia Fuller, Roger Fuller, Ron Fuller, Thomas Fuller, Willard P Fuller Jr, Charles Fulmer, PhD, Michael S Fulp, Joe Fulton, Robert B. Fulton, PhD, Robert Fulton, PhD, Dennis L Funck, PhD, Robert Fundali, PhD, Jordan Funk, Lawrence Funkhouser, B L Funt, PhD, Harold Fuquay, Francis S Furbish, PhD, Joseph T Furey, Robert Furman, MD, Thomas C Furnas Jr, PhD, R W Furner, Richard Furr, MD, Richard T Furrer, James B Furrh Jr, Benjamin K Furry, Furst, Gabriel Fusco, PhD, Dionel Fuselier, Nelson Fuson, PhD, Ronald M Fussell, Floyd Fusselman, Dennis J Fuster, John Fuzek, PhD, George Fyplick, PS Gaal, PhD, Steven A Gaal, PhD, George Gabanski, Sabit Gabay, PhD, F Gabbard, PhD, Morris Gabel, Richard A Gabel, PhD, Ron Gabel, Ronald Gabel</a:t>
            </a:r>
            <a:endParaRPr b="0" lang="en-US" sz="1200" spc="-1" strike="noStrike">
              <a:solidFill>
                <a:srgbClr val="000000"/>
              </a:solidFill>
              <a:latin typeface="Calibri"/>
            </a:endParaRPr>
          </a:p>
        </p:txBody>
      </p:sp>
    </p:spTree>
  </p:cSld>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8">
                                  <p:stCondLst>
                                    <p:cond delay="0"/>
                                  </p:stCondLst>
                                  <p:childTnLst>
                                    <p:set>
                                      <p:cBhvr>
                                        <p:cTn id="198" dur="1" fill="hold">
                                          <p:stCondLst>
                                            <p:cond delay="0"/>
                                          </p:stCondLst>
                                        </p:cTn>
                                        <p:tgtEl>
                                          <p:spTgt spid="122">
                                            <p:txEl>
                                              <p:pRg st="0" end="0"/>
                                            </p:txEl>
                                          </p:spTgt>
                                        </p:tgtEl>
                                        <p:attrNameLst>
                                          <p:attrName>style.visibility</p:attrName>
                                        </p:attrNameLst>
                                      </p:cBhvr>
                                      <p:to>
                                        <p:strVal val="visible"/>
                                      </p:to>
                                    </p:set>
                                    <p:anim calcmode="lin" valueType="num">
                                      <p:cBhvr additive="repl">
                                        <p:cTn id="199" dur="50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repl">
                                        <p:cTn id="200" dur="5000" fill="hold"/>
                                        <p:tgtEl>
                                          <p:spTgt spid="12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txBox="1"/>
          <p:nvPr/>
        </p:nvSpPr>
        <p:spPr>
          <a:xfrm>
            <a:off x="457200" y="609480"/>
            <a:ext cx="8229600" cy="5516640"/>
          </a:xfrm>
          <a:prstGeom prst="rect">
            <a:avLst/>
          </a:prstGeom>
          <a:noFill/>
          <a:ln w="0">
            <a:noFill/>
          </a:ln>
        </p:spPr>
        <p:txBody>
          <a:bodyPr anchor="t">
            <a:normAutofit fontScale="74000"/>
          </a:bodyPr>
          <a:p>
            <a:pPr marL="253800" indent="-2538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Gab to Gla                           </a:t>
            </a:r>
            <a:r>
              <a:rPr b="1" lang="en-US" sz="1200" spc="-1" strike="noStrike">
                <a:solidFill>
                  <a:srgbClr val="000000"/>
                </a:solidFill>
                <a:latin typeface="Calibri"/>
              </a:rPr>
              <a:t>John Gabelman, PhD, Robt E Gabler, PhD, L H Gabro, Deon E Gaddy, Frank Gaddy, Jim Gadwood, Tommy Grady, Gaffney, Lanelle G Gafford, PhD, Gaffrey, MD, Frederick W Gage, James Gage, Steven R Gage, Richard Gaggioli, PhD, Joe Gagliardi, Thomas R Gagnier, A Gahr, PhD, Wayne Gahwiller, Tinsley P Gaines, Bruce Gaither, Douglas Gaither, John Gaither, George Gal, PhD, Gustavo E Galante, MD, Eugene Galanter, PhD, Robt G Galazin, Quentin Galbraith, John Galbreath, John L Galbreath, Charles Gale, Harold W Gale, PhD, Joseph Galeb, PhD, Louis Galie, John P Galien, Patrick S Galkuska, Stanley A Gall, MD, John H Galla, MD, Frank P Gallagher III, Jack Gallagher, PhD, James Gallagher, PhD, Joan S Gallagher, PhD, John Gallagher, PhD, Joseph W. Gallagher, PhD, Donald L Gallaher, A Ronald Gallant, PhD, Paul Galli Jr, Peter Galli, Charles Gallina, PhD, Charles Gallina, PhD, Roger W Gallington, PhD, Francis M Gallo, Charles R Galloway, Daniel L Galloway, Ethan C Galloway, PhD, Darrell Gallup, PhD, William A. Gallus, Jr, PhD, Yakob Galperin, PhD, Gary Galyardt, David Gambal, PhD, James J Gambino, Michael L Gamblin, Tom Gambon, Gerald Gambs, Bernard Wm Gamson, PhD, Perry S Ganas, PhD, Harendra S Gandhi, PhD, Charles Gandy, Charles Gandy, Harvey M Gandy, Daniel Ganey, A K Ganguly, PhD, Mary C Gannon, PhD, Stephen J Ganocy, Carl Ganseivity, Joseph E Gantz, Scott Garbarino, Allen J Garber, Floyd Wayne Garber, PhD, Richard H Garber, PhD, S Paul Garber, Tom Garbin, George F Garcelon, C M Garcia, Celso Raymon Garcia, MD, David Garcia, Hector Garcia, PhD, Paul W Gard Jr, Jay Gardiner, Edward E Gardner, PhD, Harry E Gardner Jr, Homer Gardner, Jack Gardner, Kent Gardner, Tony Gardner, Wayne Scott Gardner, PhD, Ernest Gardow, PhD, D Garett, Walter F Garey, PhD, Albert S Garfalo, Wm L Garbrecht, PhD, Jerry Gargulak, PhD, Joseph F Garibotti, PhD, Thomas Gariety, Clyde H Garman, Donald D Garman, Robt H Garmezy, Ronald G Garmon, PhD, Charles R Garner, H Richard Garner, Hessle F Garner, PhD, Jay M Garner, Norman Garner, PhD, R. Dale Garner, Robt J Garner, Jeanette Garr, PhD, Alfred J Garrett, PhD, Johathan Garrett, Marc Garrett, R I Garrett, Thomas M Garrett, PhD, Don Garrison, Robert G Garrison, PhD, Ronald Garrison, Larry J Garside, John E Garst, PhD, David Garstin, John C Garth, PhD, Daniel L Graver, Frederick Garver, P R Garver, MD, Justine S Garvey, PhD, Todd Garvin, MD, William F Garvin, Douglas L Garwood, PhD, Jerrie W Gasch, Gary J Gascho, PhD, Nicholas O Gaspar, Geroge Gasper, PhD, Jerry Gass, Jay B Gassel, Raymond F Gasser, PhD, Ron Gasser, Edward Wm Gassie, PhD, R H Gassner, Judith A Gast, Robert S Gaston, A D Gate, Charles Gates, Christopher Gates, George L Gates, Gerald O Gates, PhD, Lawrence Gates, MD, Richard Gates, Emery G Gathers, PhD, G R Gathers, PhD, Thomas Gatliffe, Anthony R Gatti, PhD, John Gatti, Eugene R Gaughran, PhD, Donald W Gauntlett, Phillips L Gausewitz, MD, Michael Gauthier, PhD, Gautier, PhD, Steven D Gavazza, PhD, Henry T Gawrylowicz, David Gay, Randael Gay, Richard L Gay, PhD, S Parker Gay, Al Gaylord, Dave Gaylord, Jim Gayman, Joseph Gaynor, PhD, Rick D Gdanski, PhD, Roy L Gealer, PhD, Jodi Gearon, William Geary, MD, William Geary, Donald Gebbie, Art Gebeau, W W Gebhart, Steve Geci, Robert L Geddes, M R Gedge, Doug Gedoski, Edwin A Gee, PhD, William E Gee, Richard Geesey, PhD, David Geeza, D A Gedcke, PhD, Colin V Gegg, PhD, Alexander S Geha, MD, W Blair Geho, MD, D C Gehri, PhD, James J Gehrig, Robert F Gehrig, PhD, Perry J Gehring, PhD, Gordon Geiger, PhD, James E Geiger, Paul J Geiger, PhD, Philip Geis, PhD, Doyle Geiselman, PhD, Larry W Geisler, William Geisler, Elton W Geist, Geoffrey Geisz, Karl R Geitner, John Gelder, Celine Gelinas, PhD, Charles Gelman, Charles Gelman, Michael Gelotte, Charles Gelwall, Mike Gemmell, Gennaro, PhD, L D Gent Jr, Ronald L Genter, Tony Gentile, Charles Gentry, Jerauld Gentry, Joseph C Gentry, Mary Gentry, Nicholas C Georgantzas, PhD, Boyd A George, PhD, Charles J George, Dale M. George, Daryl D George, PhD, Elizabeth George, Paul H George, Randy George, Raymond George, PhD, Robert B George, T G George, W H Krome George, W. H. Dreme George, Alexander Georgiev, PhD, David M Georgoff, PhD, Barbara Gephart, Gerard Allen Geppert, Gary Gerardi, PhD, Michael Gerber, MD, Eugene J Gerberg, PhD, F Jay Gerchow, A Martin Gerdes, PhD, Greg Gerdes, Jay Gerdin, Thomas G Gerding, PhD, Robert Gerger, Richard D Gerges, Earl Robert Gerhard, PhD, J Calvin Gerhard, George W Gerhardt, PhD, Philip Gerhart, PhD, Henry D Gerhold, PhD, TC Gerhold, C Gerig, Michael Gerkin, George S. Gerlach, Ulrich H Gerlach, PhD, Frank Germann, Richard P Germann, PhD, Peter J Gerone, PhD, John Gerow, Anne A Gershon, MD, Mark Gerstein, PhD, Eric Gerstenberger, Eric B Gertner, Jonathan Gertz, R. Gervais, MD, Robt P Gervais, MD, Joseph E Gervay, PhD, Thomas E Gesick, Mark G Gessel, Edward C Gessert, Ruth G Gessert, Forrest E Getzen, PhD, Robert L Geyer, PhD, Frederick Gezella, Alex Gezzy, Camillo Ghiron, PhD, Richard G Ghiselin, Richard Ghiselin, Mohamed Mansour Ghoneim, MD, Luther W Ghormley, MD, Frederick Giacobbe, PhD, L H Giacoletto, PhD, David Gianettino, Umberto Gianola, PhD, Gordon Gibb, Gary Gibbons, Larry V Gibbons, PhD, Louis Charles Gibbons, PhD, William Gibbons, MD, Clarence J Gibbs, PhD, Elizabeth L Gibbs, Randy Gibbs, Bruce Gibby, PhD, Reed Gibby, PhD, Kernon Gibes, Thomas G Gibian, PhD, Bobby W Gibson, Daniel Gibson, PhD, David F Gibson, PhD, Donald G Gibson, George Gibson, PhD, Lee Gibson, PhD, Ronald Gibson, Warren Gibson, PhD, Giclas, PhD, Peter F Giddings, Ken Giebe, Leo Giegzelmann, Howard Giemroe, Frederic A Giere, PhD, Byron Giehart, Brian D Giermek, James Gieselmann, MD, Kenneth Giesige, James G Geistfeld, PhD, Walter C Giffin, PhD, Donald Gifford, Hugh W Gifford, Jonathan Gifford, PhD, Adolf Giger, PhD, Michael V Gigli, Goerge Gil, Dewayne E Gilbert, PhD, Francis E Gilbert, Garrell Gilbert, Gerry Gilbert, Joel Gilbert, Lyman F Gilbert, Sr, P A Gilbert, Paul T Gilbert, Peter Gilbert, William Gilbert, PhD, William Gilchrist, W Allen Gilchrist, PhD, Roger R Giler, John Giles, Melvin E Giles, Robert T Giles, Charles B Gill, PhD, Donald Gill, Mellor A Gill, Tony Gill, William Gill, PhD, Tim Gillam, Alan Gillan, Leland E. Gillan, Rick Gillan, Susan Gillen DVM, DVM, Wm R Gillen, Bob Gillespie, Claude M Gillespie, PhD, Gary Gillespie, MD, Jack Gillespie, Jeff Gillespie, Robert Gillespie, PhD, Thomas D Gillespie, PhD, William Gillespie, William H Gillespie, Lawrence B Gillett, PhD, Benjamin A Gillette, Nicholas W Gillham, PhD, Travis H Gillham, Tom Gilliam, Bruce B Gillies, George A Gillies, PhD, George T Gillies, PhD, H C Gillies, T Ja Gilligan, PhD, Robert Gilliland, Thomas E Gillingham, PhD, James Gillis, Donald W Gillmore, PhD, Jacques Gilloteaux, PhD, M. J. Gillpen, James R Gilman, Ernest R Gilmont, PhD, Charles Gilmore, John Gilmore, PhD, John H Gilmore, Mike Gilmore, William Gilmore Jr, Paul Gilmour, PhD, Tim Gilson, George Gimber, Richard J Gimpelson, MD, Thon T Gin, PhD, Mark Gindling, H Scott Gingrich, Kenneth J Ginnard, Jeffrey D Ginnvan, Jerome Z Ginsburg, Helen Ginzburg, Dick Gion, Joseph Giordano, MD, Thomas H Giordano, PhD, Ernie Giovannitti, Georgina Gipson, William Girdwood, Russell C Girouad, Chris Girouard, John Gishpert, James Given, Norbert Gizinski, MD, Stephen Glacy, MD, Johanna Glacy-Araos, Eugene Gladfelter, PhD, Julie Glanan, Jeffrey A Glancey, Peter Glanz, PhD, Peter K Glanz, PhD, Walter Glasgow</a:t>
            </a:r>
            <a:endParaRPr b="0" lang="en-US" sz="1200" spc="-1" strike="noStrike">
              <a:solidFill>
                <a:srgbClr val="000000"/>
              </a:solidFill>
              <a:latin typeface="Calibri"/>
            </a:endParaRPr>
          </a:p>
        </p:txBody>
      </p:sp>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8">
                                  <p:stCondLst>
                                    <p:cond delay="0"/>
                                  </p:stCondLst>
                                  <p:childTnLst>
                                    <p:set>
                                      <p:cBhvr>
                                        <p:cTn id="206" dur="1" fill="hold">
                                          <p:stCondLst>
                                            <p:cond delay="0"/>
                                          </p:stCondLst>
                                        </p:cTn>
                                        <p:tgtEl>
                                          <p:spTgt spid="123">
                                            <p:txEl>
                                              <p:pRg st="0" end="0"/>
                                            </p:txEl>
                                          </p:spTgt>
                                        </p:tgtEl>
                                        <p:attrNameLst>
                                          <p:attrName>style.visibility</p:attrName>
                                        </p:attrNameLst>
                                      </p:cBhvr>
                                      <p:to>
                                        <p:strVal val="visible"/>
                                      </p:to>
                                    </p:set>
                                    <p:anim calcmode="lin" valueType="num">
                                      <p:cBhvr additive="repl">
                                        <p:cTn id="207" dur="5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208" dur="5000" fill="hold"/>
                                        <p:tgtEl>
                                          <p:spTgt spid="12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Gla to Gro                              </a:t>
            </a:r>
            <a:r>
              <a:rPr b="1" lang="en-US" sz="1200" spc="-1" strike="noStrike">
                <a:solidFill>
                  <a:srgbClr val="000000"/>
                </a:solidFill>
                <a:latin typeface="Calibri"/>
              </a:rPr>
              <a:t>Doug Glaspey, Jerome E Glass, Marvin Glass, Werner Glass, PhD, David A Glasser, Frederic Glatter, MD, George I Glauberman, PhD, Tom Glaze, Charles Glazer, Dan Glazier, Thomas A Gleeson, PhD, Thomas A Gleeson, PhD, Bertis Lamon Glenn, PhD, Clifford Glenn, David Glenn, Donald Glenn, Mark W. Glenn, Bryan Glett, Howard Glick, Robert L Glick, PhD, John Glissmeyer, John W Glomb, PhD, Dale P Glover, Daniel Glover, PhD, Lucinda H Glover, Robert Glover, Ronald M Gluck, Earl Glynn, John Glynn, Richard H Gnaedinger, PhD, Matthew Gnezda, PhD, Wilmer E Goad, C J Gober, William Godaif, Will E. Godbey, Ferd Godbold III, Charles B Godfrey, Charles Godreau, MD, Terry L Godsey, William H Godshall, Robert Owen Godwin, Valery Godyak, Ludwig E Godycki, PhD, Conway Goehman, Frederick A Goellner, Grayce Goertz, PhD, David J Goerz, Goette, PhD, Thomas Goettge, Kenneth L Goetz, MD, PhD, Harold E Goetzman, Mark Goff, Alexander Goforth, James S Goft, David Goggin, PhD, William Goins, Leslie I Gold, PhD, Alfred Goldberg, PhD, Eugene Goldberg, PhD, Malcolm Goldberg, PhD, Malcom Golderberg, PhD, Mark Golden, Michael H Golden, Jeffrey S Golder, Ronald B Goldfarb, PhD, Alan Goldfien, Steven Goldfien, MD, Bradley Goldhan, Randy Golding, PhD, William T Golding, Bruce Goldman, Edward R Goldmann, Lionel S Goldring, PhD, John P Goldsborough, PhD,  Victor W Goldschmidt, PhD, Michelle Goldschneider, Norman E Goldstein, PhD, Theodore P Goldstein, PhD, Patrick Goldsworthy, PhD, Walter J Goldsworthy, Richard Goldthwait, PhD, R K Golemon, Earl Golightly, MD, Jonathan M Golli, Mark J Golol, Viadimir Golovcminsky, PhD, William R Gommel, PhD, John R Gonano, PhD, Michel Gondouin, PhD, William Gong, PhD, Ely Gonick, PhD, D Gonle, MD, Alexander E Gonzalez, Roderick Gonzalez, Ruth Gonzalez, PhD, Thoams Gooch, Tim Good, William Good, Duane Goode, John B Goodenou, PhD, David Goodenough, PhD, Lewis S Goodfriend, Loy Goodheart, Arthur Goodier, Terry L Gooding, Kent J Goodloe, Lawrence Goodman, PhD, Leroy Goodman, Pierce Goodman, PhD, Robert Goodman, Ronald K Goodman, Roy Goodman, Ted A. Goodman, Thomas Goodman, Byron Goodrich, John Goodrich, Michael Goodrich, William A Goodrich, Jr, MD, Louie A Goodson, Korwin J Goodwin, Phill Goodwin, Trevor Gooeh, J. Goolsby, PhD, John C Goon, Edward J Goovier, Jr, V L Goppelt, Martin L Gorbaty, PhD, Peter J Gorder, PhD, Gilbert Gorodiscas, Clifford Gordon, Edward F Gordon, James W Gordon, PhD, R L Gordon, Robert B Gordon, PhD, Robert E Gordon, Robert Gordon, Robert Gordon, PhD, Scott D Gordon, Stuart Gordon, Truda Gordon, William Gordon, PhD, William H Gordon Jr, MD, Lweis C Gordonson, MD, Willis Gore, PhD, Heinz A U Gorges, PhD, J R Gorham, Milton Gorham, Cheryl Goris, Linda Gorman, PhD, Robert Gorman, Joseph Gorsic, PhD, Timothy N Gorski, MD, PhD, Waldemar Gorski, PhD, Geoffrey G Gorsuch, Howard Gorsuch, Theodore Gortemoller, Christopher Gosling, R. W. Gosper, Jr, George R Goss, PhD, John R Goss, Quentin L Goss, Wilbur H Goss, PhD, David Grossett, Lee M Gossick, David Gossman, Albert Gotch, PhD, Samuel P Gotoff, Henry Gotsch, C. Thomas Gott, MD, George Gott, James Gotter, Malcolm H Gotterer, Marcus Gottlieb, DDS, D F Gottron, Donald F Gottron, John Gottschling, Paul Gouck, Gerald G Gould, Gordon Gould, PhD, Keith R Gould, Robert B. Gould, Robt G Gould, PhD, Thomas L. Gould, PhD, Walter L Gould, PhD, Wayne D Gould, Robert Goudie, Alan Goulet, Don Gournier, James Gourtzis, PhD, S Wm Gouse, PhD, Edward Gouvier, Edward Gouvier, Robert J Governski, Arthur Goyne, MD, Bill Grabb, Harald Grabowsky, Gloria L Grace, PhD, Robt D Grace, Joseph C Graciana, Jack Grady, John L Grady, MD, William P Graebel, PhD, William D. Graeber, Richard Graeme, Gary Graeser, Donna Graf, G Robert Graf, John Graf, Robert G Graf, George S Graff, Leroy D Graff, Bill Graham, Bob Graham, Daniel C Graham, Dee McDonald Graham, PhD, Gary G Graham, PhD, Howard E Graham, Jim Graham, Maj Gen I Patton Graham, Michael W Graham, Sutton Graham, MD, Walter W Graham, PhD, Joseph W Grahame, Douglas Gramer, Linda Gramera, Robert E Gramera, PhD, Robert Gramera, PhD, Otto G Gramp, Alphonse P Granatek, Curtis Granberry, Clark A Granger, PhD, James Grant, Jerry Grant, Lee B Grant Jr, MD, Lewis O. Grant, Nicholas J Grant, PhD, R. R. Grant, Donald J Grantham, James I Grantham, John Granyraah, Kenneth D Granzow, Jurgen M Grasshoff, PhD, Steven Grassl, PhD, Frank Grate, John B Gratzek, Dmv, DVM, PhD, Kenneth Graues, John E Grauman Jr, William Grauten, Lawrence Grauvogel, Robert Gravel, Gerald Graves, Gregory Graves, Harvey W. Graves, Robert J. Graves, Bruce W Gray, PhD, Daniel P Gray, George A Gray, PhD, Gordon Gray, James Gray, PhD, Jerry Gray, Joe C Gray, John R Gray, John R. Gray, Kevin J Gray, PhD, Lewis Gray, Lucy M Gray, Michael Gray, PhD, Richard Gray, Robert C Gray, Robert M. Gray, Ronald D Gray, Steven Gray, Ted Gray, Thoams Gray, Vincent R. Gray, Frank Graziano, PhD, Eric Greager, Gerald Greak, Lloyd Grearson, Randolph K Greaves, Michael Grecco, Michael Greeley, Aaron Green, Arthur Green, Dale Green, George F Green, PhD, J D Green, Jerry Green, John L Green, John W Green, Joseph Matthew Green, PhD, Leon Green, PhD, Martin Green, PhD, Marvin L Green, Max Green, Milton Green, Russell H Green Jr, Saul Green, PhD, Shirley Green, Taylor C Green, Willie H Green, John P Greenaway, William H Greenberg, Charles R Greene, PhD, Danita Greene, David Greene, Donald M Greene, PhD, Gary Greene, George M Greene I I, PhD, John J Greene, Richard Greene, Vance Greene, Eugene Willis Greenfield, PhD, Harold Greenfield, PhD, Charles A Greenhall, PhD, Gerald A Greenhouse, PhD, John Greenip, Miles Greenland, Bruce Greenlee, Dick Greenly, J. H. Greenman, William M Greenslade, Jeffrey Greenspoon, MD, Reynold Greenstone, Anton Greenwald, PhD, Howard E. Greenwell, B M Greenwood, Henry Greenwood, James Greenwood, Fred Greer, MD, Gary Greer, Gregory Greer, Olen Greer, PhD, Robert Griffith, Don Greger, Howard Greger, Mike Greger, Charles T Gregg, PhD, David Gregg, David H Gregg, PhD, J T Gregor, David T Gregorich, PhD, Thomas Gregory, Troy Gregory, Ted M Gregson, J R Greig, PhD, Richard C Greig, Paul Greiman, Everett D Greinke, Mary A Grelinger, Mary Ann Grelinger, Ne Grell, Tom Grem, Anthony Grenci, Bert L Grenville, James L. Gresham, Theodore Greshel, David R Gress, Peter M Gresshoff, PhD, Edward L Griffin, Gordon W Gribble, PhD, Alfred Greibling, Donald Grierson, George A Gries, PhD, Michael J Gries, Ray H. Griesbach, Daniel Grieser, Edward Griest, PhD, Doreen Grieve, Billy Griffin, Bruce Griffin, Clayton Houstoun Griffin, Glen Griffin, MD, Harold L Griffin, J. Tyler Griffin, J. Tyler Griffin, James Edward Griffin, PhD, Joseph W Griffin, PhD, Lawrence G Griffin, Leland Griffin, M Griffin, PhD, Reginals Griffin, PhD, Richard L Griffin, B.W. Griffith, Brandon Griffith, Durward R Griffith, Gary Griffith, Paul G Griffith, PhD, Virgil V Griffith, PhD, W C Griffith, Richard Griffiths, Roy Griffiths, PhD, Tom Griffiths, W. R. Griffitts, PhD, Mark Grigsby, PhD, Otto Grill, Helen Grim, Frank Grimaldi, Louis J Grimm, PhD, Paul E Grindrod, PhD, Teddy H Grindstaff, PhD, Richard T Grinstead, Wm B Grinter, Ernest E Grisdale, John C Grisham, Robert Dwight Grisso, PhD, Doug Grissom, A G Griswold, Donald L Griswold Jr, George H Griswold, Ray Griswold, Richard F Groeber, Sara Grogg, Paul Grogger, PhD, Alfred W Grohe, Sigmond Grollman, PhD</a:t>
            </a:r>
            <a:endParaRPr b="0" lang="en-US" sz="1200" spc="-1" strike="noStrike">
              <a:solidFill>
                <a:srgbClr val="000000"/>
              </a:solidFill>
              <a:latin typeface="Calibri"/>
            </a:endParaRPr>
          </a:p>
        </p:txBody>
      </p:sp>
    </p:spTree>
  </p:cSld>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8">
                                  <p:stCondLst>
                                    <p:cond delay="0"/>
                                  </p:stCondLst>
                                  <p:childTnLst>
                                    <p:set>
                                      <p:cBhvr>
                                        <p:cTn id="214" dur="1" fill="hold">
                                          <p:stCondLst>
                                            <p:cond delay="0"/>
                                          </p:stCondLst>
                                        </p:cTn>
                                        <p:tgtEl>
                                          <p:spTgt spid="124">
                                            <p:txEl>
                                              <p:pRg st="0" end="0"/>
                                            </p:txEl>
                                          </p:spTgt>
                                        </p:tgtEl>
                                        <p:attrNameLst>
                                          <p:attrName>style.visibility</p:attrName>
                                        </p:attrNameLst>
                                      </p:cBhvr>
                                      <p:to>
                                        <p:strVal val="visible"/>
                                      </p:to>
                                    </p:set>
                                    <p:anim calcmode="lin" valueType="num">
                                      <p:cBhvr additive="repl">
                                        <p:cTn id="215" dur="50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216" dur="5000" fill="hold"/>
                                        <p:tgtEl>
                                          <p:spTgt spid="12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Gar to Har                           </a:t>
            </a:r>
            <a:r>
              <a:rPr b="1" lang="en-US" sz="1200" spc="-1" strike="noStrike">
                <a:solidFill>
                  <a:srgbClr val="000000"/>
                </a:solidFill>
                <a:latin typeface="Calibri"/>
              </a:rPr>
              <a:t> Steven Gronemeyer, PhD, Percy Gros, Alan B Grosbach, MD, Steven Grose, Charles Gross, Joseph F Gross, PhD, Michael P Gross, Robert Gross, MD, Morton Grosser, PhD, William F Grosser, B F Grossling, PhD, H R Grossmann, Ronald Grost, Niles E Grosvenor, Fred Grosz, PhD, Lee J Grota, PhD, Fred R Grote, Lenhart T Grothe, Morris P Grotheer, PhD, Henry M Grotta, PhD, Leonard C Grotz, PhD, D J Grove, PhD, James Robb Grover, PhD, John C Grover, Dave Groves, Frank Groves, PhD, Timothy R Groves, PhD, William Groves, Richard Grow, PhD, John Growney, MD, Pamela Grubaugh-Littig, S D Grubb, Shannon Grubb, MD, Alfred Gruber, Carl L Gruber, PhD, David P Gruber, Eugene E Gruber, PhD, Gerald Wm Gruber, PhD, Gerry Gruber, PhD, Johathan R Gruchala, Eric Gruenler, Geza Gruenwald, PhD, Raymond Gruetert, Reed Grundy, HH Grunger, DDS, Mike Gruntman, PhD, Ross Grunwald, PhD, Paul M Gruzensky, PhD, Ed Grygiel, Bruce B Grynbaum, MD, Harold J Gryting, PhD, Robert F Guardino, PhD, A M Guarino, PhD, Ross L. Gubka, Terry Guckes, PhD, C. J. Gudim, Richard A Gudmundsen, PhD, Edward M Guenther, Elaine Guenther, Daniel Guerra, Gareth E Guest, PhD, Thomas F Guetzloff, PhD, Yann G Guezennec, PhD, Charles G Guffey, PhD, H W Guggenhgimer, PhD, Salena Guhl, Michael A Guida, Jerry Guidarelli, Roland J Guidry Jr, Stephen Guidry, Albert Guilford, David C Guinn, Michel Guinn, Peter H Guldberg, Peter H Guldberg, Guldenzopf, PhD, Cloyd D Gull, Charles W Gullikson, PhD, Arnold J Gully, Mark T Gully, Kenneth H Gum, Wm R Gumert, Darryl E Gunderson, Richard Gundry, Kathleen J Gundy, Robert C Gunness, PhD, Bob Gunther, Wolfgang H H Gunther, PhD, Raj K Gupta, PhD, Earl S Gurley, M S Gurney, Andrew F. Guschwan, MD, Robert J Gussman, Lyle Gust, Dwight F Gustafson, Kermit Gustafson, Lewis B Gustafson, PhD, Philip F Gustafson, PhD, Robert Gustavus, William Gustin, David L Gustine, PhD, Richard E Guth, Donald T Guthrie, Joseph A Gutierrez, Gerald Gutowski, PhD, Donald Gutru, Steven L Gutsche, Alvin Guttag, Daniel Gutting, Nathaniel B Guttman, PhD, Kelleen Gutzmann, Jeng Yih Guu, PhD, Frank Guy, PhD, John V Guy- Bray, PhD, James Guyker, PhD, Allan Guymon, PhD, Louis Guzzo, Geza L Gyorey, PhD, Gottfried Haacke, PhD, Keith Haag, Michael D Haag, John Haan, Kenneth A Haapala, Frederick C Haas, PhD, Merrill W Haas, M Craig Haase, Mutaz Habal, PhD, Robt M Haber, PhD, Keith Haberer, Tamara G Haberman, Donald Habersberger, Daniel Habib, PhD, Benjamin C Hablutzel, Ara Hacetoglue, Charles Hackell, George Hacken, PhD, Tana Hacken, David S Olomon Hacker, PhD, Daniel Hackett, Jaqueline Hackett, Earl Hacking, David B Hackman, PhD, Glenn A Hackwell, PhD, Elard Haden, Rodney N Hader, Lawrence Hadley, PhD, Richard F Hadley, Frank A Hadsell, PhD, Pablo Hadzeriga, Jeffrey Haebrlin, Ron Haefer, Charlie Haener, Anton F Haffer, Larry Haffey, Robert Haffner, Joseph H Hafkenschiel, MD, PhD, Erich Hafner, PhD, Mark Hagadone, PhD, James Hagan, PhD, Richard Hagan, Stephen F Hagan, MD, James A Hagans, PhD, G. Richard Hagee, PhD, Cecil Hagen, Arno K Hagenlocher, PhD, Ben Hager, Dan Hager, Ronald J Hager, Jr, Thomas J Hager, Ismail B Haggag, PhD, C Troy Haggard, Chuck R Haggett, Willaim Hagis, Robert A Hagn, W A Hargreaves, Gerow R Hagstrom, PhD, William Hahman, Douglas C Hahn, Gregory Hahn, Richard D Hahn, MD, Robt S Hahn, PhD, Edward H Hahne, John Haien, John A Haiko, Robert Hails, Robert Hails, Charles Hain, Anthony Haines, Duane E. Haines, PhD, Forest Haines, PhD, J Haines, Thomas Haines, PhD, Delilah B Hainey, Leroy M Hair, Ben Hajek, PhD, Nic Hajiyianni, Reino Hakala, PhD, Wm D Hake, Mary Hakim, Arnold Hakkila, PhD, Quinlan Halbeisen, Michel T Halbouty, PhD, Charles W Haldeman III, PhD, Davis Haldeman, M H Halderson, Francis A Hale, Martha Hale, PhD, Mike Hale, PhD, William N Hale, James Hales, Harold Haley, MD, R A Haley, Richard L Haley, PhD, Ted D Haley, Paul F Halfpenny, Paul Halkiades, Brian Hall, Charles A Hall, PhD, Charles Hall, PhD, Douglas Hall, PhD, Falinda F Hall, Frank Hall, DDS, George Hall, Jared Hall, Jodie C Hall, John Hall, Ken Hall, Kenneth L Hall, PhD, Kent Hall, Merrill Hall, Michael J Hall, Nathan A Hall, PhD, Norm Hall, Philip W Hall, Phillip Hall, R W Hall, Jr, PhD, Rebecca Hall, Richard C Hall, Rick Hall, Robert J Hall, Robet Hall, MD, Tommy G Hall, Robert Halladay, Christian Haller, Sieglinde Haller, Otto Hallier, Bruce A Hallila, John H Hallman, PhD, Donal W Halloran, Martin B Halpern, PhD, William Halpern, PhD, Frank C Halstead, Kevin Halstead, Barry Halvorsen, Barry Halvorsen, Robert Halvorsen, Lee Edwad Ham, Daniel J Haman, William W Hambleton, PhD, Nirrus Hamburg, PhD, Arthur Hamburgen, Harry Hamburger, MD, Ronald D Hamburger, Edward E Hamel, PhD, James Hamel, PhD, Alfred R Hamelin, L Ardis Hamer, Allan Hametta, MD, Saheed Hamid, Brenton M Hamil, PhD, William A Hamill, Brent Hamilton, Even N. Hamilton, Gordon A Hamilton, PhD, Gordon S Hamilton, Hamilton, Hazel Hamilton, Homer R Hamilton, PhD, James W Hamilton, PhD, Mark A Hamilton, Priscilla O Hamilton, PhD, Ralph Hamilton, Stanley K. Hamilton, PhD, Stephen Hamilton, Thomas Hamilton, PhD, V A Hamilton, William Hamilton, PhD, John Hamaker, PhD, James G Hamlett, Edward E. Hamlin, Robert M Hammaker, PhD, John Hamme, PhD, David Hammel, Harold T Hammel, PhD, Donald F Hammer, Matthew M. Hammer, J Hammond, Jack A Hammond, Jeff Hammond, Paul E Hammond, PhD, Raymond E Hammond, Charles E Hamner, PhD, Scott E Hampel, Andrew Hampf, Linda C Hamphill, MD, Adrian J Hampshire, Lee Hamptian, James Dale Hampton, John Hampton, PhD, Mark H Hampton, Philip Hampton, Richard O Hampton, PhD, Suleiman M Hamway, PhD, W Han, Abraham S Hananel, PhD, Howard W Hanawalt, Anthony J Hance, PhD, Bill Hancock, David Hancock, Diane K Hancock, PhD, M Hancock, Ray A Hancock, T Hancock, Brian E Hand, Cadet Hand, PhD, John W Hand, Robert H Hand, Robert Hand, Robert W Handford, James W. Handley, Lawrence Handley, PhD, Arthur L Handman, Stanley E Handman, JF Handreir, Sultan Haneed, PhD, N Bruce Hanes, PhD, D E Hansen, David Haney, David Haney, John B Haney, MD, Daniel Hang, Sunil Hangal, PhD, Peter Hangarter, Barry K Hankins, William Hankins, Leon Hankoff, MD, Dallas Hanks, Robt Wm Hanks, PhD, Art Hanley, Gerald M Hanley, Kevin Joseph Hanley, DDS, Michael J Hanley, James Hanlon, Bill M Hann, George C Hann, Arthur D Hanna, PhD, Bill Hanna, Jeff Hanna, Robert B Hanna, Susan K Hannaman, Robert E Hannay, RW Hannemann, Martin Hanninen, RC Hannon, Edward Hanrahan, PhD, Allan G Hanretta, MD, Samuel L Hansard, PhD, W Dan Hansel, Daniel Hansen, PhD, E M Hansen, Grant O. Hansen, Hugh T Hansen, James Hansen, PhD, Joann B Hansen, PhD, Joann B Hansen, PhD, John Hansen, PhD, Judd A Hansen, L J Hansen, R A Hansen, R Thomas Hansen, PhD, Robert C Hansen, PhD, Robin Hansen, Robt H Hansen, Rodney Hansen, Rolf Hansen, Stephen Hansen, Steve Hansen, PhD, Wayne Hansen, Rowland Hansford, A O Hanson, PhD, Bernold M Hanson, Carl D Hanson, Daniel Hanson, Harry R Hanson, Richard Hanson, Robet N Hanson, Steven Hanson, George L Hanssen, Paul Hanssen, E W Hanszen, Charles Hantzis, Scott A Hanus, Russell Hanworth, William Happer, PhD, Michael L Haraczy, Richard A Haralson, Michael P Harasym, Allan W Harbaugh, PhD, John W Harbaugh, PhD, John H Harble, Gordon C Hard, PhD, N J Hard, PhD, Richard C Hard, MD, James E Hardcastle, PhD, Charles Hardbeck, MD</a:t>
            </a:r>
            <a:endParaRPr b="0" lang="en-US" sz="1200" spc="-1" strike="noStrike">
              <a:solidFill>
                <a:srgbClr val="000000"/>
              </a:solidFill>
              <a:latin typeface="Calibri"/>
            </a:endParaRPr>
          </a:p>
        </p:txBody>
      </p:sp>
    </p:spTree>
  </p:cSld>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8">
                                  <p:stCondLst>
                                    <p:cond delay="0"/>
                                  </p:stCondLst>
                                  <p:childTnLst>
                                    <p:set>
                                      <p:cBhvr>
                                        <p:cTn id="222" dur="1" fill="hold">
                                          <p:stCondLst>
                                            <p:cond delay="0"/>
                                          </p:stCondLst>
                                        </p:cTn>
                                        <p:tgtEl>
                                          <p:spTgt spid="125">
                                            <p:txEl>
                                              <p:pRg st="0" end="0"/>
                                            </p:txEl>
                                          </p:spTgt>
                                        </p:tgtEl>
                                        <p:attrNameLst>
                                          <p:attrName>style.visibility</p:attrName>
                                        </p:attrNameLst>
                                      </p:cBhvr>
                                      <p:to>
                                        <p:strVal val="visible"/>
                                      </p:to>
                                    </p:set>
                                    <p:anim calcmode="lin" valueType="num">
                                      <p:cBhvr additive="repl">
                                        <p:cTn id="223" dur="5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24" dur="5000" fill="hold"/>
                                        <p:tgtEl>
                                          <p:spTgt spid="12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Har to Jar                              </a:t>
            </a:r>
            <a:r>
              <a:rPr b="1" lang="en-US" sz="1200" spc="-1" strike="noStrike">
                <a:solidFill>
                  <a:srgbClr val="000000"/>
                </a:solidFill>
                <a:latin typeface="Calibri"/>
              </a:rPr>
              <a:t>Harry C Hardee, PhD, Harold C Harder, PhD, Ralph H Harder, MD, Roger W Harder, Clyde Hardin, Andrew T Harding, Dana Harding, Henry W Harding Jr, James L Harding, PhD, Mary K Harding, Thomas Harding, Thomas W Harding, PhD, Wm Harding, PhD, Byron Hardinge, M G Hardinge, MD, Elwood Hardman, Barry A Hardy, Bryant Hardy, Edgar Erwin Hardy, PhD, Henry R Hardy, PhD, Hugh W Hardy, Kent Hardy, P L Hardy Jr, Robert E Hardy, Robin Hardy, Sandra Hardy, Vernon E Hardy, W. Carey Hardy, William Hardy, Cliff Hare, Gerald R Hare, W Henry Harelson, George B Hares, PhD, Joe Hareza, Jesse W Hargis Jr, O W Hargrove, Mark Harjes, Robt Ian Harker, PhD, Wendell Harkey, Richard Harkins, Thomas Harkins, Henry Gilbert Harlow, Ronald Harma, Carl Harman, Charles M Harman, PhD, J Harman, Wm H Hartmann, MD, Wayne A Harmening, Charles E Harmon, Mary L Harmon, Robert Harmon, Scott Hamon, Scott Harmon, William Harmon, John Harmonson, Eric A Harms, Wm O Harms, PhD, Grant H Harnest, PhD, Paul M Harnsberger, James M Harp, Laddie Harp, Ronald Harp, Dean O Harper, PhD, Helen Harper, Herbert E Harper, John D. Harper, John E Harper, Kenneth E Harper, MD, Lt Col G E Harper, Lynn Harper, Ted N Harper, Timothy Harper, Todd Harper, Stephen T Harpham, Ron Harpin, James Harrell, Wynford Lewis Harries, PhD, David Harriman, Michael Harriman, Dean B Harrington, Arthur B Harris, B Harris, B L Harris, PhD, Ben G Harris, PhD, Billy W Harris, Bruce Harris, C S Harris, PhD, Craig H Harris, D C Harris, Dennis Harris, Don Harris, Donald R Harris, PhD, Edward Harris, Ellen Harris, PhD, Ellis Harris, Fletcher W Harris, Franklin S Harris Jr, PhD, Gregorg Harris, J B Harris, James E Harris, DDS, Jay Harris, John C Harris, John Harris, PhD, Joseph B Harris, PhD, Joseph W Harris, Keith H Harris, Kenneth Harris, Leon Harris, Ramon P Harris, Richard A Harris, PhD, Rick Harris, Robert D Harris, Ronald Harris, Russell Harris, S P Harris, PhD, Stanley Harris, MD, Steven Harris, Tyler Harris, MD, William Harris, Burton Harrison, Don E Harrison, PhD, Earl R Harrison, MD, Ernest A Harrison, PhD, Francis L Harrison, John David Harrison, PhD, Kevin D Harrison, Marvin Harrison, Robin Harrison, W. G. Harrison, Philip T Harsha, PhD, T. W. Harshall, Elbert N Harshman, PhD, Charles C Hart, Dave Hart, Delmer Hart, James Hart, Kenneth W Hart, Melissa Hart, Michael H Hart, PhD, Paul Hart, Randall E Hart, Raymond K Hart, PhD, Robert D Hart, Steven W Hart, Sylvan Hart, Robt D Harter, PhD, Richard L Hartine, Hermen Hartjens, William P Hartl, Lawrence Hartlage, PhD, Lambert Hartle, George J Hartman, John L Hartman, PhD, M Hartman, Wm H Hartmann, James Hartshorne, Robert R Hartsough, Ronald Hartung, Charles M Hartwell, Peter Hartwick, Nathan L Hartwig, PhD, Nicholas Hartwig, PhD, Charles R Hartzell, PhD, Albert D Harvey III, PhD, Carl Harvey, Clarence C Harvey, David B Harvey, F Reese Harvey, PhD, Kenneth C Harvey, PhD, Kim L Harvey, John Harville, PhD, Eldert C Hartwig, PhD, Richard Harwood, PhD, Thomas R Harwood, MD, Wm H Harwood, PhD, Syed M Hasan, John A Hasdal, PhD, William L Hase, PhD, Kirk Hashimoto, Neal Haskell, PhD, Caryl Haskins, PhD, William J Haslem, Jill Hasling, Barbara Hass, James R Hass, PhD, Bob Hassebrock, Van Hassel, PhD, Jay Hassell, MD, Floyd N Hasselrlis, Jeff Hastings, Kirk Hastings, Reese Hastings, Turner E Hasty, PhD, Roger C Hatch, Ronald R Hatch, Thomas C Hatch, Herbert J Hatcher, PhD, Larry Hatcher, Eric W Hatfield, Peter Hatgelakas, Coleman E. Hatherly, Michael J Iatropoulos, PhD, Mike Ibarguen, Lyndon Ibele, Kenneth D Ibsen, Rodney D Ice, PhD, Sherwood B Idso, PhD, Andrew Iezzi, Donald J Ifshin, Mac Igbal, Harold Igdaloff, Jon M Igleman, MD, Jim Iglesias, Alex Ignatiev, PhD, Eugene Ignelzi, D Igou, PhD, Donald K Igou, PhD, John A Ihli, Charles A Ihrke, PhD, Robert M Ikeda, PhD, Nick Iliadis, Phillip M Iloff, PhD, Richard Ilson, Jean-Pierr Imandt, John R Imel, Harold E Imke, Walter L Imm, Bruce Imsdahl, Anton L Inderbitzen, PhD, Tony Indriolo, Samuel J Ing, MD, Karl Ingard, PhD, Walter H Inge, PhD, Kenneth Ingham, George W Ingle, Lisa Ingle, Raymond Ingles, Criton S Inglessis, PhD, Criton C S Inglessis, PhD, Nicholas A Ingoglia, PhD, J Charles Ingraham, PhD, Alvin R Ingram, PhD, Jeffrey Ingram, Stephen L Ingram Sr, Alfred Ingulli, Charles G Inman, E Jeffrey Inman, Ronald S Inman, Malcolm R Innerarity, William B Innes, PhD, Mitio Indkuti, PhD, Kaoru Inouye, Robert Insley, Lucy Ionas, J N Ipson, Mehraboon S Irani, MD, Zackary Irani, Robt E Irelan, Herbert O Ireland, PhD, James Ireland, Roar L Irgens, PhD, Larry Irons, David Irvin, G W Irvin, Timtohy K Irvin, Charles Irvine, James B Irvine, A M Irving, Boyce Irwin, Charles F Irwin, MD, Gerald Irwin, PhD, J Irwin, James M. Irwin, John D Irwin, PhD, John Irwin, PhD, Noreen Irwin, Philip George Irwin, PhD, Terry Irwin, Erich Isaac, PhD, Ronald H Isaac, PhD, Ronald Isackson, MD, George Isajiw, MD, Sheldon E Isakoff, PhD, Martin Isaks, PhD, Teri Isakson, Francis Isaman, Dan Isbell, E Burk Isbell, Gerald Wm Iseler, PhD, Donald G Iselin, Don L Isenberg, PhD, Robt W Isensee, PhD, Gary Ishikawa, Byron M Ishkanian, Rod Ishmael, Janine Islam, MD, Mir N Islam, PhD, Donald R Isleib, PhD, George Ismael, A Z Ismail, PhD, Larry Israel, Milton S Issaacson, Istvan Boldogh, PhD, E W Itell, Ltc Max Ito, PhD, Olga Ivanilova, PhD, James Ivers, Cary Iverson, F K Iverson, James A Ives I I, King H Ives, Donathan M Ivey, MD, Edwin H Ivey, John Ivey, Kenneth M Izumi, PhD, Robert A Izydore, PhD, Patrick T Izzo, PhD, Theodore Izzo, Mitchell J Jablons, MD, Judy Jacklich, Dale Jacknow, MD, G Jacknow, MD, Donald C Jacks, B Jackson, Bill G Jackson, PhD, Bobby J Jackson, Bruce Jackson, George Jackson, Harold L Jackson, PhD, Harry A Jackson, Herrick Jackson, J G Jackson III, MD, Jeral Jackson, Julius A Jackson Jr, K A Jackson, PhD, Kingbury Jackson, L Jackson, PhD, Rick L Jackson, MD, Roscoe G Jackson, PhD, Royce A Jackson, Stewart A Jackson, PhD, Thomas Jackson, MD, Tom Jackson, Warren Jackson, PhD, William Jackson, William Howard Jaco, PhD, Wm John Jacober, PhD, George T Jacobi, William Jacobi, PhD, Bruce Jacobs, Francis A Jacobs, PhD, Francis A Jacobs, PhD, George D Jacobs, MD, John C Jacobs, PhD, Lenard Jacobs, M L Jacobs, PhD, Richard G Jacobs, Sharon Jacobs, Kermit V Jacobsen, Jay M. Jacobsmeyer, Albert Jacobson, PhD, Elaine L Jacobson, PhD, Genelle Jacobson, Glen O Jacobson, Irven Allan Jacobson, Jimmy J Jacobson, PhD, John Jacox, Donald F Jacques, PhD, Neal Jacques, Jules Jacquin, Frederick J Jaeger, Holger M Jaenisch, PhD, Donald Jaffe, PhD, Jonah Jaffe, PhD, Mordecai Jaffe, PhD, William J Jaffe, PhD, Kenneth I Rwin Jagel, PhD, Leonard T Jagiello, Ray Jaglowski, Albert A. Jagnow, David H Jagnow, Mark Jagnow, Paul Jagnow, Kenneth S Jago, MD, Arnold Jagt, Marek Jakubowski, PhD, Richard J Jambor, Calvin James, Daryl James, David E James, PhD, Dennis James, Douglas E. James, F E James, Jr, PhD, Gary James, HS James, Jerry James, John A James, Shadrach James, MD, Virgil E James, PhD, 154 Johnson Hall, PhD, Everett Williams Jameso, PhD, Chet H Jameson Jr, Leon Jameton, Homer C Jamison, PhD, Margaret Jamison, Sherwin W Jamison, Will B Jamison, Robert W Jamplis, MD, John X Jamrich, PhD, Lynn Janas, PhD, Tom Janas, Jiri Janata, PhD, Kenneth S Jancaitis, PhD, Thomas Jancic, John A Jane, MD, PhD, Donald Janes, Cole Janick, Jack Janicke, Borek Janik, PhD, Norman Janke, PhD, Paul R Jann, Daniel J Janney, Robert Janowitz, George J Jansen, Maximo Jante, Jonathan Janus, PhD, David Japikse, PhD, John Jaquess, Rupert Jarboe</a:t>
            </a:r>
            <a:endParaRPr b="0" lang="en-US" sz="1200" spc="-1" strike="noStrike">
              <a:solidFill>
                <a:srgbClr val="000000"/>
              </a:solidFill>
              <a:latin typeface="Calibri"/>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28">
                                  <p:stCondLst>
                                    <p:cond delay="0"/>
                                  </p:stCondLst>
                                  <p:childTnLst>
                                    <p:set>
                                      <p:cBhvr>
                                        <p:cTn id="230" dur="1" fill="hold">
                                          <p:stCondLst>
                                            <p:cond delay="0"/>
                                          </p:stCondLst>
                                        </p:cTn>
                                        <p:tgtEl>
                                          <p:spTgt spid="126">
                                            <p:txEl>
                                              <p:pRg st="0" end="0"/>
                                            </p:txEl>
                                          </p:spTgt>
                                        </p:tgtEl>
                                        <p:attrNameLst>
                                          <p:attrName>style.visibility</p:attrName>
                                        </p:attrNameLst>
                                      </p:cBhvr>
                                      <p:to>
                                        <p:strVal val="visible"/>
                                      </p:to>
                                    </p:set>
                                    <p:anim calcmode="lin" valueType="num">
                                      <p:cBhvr additive="repl">
                                        <p:cTn id="231" dur="50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repl">
                                        <p:cTn id="232" dur="5000" fill="hold"/>
                                        <p:tgtEl>
                                          <p:spTgt spid="12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Jar to Kap                           </a:t>
            </a:r>
            <a:r>
              <a:rPr b="1" lang="en-US" sz="1200" spc="-1" strike="noStrike">
                <a:solidFill>
                  <a:srgbClr val="000000"/>
                </a:solidFill>
                <a:latin typeface="Calibri"/>
              </a:rPr>
              <a:t>George Jarden, MD, Kevin L Jardine, Fred Jarka, Frank H Jarke, Robert Jarman, MD, W W Jarowey, Kenneth Jarrell, James J Jarvis, John Jarvis, MD, Neldon Lynn Jarvis, PhD, Douglas Jasek, Rodney Jasmer, Karen Jass, Robert Jastrow, PhD, John P Jastrzembski, John A Jaszczak, PhD, Augus W Jaussi, PhD, Lynn Jaussi, Seymour Jaye, Kuan- The Jeang, MD, PhD, Robert Jeanmaire, H S Jeck, Keith Bartlett Jefferts, PhD, Lawrence Jeffery, Edward Jeffreys, Thomas T Jeffries III, Hugh Jeffus, PhD, Max Jellinek, PhD, Michael Jellison, Wm W Jemison Jr, Joseph V Jemski, MD, Charles Fu Jen Hsu, PhD, Jean Marcy-Jenderko, Ardell Jenkins, Carol Jenkins, David E Jenkins, Jack D Jenkins, Larry Jenkins, Larry W Jenkins, Sean Jenkins, Vernon K Jenkins, PhD, William Jenkins, Vincent F Jennemann, PhD, Alfred S Jennings, PhD, Donald Jennings, Frederick A Jennings, Matthew Jennings, Paul A Jennings, PhD, Pete D Jennings, Terry L Jennings, James Jennison, Wayne E Jens, PhD, Brian Jensen, Clayton E Jensen, PhD, Creighton Jensen, PhD, Dale R Jensen, Glenn Jensen, Kurt Jensen, L Carl Jensen, Leeann Jensen, PhD, Marcus M Jensen, PhD, Paul Edward T Jensen, Randolph A Jensen, Randolph Jensen, Randolph Jensen, Robert Jensen, Thomas Jensen, PhD, Timothy B Jensen, PhD, Walter P Jensen Jr, Denzel Jenson, Stewart C Jepson, Peter Jerabek, Anthony E Jernigan, Robt G Jernigan, JM Jeryin, Guy C Jeske, Elliot E Jessen, William A Jesser, PhD, Guy E Jester, PhD, William Jester, PhD, Edwin N Jett, Robert Jeub, MD, C Thomas Jewell, MD, Ralph Jewett, Michael W Jezercak, PhD, Henry L Jicha, PhD, Ryan M Jiles, Scott Jimmerson, Karel Jindrak, MD, Zdenek Jizba, Charles Joanedis, Janard Jobes, Thomas Jobin, Richard Jodry, Amos E Joel, Joerz, Allen L Jogerst, Eileen D Johann, PhD, Robert Johannes, PhD, V I Johannes, PhD, Timothy Johans, MD, Emil S Johansen, H William Johansen, PhD, Craig A Johanson, MD, Karl Richard Johansson, PhD, Sune Johansson, Bob Johnko, Dennis Johns, Donald Johns I I, L P Johns, A Neil Johnson, Alan W Johnson, Alan W Johnson, Anthony Johnson, Anthony O Johnson, Archie C Johnson, Arlo F Johnson, PhD, Blane Johnson, PhD, Bob Johnson, C Johnson, Charles M Johnson, PhD, Charles W Johnson, MD, Charles W Johnson, Curtis L Johnson, Dale Johnson, Danny Johnson, David C Johnson, MD, Delmar R Johnson, Dennis Johnson, Donald C Johnson, PhD, Donald D Johnson, PhD, Donald Johnson, PhD, Doug Johnson, Duane P Johnson, PhD, Eldred D. Johnson, Eric Johnson, Frank J Johnson, Fred Johnson, PhD, Frederic A Johnson, PhD, Frederick S. Johnson, G. E. Johnson, George Johnson, Gerald E Johnson, Gerald Johnson, PhD, Glenn R Johnson, PhD, Gordon E Johnson, Greg Johnson, H C Johnson, Harald B Johnson III, Horace Johnson, PhD, I Johnson, PhD, J Donald Johnson, J William Johnson, MD, James R Johnson, PhD, James W Johnson, PhD, Jeffrey Johnson, Jim Johnson, Julie Johnson, Kent Johnson, PhD, L R Johnson, Laurence N. Johnson, Leland Johnson, PhD, Leo F Johnson, PhD, Lloyd Johnson, M. W. Johnson, PhD, Mark A Johnson, Mark Johsnon, Melvin Johnson, PhD, Michael Johnson, Michael S. Johnson, P Johnson, Paul D Johnson, R D Johnson, Ray E Johnson, PhD, Raymond E Johnson, Richard B Johnson, Richard D Johnson, PhD, Richard G Johnson, Richard R Johnson, Robert B Johnson, PhD, Robert G. Johnson, Robert Johnson, PhD, Robert Johnson, Robert Johnson, PhD, Robert Johnson, Robert Johnson, PhD, Robert V Johnson, PhD, Robt L Johnson, PhD, Rodney B Johnson, Ronald Gene Johnson, PhD, Ronald Johnson, Sieglende Johnson, Terrance Johnson, PhD, Terrell K Johnson, Theodore R Johnson, Thomas J Johnson, Thomas P Johnson, Todd Johnson, PhD, Walter E Johnson, Walter F Johnson, Wendell Johnson, William Johnson, William Johnson, PhD, William P Johnson, William R Johnson, PhD, Wyatt Johnson, Bill Johnston, Bonnie Johnston, Bruce Johnston, David Johnston, George Johnston, George M Johnston, H D Johnston, PhD, H D Johnston, Johnston, MD, PhD, Marshall Johnston, PhD, Matt Johnston, S Johnston, PhD, Stephan E Johnston, Stephen A Johnston, PhD, William D Johnston, PhD, William Johnston, PhD, William R. Johnston, John E Jolley, PhD, Von D Jolley, PhD, Steven D. Jolly, PhD, Alfred Leon Joly, Gordon Jonas, Robert W Jonasen, AD Jones, Alan R Jones, PhD, Andrew E Jones, B C Jones, Bill Jones, PhD, Carl E Jones, Carlis Jones, Charles Jones, PhD, Chrisopher Jones, Christopher H Jones, Claude Jones, Derek Jones, Doug Jones, E C Jacobs Jones, Edgar J Jones, Edward T Jones, Emmett Jones, F Gordon Jones, Frank N Jones, PhD, G R Jones, G. W. Jones, Glen Jones, Granby Jones, H M Jones, PhD, J B Jones, Jack Jones, PhD, James J Jones, James Jones, PhD, John D Jones, MD, John Jones, John Jones, John L Jones, PhD, Kay H Jones, PhD, Les Jones, Louise Jones, PhD, Mark Jones, Marshall Jones, Merrell R Jones, PhD, Mitchell Jones, Myrtle Jones, Oliver Jones, Paul Jones, Paul Jones, Paul Jones, Professor Jones, Ralph Jones, Ralph Jones, Ray P Jones, Richard D Jones, Richard H. Jones, PhD, Robert Jones, PhD, Robert Jones, PhD, Robt F Jones, MD, Roy Carl Jones, PhD, Steven Jones, Taylor B Jones, PhD, Walt Jones, Wesley M Jones, PhD, Wilbur C Jones, PhD, Wm H Jones, Pete Jonghbloed, Peter E Jonker, John Jonkman, Richard Joos, PhD, Douglas Jordan, E D Jordan, PhD, Gary Jordan, Harold R Jordan, Henry Jordan, MD, Jonathan D Jordan, Marion Jordan, Paul Jordan, MD, Richard C Jordan, PhD, Robt K Jordan, Thomas Jordan, James R Jorden, Richard D Jorgenson, PhD, E S Jornsson, Robert A Jortland, Larry Josbeno, Bernard W Joseph, David Joseph, PhD, Peter Daniel Joseph, PhD, Raymond P Joseph, Stanley R Joseph, Lyman C Josephs III, Edward S Josephson, PhD, John R Josephson, PhD, Richard Joslin, Thomas L Jjossem, David Jowett, PhD, Pat Joyce, D Joye, PhD, Edward Jucevic, Paul Judas, James Juday, R. E. Juday, PhD, Victor Judd, George Jude, Joseph M Judge, PhD, Walter E Judson, Daniel Juliano, PhD, Patrick A. Juliant, Harry Julich, Hiram P Julien, PhD, Frederick J Julyan, PhD, John A Jung, PhD, William Junga, PhD, Eric Jungermann, PhD, Wm A Junk, PhD, D E Junker, PhD, M L Junker, PhD, James Junkin, Joseph Junkins, Terence Jupp, Paul Jurgensen, MD, Richard Jurgensen, MD, Leonard Juros, DDS, Ed Justice, G T Justice, James Justice, PhD, Robt J Justice, J Justiss Jr, Richard S Juvet, PhD, Matti Kaaranakari, Jay Kackley, Raymond F Kaczynski, Charles Kaempen, PhD, Morton T Kagan, PhD, Jack J Kahgan, Paul Kahgan, MD, Jon P Kahler, Richard L Kahler, MD, Kaye A. Kahli Ch, Charles Kahn, Joe Kahn, Joan D Kailey, Fritz Kain, Joseph A Kaiser, PhD, Dean M Kaja, John Kalafut, Klem Kalberer, Ken Kalbfell, Norman W Kalenda, PhD, Donald Kaley, John W Kalinowski, Robert J Kallal, PhD, David A Kallin, Lisa Kalman, PhD, Beth Kalmes, Mitchell M Kalos, Moses Kaloustain, PhD, Kary J Kaltenbacher, Ronald P Kaltenbaugh, Harold Kalter, MD, Brian D Kaluzny, Margaret A Kaluzny, Kamal, PhD, Medhat M Kamal, Martin Kamen, Wm W Kaminer, Victor V. Kaminski, PhD, John Kammermeyer, MD, Robert Kamp, James M Kampfer, Ronald R Kamyniski, Antony Kanakkanatt, PhD, Joseph M Kanamueller, PhD, Stanley M Kanarowski, David A Kandel, Bernard J Kane, Noel Andrew Patrick Kane, PhD, W Kane, PhD, Walter Kane, William Kane, PhD, Wm J Kane, MD, George T Kaneb, Sarath C Kanekal, PhD, Thoams M Kaneko, PhD, Edward Kanet, R C Kannan &amp; Assoc Inc, Thomas Kanneman, PhD, Benjamin H Kantack, Arthur R Kantrowitz, PhD, Paul Thomas Kantz, PhD, James H Kanzelmeyer, PhD, Justin M Kapla, Edward Lynn Kaplan, PhD, Gerson N Kaplan, MD, Hillel R Kaplan, Naum M Kaplan, Joe Kaplen, M Kapolka</a:t>
            </a:r>
            <a:endParaRPr b="0" lang="en-US" sz="1200" spc="-1" strike="noStrike">
              <a:solidFill>
                <a:srgbClr val="000000"/>
              </a:solidFill>
              <a:latin typeface="Calibri"/>
            </a:endParaRPr>
          </a:p>
        </p:txBody>
      </p:sp>
    </p:spTree>
  </p:cSld>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28">
                                  <p:stCondLst>
                                    <p:cond delay="0"/>
                                  </p:stCondLst>
                                  <p:childTnLst>
                                    <p:set>
                                      <p:cBhvr>
                                        <p:cTn id="238" dur="1" fill="hold">
                                          <p:stCondLst>
                                            <p:cond delay="0"/>
                                          </p:stCondLst>
                                        </p:cTn>
                                        <p:tgtEl>
                                          <p:spTgt spid="127">
                                            <p:txEl>
                                              <p:pRg st="0" end="0"/>
                                            </p:txEl>
                                          </p:spTgt>
                                        </p:tgtEl>
                                        <p:attrNameLst>
                                          <p:attrName>style.visibility</p:attrName>
                                        </p:attrNameLst>
                                      </p:cBhvr>
                                      <p:to>
                                        <p:strVal val="visible"/>
                                      </p:to>
                                    </p:set>
                                    <p:anim calcmode="lin" valueType="num">
                                      <p:cBhvr additive="repl">
                                        <p:cTn id="239" dur="5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40" dur="5000" fill="hold"/>
                                        <p:tgtEl>
                                          <p:spTgt spid="12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txBox="1"/>
          <p:nvPr/>
        </p:nvSpPr>
        <p:spPr>
          <a:xfrm>
            <a:off x="457200" y="609480"/>
            <a:ext cx="8229600" cy="5516640"/>
          </a:xfrm>
          <a:prstGeom prst="rect">
            <a:avLst/>
          </a:prstGeom>
          <a:noFill/>
          <a:ln w="0">
            <a:noFill/>
          </a:ln>
        </p:spPr>
        <p:txBody>
          <a:bodyPr anchor="t">
            <a:normAutofit fontScale="67000"/>
          </a:bodyPr>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Kap to Kle                            </a:t>
            </a:r>
            <a:r>
              <a:rPr b="1" lang="en-US" sz="1200" spc="-1" strike="noStrike">
                <a:solidFill>
                  <a:srgbClr val="000000"/>
                </a:solidFill>
                <a:latin typeface="Calibri"/>
              </a:rPr>
              <a:t>Bennett Kapp, PhD, Judith A Kapp, PhD, Daivd Kapple, George Kapusta, PhD, Larry Kapustka, PhD, Gabor Karadi, PhD, Francis W Karasek, PhD, Michael Karavas, Guido G Karcher, P E, W Bradford Karcher, Mario Karfakis, PhD, Delmar W Karger, Harold E Karges, Munawar Karim, PhD, Sid Karin, PhD, Richard D Karkkainen, Olgerts L Karklins, PhD, Ronald Karkosky, Eskil L Karlson, MD, James Karom Jr, Lester Karotkin, MD, J Karpa, Victor Karpenko, Gary Karpf, MD, Robert R Karpp, PhD, Paul Karr, PhD, Thomas W Karras, PhD, Denis H Karsten, Kenneth S Karsten, PhD, Ronald L Kasaback, Ronald A Kasberger, Mark Kaschmitter, E A Kasel, John D Kaser, PhD, Harold V Kaska, Dorrie Kasmar, Charles B Kasper, PhD, Lewis P Dasper, Daniel E Kass, A J Kassab, PhD, Robert J Kassal, Fellow, PhD, Raymond Kastendiek, Ross Kastor, Raymond Kastura, Rosalind Kasunick, M Katagiri, Larry C Katcher, Kenneth Katen, Williams S Kather, Suzanne Katt, Fred Kattuah, Herbert Katz, Ira Katz, PhD, Joseph J Katz, PhD, Joseph P Katz, MD, Marvin L Katz, PhD, Yale H Katz, Sally Katzler, J Kauchich, Frederick Kauffman, PhD, George B Kauffman, PhD, Jeffrey M Kauffman, Joel Kauffman, PhD, Peter W Kauffman, Thomas Kauffman, Alvin B Kaufman, Bill Kaufman, Daniel Kaufman, Dave Kaufman, George Kaufman, MD, Michael Kaufman, PhD, R G Kaufman, PhD, Kevin Kaul, Todd R Kaul, Alvin Kaumeyer, Robt R Kautzman, Ernest G Kavanaugh, Andrew Kay, Charles M Kay, David Kay, PhD, Peter P Kay, MD, Robert Eugene Kay, PhD, Robert L Kay, PhD, Saul Kay, MD, Michael Kaye, MD, Marvin D Kays, PhD, Kazakevich, PhD, Armen R Kazanjian, PhD, Ed Kazelskis, William Kazmann, Michael Keables, PhD, Charles Keal, Philip D Kearney, PhD, Paul D Kearns, Cresson Kearny, Keith Keating, MD, Kenneth L Keating, PhD, Lawrence C Keaton, PhD, William A Keba, Zvi Kedem, PhD, Horst H Kedesdy, PhD, David Keefe, Brian Keefer, Christopher W Keefer, Lee Keel, PhD, Richard Keel, Lyndon A Keele, Geoffrey S. Keeler, Robt A Keeler, Jay Keeley, Iris Keeling, Bradley P Keem, Howard Keen, PhD, Richard A Keen, PhD, Mark B Keene, Everett L Keener, Harold M Keener, PhD, Robert D Keenum, Gary J Kees, Doug Keever, Gerson Kegeles, PhD, Ralph O Kehle, PhD, John H. Kehr, Robert Kehrman, John D Keich, Byron Keil, Douglas M Keil, Marvin E Kiel, Wm Keil, Donald Keill, Hubert Keily, PhD, Carroll Keim, John E Keim, PhD, Karl Keim, B E Keiser, PhD, Robert P Keiser, Jerome B Keister, PhD, Morris Keith, Ed Kekec, George E Kelbly, Raymond A Kelinske, Lynette Kell, D Steven Keller, PhD, Fred Keller, Frederick Keller, PhD, Hermon Keller, Joe Keller, John Keller, John P. Keller, Joseph J Keller, Kenneth F Keller, PhD, Michael Keller, MD, Mike Keller, R Keller, Richard Keller, Wm E Keller, PhD, Glen E Kellerhals, PhD, Tom Kellermeyer, Charles D Kellett, Arthur Kelley, Bob Kelley, Charles T Kelley, PhD, Craig T Kelley, Dennis Kelley, Fenton Crosland Kelley, PhD, Jay Kelley, PhD, Jim D Kelley, Joseph Kelley, PhD, Trent Kelley, John Kellgren, PhD, Craig Kellogg, PhD, Dan A Kellogg, Albert Kelly, Amy L Kelly, Charles P Kelly Jr, Colin M Kelly, PhD, J Kelly, James L Kelly, JD Kelly, Kelly, Kelly, Margaret M Kelly, Patrick Kelly, Patrick R Kelly, Paul Kelly, Peter Kelly, Raymond Kelly, PhD, Robert Kelly, Sean P Kelly, W J Kelly, PhD, Wiiliam Kelly Jr, Charles Kelm, Bruce Kelman, PhD, Ronald G Kelsey, Frank N Kemmer, Lester Kemmling, Daniel W Kemp, George Kemp, Graham E Kemp, DVM, J Wesley Kemp, John D Kemp, PhD, Charles Kenas, Thomas Kenat, PhD, David R Kendall, Mike Kendall, Robert C Kendall, Robert E Kendall, Shawn Kendall, Walter Kendall, Francis Kendorski, Francis Kendrick, PhD, L N Kendrick, Peter H Kendrick, Robert Kendrick, Tyler Kenefick, Rochell Kenig, PhD, Hugh Mc Kenna, John H Kennah, Albert J Kennedy, PhD, Dallas C Kennedy I I, PhD, Howard V Kennedy, PhD, John E Kennedy, PhD, John R Kennedy, Larry Kennedy, Shephen Kennedy, William Kennedy, PhD, William Kennedy, J M Kennel, PhD, James Kennelley, PhD, Tim Kennemer, DVM, Harris Kenner, Francis T Kenney, PhD, A. R. Kenny, Andrew A Kenny, Clifford E Kent, Geo C Kent, PhD, Jim Kent, Richard C Kent, Suzanne Kenton, Michael J Keogh, PhD, William J Keohane, John Keown, Joyce E Kephart, Harold B Kepler, Steven P Kepler, Robert Kepp, PhD, Theodore R Keprta, Harold E Kerber, PhD, Josef Kercso, B. Charles Kerkhove, Jr, T Lamar Kerley, PhD, Clifford D Kern, PhD, Erich F Kern, Erich Kern, Michael Kerner, Quentin A Kerns, Donald L Kerr, PhD, Fred Kerr, Frederick Kerr, John F Kerr, John J M Kerr, Linda Kerr, Richard Kerr, MD, Wm Kerrigan, Anna M Kerrins, John Charles Kershenstein, PhD, Thomas W Kershner, Tom Kesler, Walter P Kessinger, PhD, Donna Kessler, Harold D Kessler, Andrew C Ketchum, Harry W Ketchum Jr, Francis C Kettl, John Kettler, Clement J Kevane, PhD, Jesse Keville, Michael Devion, Elbert R Key, Frank Key, Mel Keyes, PhD, Naaman H Keyser, Paul Keyser, David Keyston, Donald A Keyworth, PhD, Gregory B Kharas, PhD, RK Kibbe, Jennifer Kibiger, Daniel E Kiburz, Anthony S Kidawa, MD, Geoffrey Kidd, Harold Kidd, PhD, Thornton Kidd, MD, Vincent J Kidd, PhD, Michael L Kidda, Albert Kindwell, PhD, John W Kiedaisch, Bernard Kieffer, Rodney Kiel, Terry Kienitz, S F Kiersznowski, Donald W Kifer, David C Kilborn, Earl Kilbourne, Matthew Kilburn, Raphael M Kilcoyne, Carrol Kilgore, Charles Kilgore, Charles W Kilgore I I, Marion D Kilgore, Cengiz Kilic, MD, Cengiz Kilic, MD, Dennis D Kilkenny, Arthur M Killin, Joseph M Killion, Ronald F Kilmartin, William R Kilpatrick, MD, Kilpinen, PhD, David E Kim, MD, Hyun W Kim, PhD, Yong-Soo Kim, DVM, PhD, John E Kimberly, Keith M Kimbrell, MD, Harlon Kimbro, Theo D Kimbrough, PhD, Edward Kime, David R Kimes, Riley Kiminer, PhD, Charles O King, PhD, Chester L King, Edwin King, F. King, Francis King, Gera King, H H King, PhD, J S King, PhD, James King, Joe King, John W King, MD, John W King, PhD, Joseph E King, Patricia King, Paul King, Randy L King, Sanford King, PhD, Thomas King, William S King, Kingery, PhD, Charles Kingrea, PhD, C Louis Kingsbaker, James E Kingsbury, P I Kingsbury, PhD, Roger Kingsland, Lee Kinnaird, N Kenneth Kinnaird, Tommy C. Kinnaird, John J. R. Kinney, Gerald Lee Kinnison, PhD, Jerome W Kinnison, Robert R Kinnison, PhD, Norma A Kinsel, PhD, D E Kinser, John A Kinsey, Stephen C Kinsky, PhD, Gerald W Kinsley, Timothy P Kinsley, Roy H Kinslow, PhD, Thyl E Kint, Brice W Kinyon, John Kinzell, PhD, Donald Kinzer, H Grant Kinzer, R. C. Kinzie, Richard Kinzie, Martin Kiousis, Charles Kippenhan, PhD, Ralph C Kirby, Hartmann Kircher, James R Kircher, Peter Kirchhoff, E K Kirchner, PhD, Earl Kirk, Clyde A Kirkbride, PhD, Matthew L Kirkland, Dennis Kirkpatrick, PhD, Hugh R Kirkpatrick, John Kirkpatrick, Bessie H Kirkwood, PhD, Robert W Kirkwood, Philip G Kirmser, PhD, Ravi Kiron, PhD, Janet M. Kirsch, Paul R. Kirsch, Pamela Kirschner, Peter Kirwin, Roy Kiser, Chester J Kishel, PhD, Robin Kisling, Edwin Kispert, Horst Kissel, Hugh Kissell, Pamela D Kistler, PhD, Neil R Kitchen, MD, Thomas A Kitchens, PhD, John F Kitchin, PhD, Terence M Kite, PhD, Robert Kitt, Mark Kittridge, Thomas Kitts, Eugene D Kitzke, Edgar W Kivela, PhD, Jeffrey Kiviat, MD, Lassi Kivioja, PhD, Michael T Kizer, Ronald J Kizior, PhD, Alfred Klaar, Geo S Klaiber, PhD, Bruce H Klanderman, PhD, Amy G Klann, PhD, Walderman Klassan, L T Klauder Jr, PhD, Klaus, PhD, Gordon Klausman, Miro Klecka, PhD, Williad Kleckner, PhD, H Kleemeier</a:t>
            </a:r>
            <a:endParaRPr b="0" lang="en-US" sz="1200" spc="-1" strike="noStrike">
              <a:solidFill>
                <a:srgbClr val="000000"/>
              </a:solidFill>
              <a:latin typeface="Calibri"/>
            </a:endParaRPr>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8">
                                  <p:stCondLst>
                                    <p:cond delay="0"/>
                                  </p:stCondLst>
                                  <p:childTnLst>
                                    <p:set>
                                      <p:cBhvr>
                                        <p:cTn id="246" dur="1" fill="hold">
                                          <p:stCondLst>
                                            <p:cond delay="0"/>
                                          </p:stCondLst>
                                        </p:cTn>
                                        <p:tgtEl>
                                          <p:spTgt spid="128">
                                            <p:txEl>
                                              <p:pRg st="0" end="0"/>
                                            </p:txEl>
                                          </p:spTgt>
                                        </p:tgtEl>
                                        <p:attrNameLst>
                                          <p:attrName>style.visibility</p:attrName>
                                        </p:attrNameLst>
                                      </p:cBhvr>
                                      <p:to>
                                        <p:strVal val="visible"/>
                                      </p:to>
                                    </p:set>
                                    <p:anim calcmode="lin" valueType="num">
                                      <p:cBhvr additive="repl">
                                        <p:cTn id="247" dur="5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248" dur="5000" fill="hold"/>
                                        <p:tgtEl>
                                          <p:spTgt spid="128">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Kle to Kun                           </a:t>
            </a:r>
            <a:r>
              <a:rPr b="1" lang="en-US" sz="1200" spc="-1" strike="noStrike">
                <a:solidFill>
                  <a:srgbClr val="000000"/>
                </a:solidFill>
                <a:latin typeface="Calibri"/>
              </a:rPr>
              <a:t> Thomas Kleen, Vasilios Kleftis, Andrew J Klein, G Klein, Gordon L Klein, MD, Henry Klein, Howard J Klein, PhD, James D Klein, John Klein, Ludwig Klein, MD, RR Klein, PhD, Thomas Klein, W S Klein, Walter B Kleiner, PhD, Jarvis R Klem, Lawrence P Klemann, Paul G Klemens, PhD, George F Klemmick, Robert E Klenck, MD, Kenneth F. Klenk, PhD, Ronald W Klenk, PhD, Capt George J Klett, John Kleyn, PhD, Eugene M Klimo, PhD, Gary Kline, R. Jay Kline, Robert Kline, PhD, David Kling, Edwin Kiingman, William Klint, D A Klip, PhD, Sharon Klipping, Benny L Klock, PhD, Roger C Klockziem, PhD, John F Kloiler, Arnold Kloock, Thomas R Klopf, Lee Klopfenstein, MD, David Kloppenburg, Louis H Klotz, PhD, Melvin Klotzman, James Klouda, Raymond Kluczny, PhD, Anatole A Klyosov, PhD, Kent Knaebel, PhD, Edward A Knaggs, James Knapik, John Knapp, Ronald Knapp, PhD, Stephen Knapp, Elmer F Knauss, Martin E Knauss, Nona L Knauss, Matthew Knecht, Terence E C Knee, PhD, Wiliam Kneebone, PhD, B Kneeland, Tom Knetsley, A G Kniazzeh, PhD, Maurice Kniceley, Duane V Kniebes, Chesterton S Knight III, Dougals M Knight, PhD, Gary Knight, James F Knight, MD, James Knight, Jere D Knight, PhD, Jerry Knight, John Knight, PhD, Joseph K Knight, Knight, Rihard G Knight, PhD, Wilbur Knight, Knightes, PhD, William Knighton, Norm Knights, Richard H Knipe, PhD, David Knoble, PhD, James Otis Knobloch, PhD, Mark Knoderer, Mark Knoderer, Charles P Knop, PhD, Charles P Knop, PhD, Sam Knopp, Williams G Knorr, Wayne Knoth, Devin Knowles, Robert S. Knowles, Floyd Marion Knowlton, Gregory D Knowlton, PhD, James Knox, Kirvin L. Knox, PhD, Matthew A Knox, Christian W Knudsen Dr, PhD, B Warren Knudser, Chung-Yu Ko, Ian Koblick, Thomas E Kobrick, Henry Kobsa, PhD, Henry Kobsa, PhD, Katherine M Kocan, DVM, Arthur T Koch, PhD, Charles E. Koch, D Koch, PhD, David A Koch, Leonard Koch, Michael Koch, Robert Koch, Ronald E Koch, Tyson Koch, Ludvik F Koci, Kevin J Kock, JJ Koeger, William Koehl, PhD, Buford Koehler, Carol R Koehler, David Koehler, F Theodore Koehler, George Koehler, James S Koehler, PhD, Janice Koehler, Stan Keohlinger, Eldo C Lyde Koenig, PhD, Gina L Koenig, Robert Koenig, Lee E Koepke, Wellington W Koepsel, PhD, P L Koepsell, PhD, Ernest J Koestering, Eunsook Tak Koh, PhD, Robt Cy Koh, PhD, Clint Kohl, PhD, Robert A Kohl, PhD, George O Kohler, PhD, David L Kohlman, PhD, James P Kohn, PhD, Frederick C Kohout, PhD, Randall Kok, PhD, Juha P Kokko, MD, PhD, Alex Kokolios, Joshua O Kolawole, PhD, Ronald L Kolbash, PhD, William Koldwyn, PhD, Daniel H Kolerski, Paul M Kolich, James Koskan, Kurtis Koll, PhD, Lee R Koller, PhD, Loren D Koller, PhD, Tim F Koller, Tim Koller, Adam Kollin, Andrew Kolonay, Bernard J Kolp, PhD, Stanley P Koltun, Roger W Kolvoord, PhD, Kazimierz Kolwalski, PhD, Joel Komater, Frank Komorowski, MD, Henry Konet, Sam Kongpricha, PhD, Virgil Konopinski, Anthony Konopka, Dusan Konrad, PhD, Kenneth K Konrad, Steven Kontney, Hugh N Kony, Christopher Konz, Robert P Koob, PhD, Kevin D Kooistra, David Kooyman, PhD, Charles B Koons, PhD, Robert Koons, Frank Koontz, PhD, Dale W Koop, Peter D Kopack, Frank Kopczynski, PhD, John Kopec, Rudolph W Kopf, John T Kopfle, Kenneth D Kopke, D. N. Kopler, William Kopp, Lee E Koppelman, PhD, Bruce D Korant, PhD, Joseph Korch, Howard Kordes, John Kordosh, N Korens, Philip Korfe, Lemuel W Kornegay, MD, Edmund C Kornfeld, PhD, Jack I Kornfield, PhD, Brent D Kornman, Brad Kornmiller, Charles H. Korns, PhD, Larry Kornze, Edward Korostoff, PhD, Mary B Korpi, Mary Korpi, Stan Korte, Curtis Kortemeier, Daniel R Kory, PhD, Charlie Kosarek, Roger Kosch, Theresa M Koscny, George E Kosel, Steven K Koski, Bart Kosko, PhD, Randolph Kosky, Mark J Koslicki, Dean Koslofsky, Aaron D Kossoy, PhD, Robert Kostelniki, PhD, Robt A Koster, PhD, Dennis Kostic, David Kotowski, Norman L Kotraba, Frank Koucky, PhD, Kishen Koul, PhD, Fleetwood Koutz, PhD, Eugene George Kovach, PhD, J L Kovach, PhD, Joseph E Kovacic, William P Kovacik, PhD, Nagy H Kovacs, PhD, Stephen Kovaka, Charles Koval, Leslie R Koval, PhD, Thomas F Kowalczyk Jr, Paul C Kowallis, Richard A Kowalsky, Theodore J Kowalyshyn, MD, Sankar Koyal, PhD, Edward Koyaw, Robert W Koza, Gregory A Kozera, Kenneth Koziol, Adam Kozma, PhD, Bob Kraemer, John G Kraemer, Tim Kraemer, John N Kraeuter, PhD, E H Krafft, Geoffrey A Krafft, PhD, William R Krafft, Irving H Kraft, Kraft, PhD, Richard Kraft, Peter Krag, PhD, Paul Krail, PhD, Jerry Kraim, PhD, Ron Krajcik, John J Krajewski, PhD, Deborah J Krajicek, Keith Krake, Roman J Kramarsic, PhD, John Kramberger, Gary Kramer, PhD, Gordon Kramer, Karl J Kramer, PhD, Kenneth Kramer, Wm Kramer, Douglas Kramm, Jerrod Kramzler, Karl W Krantz, PhD, George G. Krapfel, Jan Krason, PhD, Jan Krason, Clyde H Kratochvil, MD, PhD, Howard R Kratz, PhD, David J Krause, PhD, Ray C Krause, Fred Krauss, George Krauss, PhD, Lewis And Mrs Kathy Krauss, Robert Krauss, PhD, Lawrence C Kravitz, PhD, Arthur A Krawetz, PhD, Arthur Krawetz, PhD, Herman F Kraybill, PhD, Robert F Kraye, John Krc Jr, Lawrence Krebaum, PhD, Christopher P Krebs, Krebsbach, K Kreckel, John B Kreer, PhD, Eric Kreidler, PhD, Henry G Kreis, Ron Kreis, PhD, William Kreiss, PhD, George Krem, PhD, Richard Kremer, PhD, Peter A Krenkel, PhD, Carl Krespan, PhD, Robert Kress, Roger Kret, Robt W Kretzler, Harold Kreutzer, Charles R Kreuz, Warren C Kreye, PhD, Joseph Z Krezandski, PhD, Robt E Kribal, PhD, Victor Kriechbaum, Arthur F Krieg, MD, Daniel R Krieg, PhD, Roy Krill, Jacqueline Krim, PhD, Scott A Kriner, Albert S Krisher, Jacob K Krispin, PhD, James G Krist, Kevin Krist, PhD, Louis G Kristjanson, Steve Kristoff, PhD, Mark S Kristy, MD, George J Kriz, PhD, William G Krochta, PhD, Lillian A Kroenke, William J Kroenke, PhD, Douglas H Krohn, Joseph Kroker, Gary Krol, James Kromer, Gerald E Kron, PhD, Paul H. Kronfield, Gary Krongstad, Rober Lee Kroodsma, PhD, John L Kropp, PhD, Tim C Kropp, Julius R Kroschewsky, PhD, John R Krouse, Donald M Krtanjek, Burke B Krueger, Jim Krueger, Peter G Krueger, PhD, Philip M Krueger, PhD, Roland Frederick Krueger, Eddwin H Krug, Frank Krugh, Keith Krugh, Glenn L Krum, Jack K Krum, PhD, Ann Marie Krumenacker, George Krumlik, Jerry Krumlik, MD, R H Krumme, Paul H Krumrine, PhD, Jerry Krumwiedre, Gai Krupenkin, E C Krupp, PhD, David Krus, PhD, Lorin R Krusberg, PhD, Oliver Kruse, Tsu-Kung Ku, William Kubacki, Karen S Kubena, PhD, David J Kubicek, Paul Kubicek, W Kubitsihel, MD, Donald Gene Kubler, PhD, Mitsuru Kubota, PhD, S Kubow, PhD, John F Read Kuc, PhD, Louis Kuchnir, MD, Louis Kuchnir, MD, Moyses Kuchnir, PhD, David Kuck, James E Kuder, PhD, Marc Kudla, Antonin Kudrna, Clark Kuebler, Donald Kuehl, Adelheid Kuehnle, PhD, Donald Kuenzi, MD, Donald Kuenzi, MD, Martha Kuenzi, Eric S Kugler, George Kugler, PhD, Eugene J Kuhajek, PhD, Moira Kuhl, Michael Kuhlmann, Bernard Kuhn, Gerald Kuhn, John Kuhn, Peter Kuhn, PhD, Raymond E Kuhn, PhD, Carl Kuhnen Jr, Garth Kuhnhein, Judith Kuhnle, Kenneth Kuiken, PhD, Andrew D Kulaga, MD, Matthew H Kulawiec, Gerard Kulbieda, Andrew Kulchar, Eugene Kulesza, James Kulick, Pe, Arun D Kulkarni, PhD, Rudolph K Kulling, PhD, Amarendhra Kumar, PhD, Nipha Kumar, H K Kumer, Jr, Jeff Kimer, Larry R Kumher, Joseph A Kunc, PhD, John S Kundrat, MD, Samar Kundu, PhD, Robert Kunkle, MD, Reuben Kunoff, Gordon Kuntz, PhD, Larry Kuntz</a:t>
            </a:r>
            <a:endParaRPr b="0" lang="en-US" sz="1200" spc="-1" strike="noStrike">
              <a:solidFill>
                <a:srgbClr val="000000"/>
              </a:solidFill>
              <a:latin typeface="Calibri"/>
            </a:endParaRPr>
          </a:p>
        </p:txBody>
      </p:sp>
    </p:spTree>
  </p:cSld>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8">
                                  <p:stCondLst>
                                    <p:cond delay="0"/>
                                  </p:stCondLst>
                                  <p:childTnLst>
                                    <p:set>
                                      <p:cBhvr>
                                        <p:cTn id="254" dur="1" fill="hold">
                                          <p:stCondLst>
                                            <p:cond delay="0"/>
                                          </p:stCondLst>
                                        </p:cTn>
                                        <p:tgtEl>
                                          <p:spTgt spid="129">
                                            <p:txEl>
                                              <p:pRg st="0" end="0"/>
                                            </p:txEl>
                                          </p:spTgt>
                                        </p:tgtEl>
                                        <p:attrNameLst>
                                          <p:attrName>style.visibility</p:attrName>
                                        </p:attrNameLst>
                                      </p:cBhvr>
                                      <p:to>
                                        <p:strVal val="visible"/>
                                      </p:to>
                                    </p:set>
                                    <p:anim calcmode="lin" valueType="num">
                                      <p:cBhvr additive="repl">
                                        <p:cTn id="255" dur="50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256" dur="5000" fill="hold"/>
                                        <p:tgtEl>
                                          <p:spTgt spid="12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txBox="1"/>
          <p:nvPr/>
        </p:nvSpPr>
        <p:spPr>
          <a:xfrm>
            <a:off x="457200" y="609480"/>
            <a:ext cx="8229600" cy="5516640"/>
          </a:xfrm>
          <a:prstGeom prst="rect">
            <a:avLst/>
          </a:prstGeom>
          <a:noFill/>
          <a:ln w="0">
            <a:noFill/>
          </a:ln>
        </p:spPr>
        <p:txBody>
          <a:bodyPr anchor="t">
            <a:normAutofit fontScale="67000"/>
          </a:bodyPr>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Kun to Len                           </a:t>
            </a:r>
            <a:r>
              <a:rPr b="1" lang="en-US" sz="1200" spc="-1" strike="noStrike">
                <a:solidFill>
                  <a:srgbClr val="000000"/>
                </a:solidFill>
                <a:latin typeface="Calibri"/>
              </a:rPr>
              <a:t>George W Kunze, PhD, Jing-Wen Kuo, PhD, Peter T Kuo, MD, Sean T. Kuplean, James R Kuppers, PhD, Edward Kurdziel, William M Kurple, Larry Kurt, David W Kurtz, PhD, Max Kurtz, Peter Kurtz, PhD, Vincent E Kurtz, PhD, Henry Kurusz, Frank T Kurzweg, MD, John R Kurzz, Peter Kusel, PhD, John Kushner, Chris E Kuyatt, PhD, Robert Kuykendall, Bogdan Kuzmanovic, PhD, Andrew Kuzmission, Tung-Sing Kwong, Philip Kyriacou, Lydiane Kyte,  Kenneth M Labas, Ronnie Labaume, Leonder Labbe, Frank M Labianca, PhD, Melvin Labitt, Peter Labosky, PhD, R G Lacallade, Gary Lacamu, Paul Lacelle, MD, PhD, J Michael Lacey, John J Lacey Jr, Tom Lacey, Gary W Lachappelle, Robert J Lacher, PhD, Rosemary Lacher, Sanford Lacks, PhD, Sterling S Lacy, W C Lacy, PhD, Conrad Ladd, Ronald J Ladry, Edward E Lady, PhD, Joseph T Laemmle, PhD, Franklin Laemmlen, PhD, William E Lafache, James Lafervers, PhD, John M Lafferty Jr, Robert J Laffin, PhD, Eugene C. Laford, PhD, B D Lafrate, Evan D Laganis, PhD, Bruce Lagasse, Charles Lagergren, Kenneth Lagrand, Thomas W Lagrelius, MD, B D Lagrone, John M Lagrone, John Laidig, Milton Laikin, Herb Laing, William Laing, Michael L Laird, James L Lake, James Lake, Peyton M Lake, Corwin H Lakin, Jaynarayan H Lala, PhD, Joseph A Lallo, Jerry Laman, Donald L Lamar, PhD, Robert A. Lamarre, Allen B. Lamb, Allen Lamb, Donald J Lamb, PhD, Donald R Lamb, PhD, George W Lamb, Henry J Lamb, Jan B Lamb, Jeffrey C Lamb, Roger Lamb, Paris L Lambdin, John P Lambert, Andrew Lambie, John P Lambooy, PhD, Burton B Lamborn, Richard W Lambrecht Jr, George W Lambroff, Mario Lemendola, Leo J Lammers, Trevor G Lamond, PhD, Robert G Lamontagne, PhD, Robert G Lamontagne, PhD, W E Lamoreaux, Philip Lamoreaux, David L Lamp, Dale J Lampton, G.D. Lancaster, Malcolm Lancaster, MD, Paul Lancaster, Vicki A Lancaster, PhD, Professor Lance, Wm Land, H D Landahl, PhD, William Landau, MD, Richard J Landborg, PhD, Richard L Lander, PhD, David E Landers, S Landeur, Wm C Landgraf, PhD, Jerome Lando, PhD, Bruce Landreth, John R Landreth, PE, J Landrum, Archie Landry, L Landry, Ramsey J Landry, Jr, William G Landry, William Landuyt, Brian Lane, C Elaine Lane, MD, Carl L Lane, PhD, Charles J Lane, Clifford Lane, David Lane, Edwin Lane, F Lane, George Lane, Radford Lane, Richard L Lane, PhD, Robert Lane, PhD, Robert Lane, Robt Lane, PhD, Scott Lane, Debbie Laney, Conrad M Lang, PhD, Ernie Lang, Harold H Lang, PhD, Newton L Lang, Nick Lang, William R Lang, Arthur Lange, Charles F Lange, PhD, George R Lange, Robert Carl Lange, PhD, Robert Lange, Stephen S. Lange, Prof Langeland, PhD, Ralph Langenheim, PhD, Arthur M. Langer, PhD, Paul B Langford, PhD, Gerald B Langille, PhD, Philip G Langley, PhD, Robert C Langley, Dale Langmade, David J Langston, Lance Lankford, P Mark Lankford, W Lankford, PhD, H Norbert Lanners, PhD, Richard Lannin, Edward Lanser, Jean D Lantrip, Thomas L Lantz, Frank M Lanzafame, PhD, Lanzafame, PhD, George Laperle, Gerald J Lapeyre, PhD, Evelyn P Lapin, PhD, Thomas Laplaca, MD, Dennis Lapoint, PhD, James Laporte, Vince Lara, Kurt A Larcher, James F Lardner, Andre Lareau, James G Lareau, John A Larkin, Thomas Larko, Seymour Larock, Judd Larowe, MD, Vernon Larrowe, PhD, Henry Larrucea, Robert Larsell, Daivd Larsen, Dale G. Larsen, Elisabeth Larsen, Eric B Larsen, PhD, Eric Russell Larsen, PhD, Greg Larsen, Howland A Larsen, PhD, Larry Larsen, Lloyd Larsen, PhD, Nathan Larsen, Robert P Larsen, PhD, Wm E Larsen, Ashley Larson, Bruce L Larson, PhD, Charles Conrad Larson, PhD, Dana E Larson, Donn Larson, Dwight Larson, MD, Ernest T Larson, Harry Larson, John Larson, Kenneth Larson, Kiser- Larson, Mark Larson, Michael A Larson, Philip Larson, PhD, Reginald E Larson, Robert Larson, PhD, Ron Larson, PhD, Roy E Larson, Russell C Larson, John H Lary Jr, MD, L Lasagna, MD, Reginald M Lasater, Stanley B Lasday, Jack S Lasky, PhD, Bill L Lasley, PhD, John Lasnetske, DDS, Andrew Lasslo, PhD, Stanley Laster, PhD, Joseph Lasuki, William S Laszlo, Alan R Latham, PhD, Benny L Latham, James Latham, Hamdi Latif, Gail Latimer, P R Latour, PhD, Robert P Lattimer, PhD, H Lattman, PhD, Duane E Lau, Anthony Lauck, Lloyd H Lauerman, PhD, Robert J Laufer, PhD, Walter A. Laufer, Gilbert A Lougas, Ralph P Laughlin, K Ek Laughrey, Natasha Lauinoric, Wm E Laupus, MD, Robert Laurence, PhD, Jim Lauria, A M Laurie, Mike Lauriente, PhD, Richard Laursen, Thomas Lauterio, PhD, David Laven, Jerome Lavine, PhD, Marcel E Lavoie, PhD, Albert G Iles Law, PhD, Gordon Law, Ronald D Law, D John L Lawless Jr, PhD, Harold B Lawley, John Lawlor, Brian Lawrence, Edward Lawrence, Elbert D. Lawrence, MD, Joseph Lawrence, Layle Lawrence, PhD, Robert Lawrence, William F Lawrence, Wm H Lawrence, Donald Lawrenz, Eugene J Lawrie, David N Lawrence, Jr, Bill Lawson, David Lawson, David Lawson, Gerald W Lawson, Joel S Lawson, PhD, Kent Lawson, PhD, Richard Lawson, Richard Lawson, Royce Lawson, Bill Lawver, Jeffrey C Lawyer, John F Lawyer, John Lax, Douglas Lay, PhD, William A Laycock, PhD, Grant Layton, DDS, Thomas W Layton, PhD, Norman Lazaroff, PhD, Paul D Lazay, MD, PhD, Robert Lea, Susanne M Lea, PhD, Frank W. Leach, Hugh Leach, James Leach, PhD, Marisa Leach, David F Leake, Lewis Leake, The Leakes, Wm D Leake, Richard Leamer, PhD, Charles W Lear, R Douglas Learmont, Albert O Learned, Patrick Leary, Gerald R Leather, PhD, Tommy Leavelle, PhD, Paul M Leavy, J M Lebeaux, PhD, Jozef Lebiedzik, PhD, Lynn L Leblanc, PhD, George R Lebo, PhD, Stephen Le Brie, PhD, Kennon Lebsack, Jean-Pierre Leburton, PhD, Robert J Lecat, PhD, Bill Lech, James Lechner, PhD, Richard V Lechowich, PhD, Gregory L Leclaire, Girvis Ledbetter, Harvey D Ledbetter, PhD, Joseph Ledbetter, PhD, Bill Ledford, Frank L Ledford, MD, George Ledin, Brian W Lee, PhD, Burtrand I Lee, PhD, Charles E Lee, D M Lee, Daniel V Lee, David J. Lee, David Lee, Donald Lee, PhD, Dwain N Lee, Eddie Lee, Griff C Lee, Harold D Lee, Harold Lee, Harry A Lee, Harry R Lee, J T Lee, James Lee, PhD, June M Lee, Larry Lee, MD, Lindsey D Lee, Min L Lee, PhD, N T Lee, Paul Lee, PhD, Richard Lee, Robert Lee, Robert W Lee, Terrence T Lee, William Lee, PhD, H William Leech, PhD, Clark Leedy, PhD, James L Leef, PhD, Russell E Leek, Steve Leeland, Keith Leese, David C Leestone, James F Leetch, PhD, Richard Leeth, Bob Lefelar, Robert A Lefever, PhD, Tod Lefevre, John Leffler, Kevin Lefler, Gail Legate, Harold Legate, N A Legatos, Mark R. Legg, PhD, Paul Legg, Robert B Leggett, August F Lehman, Donald R Lehman, PhD, Joseph Lehman, Mike Lehman, Ridhard K Lehman, Ronald G Lehman, Walter Lehman, C F Lehmann, Ernest Lehmann, Jim Lehmann, William Lehmaun, John Lehning, Jay H Lehr, PhD, Nathaniel Lehrman, MD, David Leibman, Richard Leicht, Roger Leick, Richard Leidlein, Mark Leifer, MD, Algird G Leiga, PhD, Leslie Leigh, Warren Leigh, Walter H Leimert, Jr, Joseph Leimkuhler, John Lein, Jennifer Leinart, Troy Leingany, Joshua M Leise, PhD, James C Leisk, Daniel Leiss, Jon Leist, Richard B Leisure, George W Leisz, Paul Leithart, MD, Vicoria M Leitz, PhD, Daniel D Lelong, Jason Lembeck, PhD, Eric E Lemke, Richard Lemke, Mark Lemley, Terry L Lemley, PhD, Richard C Lemmon, Leslie R Lemon, Robert W Lemon, W L Lemon, MD, Ron Lenaker, Andrew Lenard, PhD, Roger X Lenard, George W Leney, Dean J Lennard, Ralph Lennerth, Ronald C Lenox, PhD, Ronald S Lenox, PhD, Carl Lentz, MD, Gary L Lentz, PhD, Robert Lentz</a:t>
            </a:r>
            <a:endParaRPr b="0" lang="en-US" sz="1200" spc="-1" strike="noStrike">
              <a:solidFill>
                <a:srgbClr val="000000"/>
              </a:solidFill>
              <a:latin typeface="Calibri"/>
            </a:endParaRPr>
          </a:p>
        </p:txBody>
      </p:sp>
    </p:spTree>
  </p:cSld>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8">
                                  <p:stCondLst>
                                    <p:cond delay="0"/>
                                  </p:stCondLst>
                                  <p:childTnLst>
                                    <p:set>
                                      <p:cBhvr>
                                        <p:cTn id="262" dur="1" fill="hold">
                                          <p:stCondLst>
                                            <p:cond delay="0"/>
                                          </p:stCondLst>
                                        </p:cTn>
                                        <p:tgtEl>
                                          <p:spTgt spid="130">
                                            <p:txEl>
                                              <p:pRg st="0" end="0"/>
                                            </p:txEl>
                                          </p:spTgt>
                                        </p:tgtEl>
                                        <p:attrNameLst>
                                          <p:attrName>style.visibility</p:attrName>
                                        </p:attrNameLst>
                                      </p:cBhvr>
                                      <p:to>
                                        <p:strVal val="visible"/>
                                      </p:to>
                                    </p:set>
                                    <p:anim calcmode="lin" valueType="num">
                                      <p:cBhvr additive="repl">
                                        <p:cTn id="263" dur="5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repl">
                                        <p:cTn id="264" dur="5000" fill="hold"/>
                                        <p:tgtEl>
                                          <p:spTgt spid="13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txBox="1"/>
          <p:nvPr/>
        </p:nvSpPr>
        <p:spPr>
          <a:xfrm>
            <a:off x="457200" y="609480"/>
            <a:ext cx="8229600" cy="5516640"/>
          </a:xfrm>
          <a:prstGeom prst="rect">
            <a:avLst/>
          </a:prstGeom>
          <a:noFill/>
          <a:ln w="0">
            <a:noFill/>
          </a:ln>
        </p:spPr>
        <p:txBody>
          <a:bodyPr anchor="t">
            <a:normAutofit fontScale="67000"/>
          </a:bodyPr>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Len to Lud                           </a:t>
            </a:r>
            <a:r>
              <a:rPr b="1" lang="en-US" sz="1200" spc="-1" strike="noStrike">
                <a:solidFill>
                  <a:srgbClr val="000000"/>
                </a:solidFill>
                <a:latin typeface="Calibri"/>
              </a:rPr>
              <a:t>Roland E Lentz, Stephen K Lentz, Pter E Lenz, Charles F Lenzinger, Lawrence L Leoise Ii, Leonard Leon, Ernie Leonard, Fred C Leonard III, John Leonard, John W. Leonard, Richard Leonard, Thomas Leonard, W Leonard, Joseph W Leone, Mario Leone, Bruno Leonelli, Joseph Leonelli, PhD, John Leonora, PhD, Arkady Leonov, PhD, Keith A Lepak, MD, Peter C Leport, MD, Peter Leport, MD, James Leporte, Howard Leeper, Gregory S Leppert, PhD, Dennis Leppin, David M Lesak, Terry A Lesch, John F Lescher, Ray Leser, Richard Lesher, James D. Lesikar, PhD, Jim Leslie, Virgil Lessels, James Lessman, Howard Lessoff, Gregory S Lester, Elma Laterman, PhD, Donald A Letourneau, Nelson J Letourneau, PhD, Gary Letsinger, Andrew Lett, Michael A. Leuck, Benjamin S Leung, PhD, H A Leupold, PhD, Thurston Levay, Richard Levere, MD, Walter Frederick Leverton, PhD, Allan L Levey, Gilbert Levin, PhD, Karen N Levin, Marc S Levin, MD, Robert Levin, PhD, S Benedict Levin, PhD, Stewart Levin, PhD, Arnold D Levine, PhD, Bernard Levine, PhD, Newton Levine, Dave Levison, PhD, Sidney B Levinson, Stanley Levinson, PhD, Louis Leviticus, PhD, Elliott H Levy, Richard H Levy, PhD, Seymour Levy, Stanley S Levy, PhD, Robert M Lewert, PhD, Michael D Lewes, Ala Lewis, Barbara Lewis, Catherine Lewis, PhD, D Lewis, David W Lewis, PhD, Dayton A Lewis Jr, E Lewis, Edwards Lewis, PhD, Frank Lewis, Frank W. Lewis, George R Lewis, Gordon D Lewis, PhD, John A Lewis, PhD, John C Lewis, Lawrence G Lewis, PhD, Lawrence T Lewis, PhD, Milton Lewis, PhD, Peter A Lewis, PhD, Richard C Lewis, Robert Lewis, Russell J Lewis, PhD, Steven R Lewis, Ted E Lewis, William Lewis, PhD, William Lewis, Gerard J Leygraaf, Ruth Leyse, PhD, Chia-Yu Li, PhD, Huilin Li, PhD, Wei Li, James E. Libby, Robert D Libby, James J Licari, PhD, Anthony Licata, Frank Lichovsky, David Licht, Irwin A Lichtman, PhD, T Lick, PhD, Charles G Liddle, DVM, Stephen Liddle, PhD, William Liddle, L Gie Liem, MD, Timothy E Lien, Thomas Lieser, MD, Harvey M Lifsey, PhD, James A Liggett', PhD, L Charles Lightfoot, Curt Lightle, Fred Lightner, Michael Lightstone, PhD, Lt Kermit L Likes, Usaf, Peter Liley, PhD, Robert E Liljestrand, Dean Lillard, PhD, Phil Lille, Roger E Lille, Jay Lilley, Charles Lilly, Alex Lim, Richard Liming, Jon Limke, PhD, Steven C Limke, James C. Lin, PhD, Winston T Lin, PhD, John Lincoln, Philip D Lindahl, William Lindblad, Philip Lindblade, R Kenneth Lindell, O Victor Lindelow, MD, Donald Lindeman, MD, Merlin Lindemann, PhD, Henry R Linden, PhD, Gerald S. Lindenmoen, Jay Lindholm, Charles A Lindley, PhD, Peter F. Lindquist, PhD, Laurence Lindsay, Sylvia Lindsay, Wm T Lindsay, PhD, Bruce G Lindsey, PhD, Robert Lindstrom, Richard Lindzen, PhD, Urban Linehan, Lindeman, Milton J Linevsky, PhD, Sung C Ling, PhD, Bangalore Lingaraj, PhD, Wayne Lingle, Bernard A Link, PhD, William F. Linke, Laurel Linkert, Donald Linn, PhD, Kurt O Linn, PhD, Robert Linn, Ralph Linsker, MD, PhD, Frank Linville, Jr., Anthony P Lioi, PhD, Glenn Liolios, Harold Lion, William G Lipke, PhD, Robert E Lippens, PhD, Richard E Lippoth, Clarence D Lipscombe Iii, PhD, Wayman Lipsey, Jay Lipson, Merrill I Lipton, MD, Michael Lipton, PhD, Emil P Lira, PhD, Adam Lis, PhD, Wm E Liss, Ellen K Lissant, PhD, Kenneth J Lissant, PhD, Kurt R List, Bruce A Lister, Charles A Lister, Mark Lister, PhD, Jim Litchfield, Arthur Litheredge, Donald Little, E Little, Frank Little, Frank Little, Jack E Little, PhD, Robert L Little, PhD, William J Little Jr, Col Daniel W Litwhiler, PhD, Baw- Lin Liu, PhD, Chian Liu, PhD, Fred Liu, PhD, Henry Liu, PhD, W M Liu, PhD, John Liutkus, PhD, George A Livingston, Radm W H Livingston, Richard G Livingston, Robert S Livingston, PhD, Livingstone, PhD, William A Livinson, Josep Llaurado, MD, Alyson Llerandi, Clement M Llewellyn Jr, Alan Lloyd, Barry Lloyd, Harold Lloyd, Thomas W Lloyd, Vern Lloyd, Fred P Lobban, M Lobello, Gene M. Lobrecht, S J Locascio, PhD, Charles Lochmuller, PhD, Micheal C Lock, Royce Z Lockart, PhD, A Locke, Edwin A Locke, PhD, Krystyna Locke, PhD, Raymond K Locke, William Lockett, Brent Lockhart, Robert Lockhart, Thomas J Lockhart, William R. Locklear, David A Lockmeyer, J Lockwood, PhD, Paul L Lockwood, Kenton M Loda, Willem Lodder, PhD, Eric Lodewijk, Eric Lodewyk, James Lodge, David Loduca, Steven Loduca, PhD, Alfred R Loeblich III, PhD, Henry Loehr, PhD, Jaques Loes, Robert G Loewy, PhD, Dave Lofe, Robert Loffredo, PhD, Mr Ernest E. Loft, R Loftfield, R Lofton, MD, Wm E Lofton, John T Loftus, Jerry L Logan, Mark Logan, MD, Thomas L Logan, Thomas Logan, R M Logeman, Charles B Loggie, Thomas J Loginess, Francis M Logullo, PhD, Robert Lohr, H Y Loken, PhD, Stanley J Lokken, PhD, H. William Lollar, Julian H Lombard, PhD, G Lombardi, PhD, Leonard Lombardi, PhD, William Lomerson, PhD, Allen Long, MD, Bryan H Long, Daid M Long, MD, PhD, Donlin Long, MD, Earl E Long, Erwin Long, Howard F Long, MD, James A Long, James D Long, James M Long, MD, John Long, PhD, Joyce M Long, Justin T Long, PhD, Lawrence E Long, Neville S Long, Walter Long, MD, William E Long, William E Long, PhD, William H Long, PhD, Gerald W Longanecker, Henry R Longcrier, John B Longenecker, PhD, Dennis D Longhorn, David Longinotti, H Jerry Longley, PhD, Vance Longley, W Warren Longley, PhD, Wm Longley Jr, PhD, Martin S Longmire, PhD, Ian S Longmuir, Daniel Longnecke, MD, Anna K Longobardo, PhD, Paul A Lan Longwell, PhD, Ruskin Longworth, PhD, Robert Loofbourow, Guy J Lookabaugh, Jerome J Looker, PhD, Nicholas J Loomer, John Loomis, John Looney, Looney, H G Loos, PhD, Patricia R Loos, Russell Loos, Herb Lopatka, Ronald Loper, Albert F Lopez, Elmer D Lorance, PhD, W F Loranger, PhD, Mark Lord, Thomas A Loredo, David Lorenz, MD, Kirk Lorenz, PhD, Leo F Lorenz, Mark Lorenz, Ronald Lorenz, William Lorenz, Jerry A Lorenzen, PhD, Robert F Lorenzen, MD, D Loreuzen, MD, David Lorge, Richard B Loring, Susan Loring, Larry Lortscher, John V Loscheider, Robert A Loscher, Monty Losee, Edward T Losin, PhD, Anthony Losquadro, Mark J. Losset, Peter F Lott, PhD, Paul A Lottes, PhD, Stuart Loucks, L Richard Louden, PhD, John R Loudermilk, Doug Loudin, Martha Loughlin, Gerard A Loughran, L Hh Louis, PhD, C Barton Loundagin, Jerry Loupee, Robert I Louttit, PhD, George Love, Greg Love, John A Love, Lyle Love, Richard M Love, Sadler Love, Michael E Lovejoy, C James Lovelace, PhD, Robert Lovelace, Radon R Loveland, Don Loveless, Ben Lovell, Bernard W Lovell, PhD, Harold L Lovell, PhD, Dale D Lovely, Gordon G Lovestrand, Cole Lovett, PhD, James A Lovett, John R Lovett, PhD, James Loving, Robert Loving, Jan Lovy, PhD, Delwyn Low, William R Low III, F Lowe, Robert Lowe, Robert M Lowe, Mark Lowell, PhD, Umass Lowell, PhD, Douglas Lowenhaupt, Mary Lowenhaupt, JM Lowenstein, PhD, G A Lowerts, PhD, John D. Lowery, Alvin Lowi, PhD, Thomas Lowinger, PhD, Charles B Lowrey, PhD, Allen Lowrie, Allen Lowrie, Justin Lowry, Allen Loy, MD, Samuel E Loy III, David Loyd, John Lozowski, MD, Kenneth J Little, John K Hsiung Lu, PhD, Brian Lubbert, Alan H Lubell, Martin S Lubell, Phillip Lubensky, Michael D Lubin, PhD, David Lucas, K Lucas, MD, Kathleen M Lucas, Linda C Lucas, MD, Phillip Lucas, Robert C Lucas, Roger Lucas, Wm R Lucas, PhD, Donald H Lucast, PhD, Peter J Lucchesi, PhD, Tom Lucciano, William Luce, PhD, Frank Lucenta, George W Luckey, PhD, TD Luckey, PhD, Brian Luckianow, Robert B Ludden, Frank Ludeman, Ron Ludgin</a:t>
            </a:r>
            <a:endParaRPr b="0" lang="en-US" sz="1200" spc="-1" strike="noStrike">
              <a:solidFill>
                <a:srgbClr val="000000"/>
              </a:solidFill>
              <a:latin typeface="Calibri"/>
            </a:endParaRPr>
          </a:p>
          <a:p>
            <a:pPr marL="229680" indent="-229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afterEffect" fill="hold" presetClass="entr" presetID="28">
                                  <p:stCondLst>
                                    <p:cond delay="0"/>
                                  </p:stCondLst>
                                  <p:childTnLst>
                                    <p:set>
                                      <p:cBhvr>
                                        <p:cTn id="270" dur="1" fill="hold">
                                          <p:stCondLst>
                                            <p:cond delay="0"/>
                                          </p:stCondLst>
                                        </p:cTn>
                                        <p:tgtEl>
                                          <p:spTgt spid="131">
                                            <p:txEl>
                                              <p:pRg st="0" end="0"/>
                                            </p:txEl>
                                          </p:spTgt>
                                        </p:tgtEl>
                                        <p:attrNameLst>
                                          <p:attrName>style.visibility</p:attrName>
                                        </p:attrNameLst>
                                      </p:cBhvr>
                                      <p:to>
                                        <p:strVal val="visible"/>
                                      </p:to>
                                    </p:set>
                                    <p:anim calcmode="lin" valueType="num">
                                      <p:cBhvr additive="repl">
                                        <p:cTn id="271" dur="5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repl">
                                        <p:cTn id="272" dur="5000" fill="hold"/>
                                        <p:tgtEl>
                                          <p:spTgt spid="13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l Gore’s Explanation to Children of Global Warming</a:t>
            </a:r>
            <a:endParaRPr b="0" lang="en-US" sz="4000" spc="-1" strike="noStrike">
              <a:solidFill>
                <a:srgbClr val="000000"/>
              </a:solidFill>
              <a:latin typeface="Calibri"/>
            </a:endParaRPr>
          </a:p>
        </p:txBody>
      </p:sp>
      <p:pic>
        <p:nvPicPr>
          <p:cNvPr id="62" name="" descr=""/>
          <p:cNvPicPr/>
          <p:nvPr/>
        </p:nvPicPr>
        <p:blipFill>
          <a:blip r:embed="rId2"/>
          <a:stretch/>
        </p:blipFill>
        <p:spPr>
          <a:xfrm>
            <a:off x="1143000" y="1600200"/>
            <a:ext cx="6858000" cy="4572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36103" fill="hold"/>
                                        <p:tgtEl>
                                          <p:spTgt spid="6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62"/>
                    </p:tgtEl>
                  </p:cond>
                </p:stCondLst>
                <p:childTnLst>
                  <p:par>
                    <p:cTn id="19" fill="hold">
                      <p:stCondLst>
                        <p:cond evt="onClick">
                          <p:tgtEl>
                            <p:spTgt spid="62"/>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Lud to Mar                         </a:t>
            </a:r>
            <a:r>
              <a:rPr b="1" lang="en-US" sz="1200" spc="-1" strike="noStrike">
                <a:solidFill>
                  <a:srgbClr val="000000"/>
                </a:solidFill>
                <a:latin typeface="Calibri"/>
              </a:rPr>
              <a:t>Richard R Ludlam, C T Ludwig, Claus B Ludwig, PhD, H Ludwig, Mark Ludwig, Mark Ludwig, PhD, Oliver G Ludwig, PhD, Ralph E Luebs, PhD, Lilburn H Lueck, Mike Lueck, Robert Luetje, Kenneth Luff, C Luger, Scott Lugibihl, Caroline N Luhta, Carl A Lukach, PhD, Mariann Lukan, Ronald Lukas, PhD, Thomas J Lukas, PhD, Beverly Luke, Dan Luke, Forrest Luke, Randolph Luke, Richard Luke, Robert A Luke, PhD, Robert Luke, PhD, Larry Lukens, Raymond J Lukens, PhD, Robert M Lukes, PhD, Jack Marling, PhD, Rufus Lumry, PhD, Wm W Lumsden, PhD, Wilburn L Luna, Robert A Lunceford, Douglas E Lund, PhD, J Lund, Mark W Lund, PhD, Melvin R Lund, Stephen Lund, Dennis L Lundberg, PhD, C E Lundeen, R. Kent Lundergan, Robert Lundin, PhD, Theodore Lundquist, PhD, James H. Lundy, M David Luneau, Frank P Lunn III, Jesse V Lunsford, R Dwayne Lunsford, PhD, Owen R Lunt, PhD, John H Lupinski, PhD, Anthony Lupo, PhD, Mark J Lupo, PhD, William H Lupton, PhD, J W Luquire, PhD, Channing Lushbough, PhD, Ilmar Lusis, Glenn R Lussky, W C Lust, Carol J Lusty, PhD, Julie Luther, Dwight E Lutsko, George W Luxbacher, PhD, Harold R Luxenberg, PhD, Walter Wilhelm G Lwowsk, PhD, Arthur Lyall, Glen Lybasger, A Lvin H Lybeck, Carl Lyday, Travis Q Lyday, John Lydic, Thomas L Lye, James Lyerly, Carl Lyford, Sidney Lyford Jr, PhD, John O Lyles, Leon Lyles, PhD, W R Lyman, Rodney G Lyn, PhD, Barry Lynch, Francis M Lynch, James R. Lynch, John Lynch, PhD, Keith D Lynch, PhD, Michael Lynch, Roland H Lynch, Thomas E Lynch, James E Lyne, MD, PhD, David Lynn, Joseph L Lyon, MD, William S Lyon, Gerald Lyons, Harold Lyons, PhD, James I Lyons, Joe Lyons, Michael J Lyons, Michael Lyons, Michael T Lyons, Richard N &amp; Lytton, Robt L Lytton, PhD,  E Jerome Maas, PhD, Martin Maassen, MD, Howard R Mabey, Monte D Mabry, Sam S Mabry Jr, Robert Maby, Lawrence P Mac Donald, Joseph Mac Phee, Robt S MacAlister, William Macalla, Brian W. Macarthur, PhD, Charles B Macaul, Howard Maccabee, MD, PhD, Howard Maccabee, PhD, Paul Macchi, MD, A MacDonald, Alexander Dainel MacDonald, PhD, Brian MacDonald, Bruce Macdonald, Digby D Macdonald, PhD, Michael J MacDonald, MD, PhD, Robert D. Macdonald, Robert S. Macdonald, Thomas G Macdonald, MD, Richard Macdougal, P MacDougall, PhD, Charles E Mace, Robert M MacFarlane, James Macgibbon, MD, John R MacGregor, MD, J Machen, Robert J Macher, Tommy J Machin, Paul Machmeier, PhD, Frank M. Machovec, PhD, Alex L MacInnis, Char L Mack, John Mack, Roy P Mackal, PhD, Bruce Macke, D. Wayne Mackenber, Douglas Mackenzie, MD, Peter Mackenzie, Patrick Mackey, Frederick Mackie, Jay Mackie, David Macko, Wm G MacLaren, Jr, PhD, Michael P MacLaverty, MD, John R Maclennan, Jo Ann Macmillan, MD, John H MacMillan, Joseph E MacMillan, Joseph E MacMillan, PhD, Loban T MacMillan, William Macquown, PhD, Robert A Macrae, Patrick K Macy, Peter Madaffari, David A Madden, Don M Madden, Robert Medden, MD, William Maddex, Franklin D Maddox, Larry E Maddox, Maddox, Scott E Maddox, Steve Maddox, Hulon Madeley, PhD, Jack T Madeley, John Madl, Kenneth O Madsen, PhD, Maxwell H Madsen, Raymond A Madson, Robert E Mady, William Maehl, John M Maerker, PhD, Scott Maethner, Akhilesh Maewal, PhD, Ronald Maga, Charles A Magarian, Jules J Magda, PhD, Curtis W Magee, John J. Magee, John L Magee, Kenneth Magee, Thomas Magee, Wm T Magee, PhD, R Magel, Dannys Maggard, Kent W. Maggert, Joe Maggi, Elwin A Magill, Jerry Magloughlin, PhD, Tom Alan Magness, PhD, R Magno, PhD, Alexander Magnus, James Magnuson, Edward F Magnusson, Rick Magstadt, D E Maguire, Jeffrey Maguire, John Maguire, Om Prakash Mahajan, PhD, Kent Ira Mahan, PhD, James Mahannah, Thomas Mahany, PhD, Richard Mahard, PhD, William T Mahavier, PhD, John P Maher, Joseph Maher, Robert Maher, PhD, Jeff Mahn, Pat Mahon, Leo Mahoney, Thomas P Mahoney, Frederick Maier, Leo R Maier, PhD, Robert A Maier, Walter P Maiersperger, Lt Col W P Maiersperger, Michael F Maikowski, Bruce H Mailey, Hugh D Maillie, PhD, Richard J Main, Robert Maines, Jay Maioli, Robert D Mair, PhD, Philip Majerus, MD, Adeeb Bassili Makar, PhD, Jeffrey E Malan, John B Malcolm, J Malcom, Robert T Maleeny, Douglas Malewicki, Scott Maley, Michael A. Malgeri, Peter E M'Algume, Hans Weil- Malherbe, PhD, Jeffrey Malick, PhD, Jim Gorden Malik, PhD, Irving Malkin, David H Mallalieu, Douglas Mallenby, PhD, James L Maller, PhD, Vincent T Mallette, D James J O Malley, PhD, Frank B Mallory, PhD, Joseph D Mallory, MD, Mallory, PhD, J C Mallurkey, Norman Malm, PhD, Carl W Malmberg, David E Malmquist, Bob Malone, Lee S Malone, Glenn Maloney, John Maloney, PhD, Kenneth Lon Maloney, PhD, Leo Maloney, Mitchell Maloney, Patricia A Maloney, Tom Maloney, George Maloof, MD, George Maloof, MD, Robert Malouf, Joseph T Maloy, PhD, Neil A Malpiede, Robert Malstrom, PhD, Carole Maltby, DVM, Eugene Maltzeff, Gary Maluf, Gary M Malvin, PhD, Richard Maly, Eugene Man, PhD, I R Manasco, Andrew Mance, MD, Howard Mancha, William Manchester, Edward Mancilla, Dorinda Mancini, Harold R Mancusi-Ungaro, Jr, MD, Naga B Mandava, PhD, Richard Mandel, Howard Mandelbaum, GS Mander, James M Mandera, Charles E Mandeville, Peter Mandics, PhD, Paul A Manera, PhD, David J Maness, John L Maneval, George Mangan, Samuel J Manganello, Baldev S Mangat, PhD, Lawrence R Mangen, Frank D Mango, PhD, Kent M Mangold, Carl Mangus, Robert A Manhart, PhD, T A Manhart, Robt C Mania, PhD, Philip Gordon Manke, PhD, Harold Manley, J. David Manley, John D Manley Iv, John H Manley, PhD, Warren O Manley, Philip H. Manly, C David Mann, Christian J Mann, PhD, George Mann, Joseph Bird Mann, PhD, Kenneth G Mann, PhD, Neil W Mann, Robert Mann, Susan L Mann, T Mann, Thomas E. Mann, William R Mann, PhD, George M Mannbeck, A Bryant Mannin, MD, Maria Manninen, Francis Manning, PhD, John C Manning, PhD, Lewis A Manning, Lindley Manning, Philip L Manning, Robert Manning, Stephen M Manning, Terry Manning, Joseph R Mannino, PhD, Fererick Mannion, PhD, J Mannion, Robert W. Monnon, PhD, Wm H Mannon, Sven Peter Mannsfield, PhD, WE Manry, MD, James Mansdorfer, Robt Mansell, PhD, Charles Mansfield, PhD, David R Mansfield, John Mansfield, PhD, Lee A. Mansfield, Richard Mansfield, Greayer Mansfield-Jones, PhD, John R Manspeaker, Carl Manthe, Arthur A Manthey, PhD, John Manthey, Jennie Mantione, Stanley Mantz, Ronald Manus, PhD, Angela G Many, August F Manz, Donald Mapes, George E Marak, MD, Karl Maramorosch, PhD, Juliano Maran, L Frank Maranville, PhD, A Marasco, Mike S Marby, Gladys M Marcelli, PhD, Samuel P March, Brent P Marchant, Leland Condo Marchant, Robert P. Marchant, Kirk A Marchell, Mark Marchese, Michael Marchese, DDS, Jack J Marcinek, Roger Marcomb III, R Marcotte, PhD, Robert W Marculewicz, Carol S Marcus, MD, PhD, Devra C Marcus, MD, Merritt Marcus, Louis F Marczynski, Herman L Marder, PhD, Nicholas Mares, Anthony Maresca, PhD, E Marg, PhD, Thomas E Margrave, PhD, Joseph Marhefka, J Maria, Matthew Mariano, PhD, Brian Maridon, Cheryl Marigon, Michael J Marinak, Dan Marinello, Richard M Marino, PhD, William D Marino, Andrew C Marinucci, PhD, John D Marioni, Cliff Mark, Melvin Mark, William Markel, PhD, Michael Markels Jr, PhD, W Marking, PhD, William Markley, George Marklin, PhD, Frandk Markoe, Angel Kroum Markov, MD</a:t>
            </a:r>
            <a:endParaRPr b="0" lang="en-US" sz="1200" spc="-1" strike="noStrike">
              <a:solidFill>
                <a:srgbClr val="000000"/>
              </a:solidFill>
              <a:latin typeface="Calibri"/>
            </a:endParaRPr>
          </a:p>
        </p:txBody>
      </p:sp>
    </p:spTree>
  </p:cSld>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8">
                                  <p:stCondLst>
                                    <p:cond delay="0"/>
                                  </p:stCondLst>
                                  <p:childTnLst>
                                    <p:set>
                                      <p:cBhvr>
                                        <p:cTn id="278" dur="1" fill="hold">
                                          <p:stCondLst>
                                            <p:cond delay="0"/>
                                          </p:stCondLst>
                                        </p:cTn>
                                        <p:tgtEl>
                                          <p:spTgt spid="132">
                                            <p:txEl>
                                              <p:pRg st="0" end="0"/>
                                            </p:txEl>
                                          </p:spTgt>
                                        </p:tgtEl>
                                        <p:attrNameLst>
                                          <p:attrName>style.visibility</p:attrName>
                                        </p:attrNameLst>
                                      </p:cBhvr>
                                      <p:to>
                                        <p:strVal val="visible"/>
                                      </p:to>
                                    </p:set>
                                    <p:anim calcmode="lin" valueType="num">
                                      <p:cBhvr additive="repl">
                                        <p:cTn id="279" dur="50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repl">
                                        <p:cTn id="280" dur="5000" fill="hold"/>
                                        <p:tgtEl>
                                          <p:spTgt spid="13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Mar to Mcc                           </a:t>
            </a:r>
            <a:r>
              <a:rPr b="1" lang="en-US" sz="1200" spc="-1" strike="noStrike">
                <a:solidFill>
                  <a:srgbClr val="000000"/>
                </a:solidFill>
                <a:latin typeface="Calibri"/>
              </a:rPr>
              <a:t>Gary Markovich, Morris J Markovitz, Morris J Markovitz, Alvin Marks, Clifford Marks, Clifford Marks, Daniel B. Marks, Elbert L Marks, Jay G Marks, PhD, Mary Marks-Wood, William E Marlatt, PhD, Bill Marler, Paul Marnell, PhD, Wilbur J Marner, PhD, John Marocchi, Patrick M Maroney, Dennis N Marple, PhD, Anthony D Marques, David Marquis, PhD, Marilyn Marquis, PhD, Wm N Marr, John Marra, Thomas Marrero, PhD, Russell H. Marsan, Henry L Marschall, Patrick Marsden, Sullivan Marsden, PhD, Marsh, PhD, Terry Marsh, Terry Marsh, MD, Terry W. Marsh, MD, Wm Michael Marsh, A E Marshall Jr, Brian Marshall, Charles F Marshall, Christopher R Marshall, PhD, Dennis Marshall, Eugene Marshall, Harold G Marshall, PhD, Jack Marshall, Jean M Marshall, PhD, Lawrence Marshall, Lawrence Marshall, Norman B Marshall, PhD, Richard Marshall, T R Marshall Jr, Thomas E Marshall, PhD, William Marshall, David E Marshburn, MD, Roger W Marsters, PhD, Richard G Martella, Peter Martelly, MD, Brent H. Martin, Bruce W. Martin, C T Martin, C Wayne Martin, PhD, Daimon C Martin, DVM, Dan Martin, Daniel W Martin, PhD, Edward J Martin, Edward Martin, Edward S Martin, PhD, Edwin Martin, PhD, Emil L Martin, Frederick Martin, George H Martin, PhD, Herbert Martin, J S Martin, Jack Martin, PhD, James W Martin, Jean Martin, Jerry Martin, John Martin, John Martin, Kenneth D. Martin, L A Martin, Leila Martin, MD, Lockhead Martin, PhD, Margaret Martin, PhD, Michael Martin, PhD, Monty G Martin, Neils Martin, PhD, Niels Martin, Noah W. Martin, Peter M Martin, Ralph Martin, Randall K Martin, Rex I. Martin, Richard E Martin, Richard E Martin, Richard H Martin, MD, Richard Martin, PhD, Robert Martin, PhD, Ronald L Martin, PhD, Scott Martin, Spencer Martin, Stanley Martin, Steven Martin, T Scott Martin, Wayne R. Martin, Willard Martin, PhD, Williams H. Martin, William Martinek, Art Martinelli, Ernest A Martinelli, PhD, Ramon Martinelli, PhD, Francisco J Martinez, John L Martinez, Jose Eleazar Martinez, Jr, Richard Martinez, Robert A Martinez, Mario Martini, PhD, Joseph P Martino, PhD, John R Martinson, Frank Martynowkz, Bill L Martz, MD, Eric Martz, PhD, Vernon J Maruska, PE, Irving Marvin, John B Marvin, Fredrick W. Marx, MD, Todd Marxsen, Philip X Masciantonio, PhD, Carmine Mascoli, PhD, Jerzy Maselko, PhD, Joseph Maserjian, PhD, Albert Masetti, Louis T Mashburn, PhD, Thompson A Mashburn, PhD, James V Masi, PhD, Charles E Mason, PhD, Conrad J Mason, PhD, Conrad Mason, PhD, Donald F Mason, PhD, Gayle Mason, Jon Mason, Perry S Mason, PhD, Richard R. Mason, PhD, William C Mason, Williams Mason, Wulf F. Massell, PhD, R Kemp Massengil, MD, Paul Masser, PhD, Lenita C Massey, MD, John L Massingill Jr, PhD, Dexter J Massoletti, John A Massoth, David S Masterman, Theresa Masters, J B Masterson, M Masthay, PhD, Dr Edgar A. Mastin, PhD, Robert Mastin, MD, R Mastracchio, Joseph J Matarelli, William H Matchett, PhD, Richard S Mateer, PhD, Robert Matejka, Richard Mateles, PhD, Barbara L Matens, Campo Matens, T Mather, Terry Mather, PhD, J L Mathews, Lee M Mathews, Walter K Mathews, PhD, Danid C Mathewson, Donald E Mathewson, Thomas W Mathewson, J P Mathias, Mihkel Mathiesen, PhD, Robert J Mathieu, Balakrishnan Mathiprakasam, PhD, Rickey L Mathis, PhD, Ronald F Mathis, PhD, Melvin Mathisen, Dilip Mathur, PhD, Mike Matis, Hudson Matlock, Ron J Matlock, J Matolyak, PhD, Gene Matranga, Harrison Matson, Tats Matsuoka, DVM, DVM, Curtis Matteson, Thomas D Mattesonn, David Mattthew, Carter Matthews, Charles Sedwick Matthews, PhD, Donald Matthews, Joe Matthews, Kenneth D Matthews, Neil Matthews, Paul R Matthews, Robley K Matthews, PhD, Chuck Mattice, Charles Mattina, PhD, Paul Mattinen, Guy C Mattson, PhD, Timothy V Mattson, Thomas E Mattus, B Matty, Richard Matula, PhD, Robert D Matulka, PhD, Samuel A Matz, PhD, David C Matzke, George T Matzko, PhD, Augustin D Matzo, Paul Mauer, Sarah Nauer, Ralph W Maughan, Charles R Mauldin, Roger A Maupin, MD, Paul Maurer, Robert E. Maurer, PhD, Florentin Maurrasse, PhD, Stephen Maus, Weston K Mauz, Greg Mauzy, J G Mavroides, PhD, Margaret Maxey, PhD, Margaret N Maxey, MD, PhD, Mary Maxey, M J Maximovich, PhD, Arthur R. Maxwell, PhD, Bryce Maxwell, H James Maxwell, PhD, John C Maxwell, W Maret Maxwell, MD, Charles M May Jr, Curry J May, Donald May, Edward May, Galen O. May, Henry May, MD, Jean May, Joe May, John E May, PhD, John May, Johnathan E May, Kenneth N May, PhD, Samuel May, Wallace I May, A Frank Mayadas, PhD, Alice R Mayer, C. J. Mayer, Edward H Mayer, Marion S Mayer, PhD, Theodor Mayer, PhD, W N Mayer, William Mayercheck, Robert J. J. Mayerjak, PhD, Jean Mayers, Jerome Mayersak, MD, Percy Mayersak, MD, Greg Mayes, Kevin M Mayes, David Mayfield, J. Mayfield, Roy Mayfield, R Mayhan, PhD, Richard Mayhew, Roger Mayhew, David F Maynard, PhD, Michael Maynard, PhD, D Maynes, PhD, Alfred Mayo, Donald R Mayo, PhD, James Mayo, Ernst Mayr, PhD, Siegfried T Mayr, PhD, James Mayrath, PhD, David Mays, PhD, Joel Mays, Steven E Mays, Larry Mayton, Juliann Mazachek, PhD, Mark S Mazanek, Robert R Mazer, S Mazil, PhD, G Mazis, Van A Mc Auley, Jeremiah Mc Carthy, PhD, Thomas Mc Donnell, Carl A Mc Gowan, C Gordon McAdams, MD, Robert McAdams, Robt E McAdams, PhD, John Hart Mcadoo, PhD, T Ashley McAfoose, Joseph McAleer, Darrell McAlister, Donald R McAlister, Howard McAlister, Mary Ann McAlister, Stewart S McAlister, William Bruce McAlister, PhD, J A McAllister, McAneny, PhD, Wm N McAnulty, Jr, PhD, Janet W McArthur, MD, Terry McArthur, Bruce McArtor, PhD, Bruce R McAvoy, F W Mcbride, John R McBride, PhD, Joseph J McBride, PhD, Robert McBride, William C Mcbride, Ed Mccabbe, Donald McCabe, MD, William D McCain Jr, PhD, Thomas McCaleb, Lon McCaley, Ron McCalister, PhD, Greg McCall, Russell F McCann, Wm M McCardell, Michael F McCardle, D L McCarley, A T McCarroll, William Mccarter, Danny W McCarthy, PhD, Glenn J. McCarthy, Jack McCarthy, MD, Joseph F McCarthy, Mary Mccarthy, MD, Niel McCarthy, PhD, Richard McCarthy, Richard McCarthy, Robert P McCarthy, Shaun L McCarthy, PhD, William C McCarthy, MD, Morley G McCartney, PhD, Clark W McCarty, PhD, Leslie McCarty, PhD, Glen McCasland, Gerald J Mccaul, D A McAuley, John Mccauley, Daniel G McChesney, PhD, Edwin McChesney, James K McClanahan, Leland McClanahan, PhD, John McClaughry, William McCleese, Neil McClellan, Bramlette McClelland, Thomas A McClelland, PhD, Thomas McClelland, James O McClimans, Chester M McCloskey, PhD, Marvin McClung, PhD, Douglas A McClure, Jack L McClure, Lawrence McClure, R J McClure, William Owen McClure, PhD, Walter H McCluskey, Charles R McCconnel, PhD, Donald McConnell, Kenneth P McConnell, Stewart McConnell, DVM, William R Mcconnell, PhD, Samuel R McConoughey, Lee B McConville, John E Mccool, M McCorcle, PhD, J R McCord, PhD, Joe M McCord, PhD, Billy M McCormac, PhD, Daniel McCormick, Jack R McCormick, Philip Thomas McCormick, PhD, Raymond McCormick, Leona McCoy, Ray S McCoy, Rayford L. McCoy, Richard E. McCoy, Philip G McCracken, PhD, Michael McCrary, Karl Mccrea, K E McCready, Terry W McCreary, PhD, Louis McCreight, Donald A McCrimmon, PhD, Kevin Mccrory, Robert L Mccroskey, PhD, James McCrumb, John G McCue, PhD, Sean Mccue, MD, Robert G McCuistion</a:t>
            </a:r>
            <a:endParaRPr b="0" lang="en-US" sz="1200" spc="-1" strike="noStrike">
              <a:solidFill>
                <a:srgbClr val="000000"/>
              </a:solidFill>
              <a:latin typeface="Calibri"/>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afterEffect" fill="hold" presetClass="entr" presetID="28">
                                  <p:stCondLst>
                                    <p:cond delay="0"/>
                                  </p:stCondLst>
                                  <p:childTnLst>
                                    <p:set>
                                      <p:cBhvr>
                                        <p:cTn id="286" dur="1" fill="hold">
                                          <p:stCondLst>
                                            <p:cond delay="0"/>
                                          </p:stCondLst>
                                        </p:cTn>
                                        <p:tgtEl>
                                          <p:spTgt spid="133">
                                            <p:txEl>
                                              <p:pRg st="0" end="0"/>
                                            </p:txEl>
                                          </p:spTgt>
                                        </p:tgtEl>
                                        <p:attrNameLst>
                                          <p:attrName>style.visibility</p:attrName>
                                        </p:attrNameLst>
                                      </p:cBhvr>
                                      <p:to>
                                        <p:strVal val="visible"/>
                                      </p:to>
                                    </p:set>
                                    <p:anim calcmode="lin" valueType="num">
                                      <p:cBhvr additive="repl">
                                        <p:cTn id="287" dur="5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288" dur="5000" fill="hold"/>
                                        <p:tgtEl>
                                          <p:spTgt spid="13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Mcc to Met                         </a:t>
            </a:r>
            <a:r>
              <a:rPr b="1" lang="en-US" sz="1200" spc="-1" strike="noStrike">
                <a:solidFill>
                  <a:srgbClr val="000000"/>
                </a:solidFill>
                <a:latin typeface="Calibri"/>
              </a:rPr>
              <a:t>George McCullars, MD, PhD, Wlter E McCulloch, Jr, Thane McCulloh, PhD, Donald R McCullough, John Price McCullough, PhD, Keith D McCullough, Michael McCullough, Kilmer S McCully, MD, PhD, Robinson McCune, John Dennis McCurdy, PhD, Dolan McDaniel, Harry C. McDaniel, Ivan N McDaniel, PhD, Kirk Mcdaniel, Max Paul McDaniel, PhD, Patrick McDaniel, PhD, Randall McDaniel, Tim McDaniel, William D. McDaniel, C McDaniels, Dirk McDermott, David A McDevitt, Phillip Mcdill, MD, Bart McDonald, Floyd McDonald, James M Macdonald Jr, John McDonald, PhD, Larry McDonald, Leslie E McDonald, PhD, Lynn D Mcdonald, PhD, Malcolm W McDonald, PhD, Mickey McDonald, Professor Mcdonald, Robert McDonald, Robt H McDonald, MD, PhD, Ted McDonald, PhD, Diane McDonaugl, Capt John P McDonnell, John McDonnell, Leslie M McDonough, PhD, Ralph R McDonough, Robert I McDougall, PhD, James D McDowall, Charles W Mcdowell, MD, Edward McDowell, PhD, Edward McDowell, Jr, Fletcher W McDowell, MD, Marion E McDowell, MD, Thomas D Mcdowell, PhD, Wilbur B McDowell, PhD, Jennifer McDuffie, PhD, John McDuffie, Paul McElfresh, PhD, Paul McElligott, PhD, Raymond J McEllzaney, Orville McElmurry, DDS, PhD, Robert McElroy, William Nordell McElroy, PhD, H Bruce McElroy, M McElroy, PhD, Maribel McElvy, MD, William Mceneaney, PhD, Gerald N McEwen, PhD, Ralph R McFadden, Edward McFarlan Jr, Cole McFarland, J W Mcfarland, PhD, Alfred F McFee, PhD, Thomas McFie, PhD, W C McFradden, John T Mcgackin, J McGaha, Robert G McGalmery, Kent Mcgarry, Charles G McGaughey, Malcolm McGawn, Dallas C McGee, James M McGee, Omer H McGee Jr, R D McGee, Cheryll Mcgehee, Michael Mcgehee, Jack W McGill, Frank McGinley, Michael McGinn, Randall K McGivney, Cecil McGlothlen, Donald P McGookey, PhD, J F McGouldrick, Bill Mcgowan, PhD, Gregory B McGowen, Sandra Mcgowen, Timothy C Mcgrath, Ron Mcgregor, Stuart Mcgregor, Phillip McGuinness, Daniel McGuire, John P McGuire, Mark McGuire, PhD, Michael McGuire, PhD, Stephen E McGuire, PhD, James Mcguire, PhD, John McHaffie, McHale, Carl McHargue, PhD, Lawrence Mchargue, PhD, Kenneth L McHugh, PhD, Bill McIlvanie, Twylia McIlvanie, Timothy McIlwain, Willard L McInnis, David F McIntosh, W D McIntosh, John R McJohn, MD, Vernon J. McKale, R H McKaw, Charles G McKay, Jeffrey D Mckay, Kenneth G McKay, PhD, Mary C McKay, Robert J Mckay, Roy McKay, Clifton D McKee, Geo M McKee Jr, William D McKee, PhD, Curus Milo McKell, PhD, Donald W McKelvey, Gregory E McKelvey, John P McKelvey, PhD, Ray McKemie, Bishop McKendree, Michael McKenna, William J McKenna, Henry McKenney, Samuel McKenney, Donald J McKenzie, Doug McKinzie, Gene McKenzie, Jefferson McKenzie, Joe McKenzie, Don McKeon, John J Mcketta Jr, PhD, Floyd McKinnerney, Douglas McKinney, MD, George C McKinney, Michael Mckinney, PhD, Paul McKinney, Peter McKinney, MD, Bruce Mckinstry, Mary Polly McKinstry, MD, Jerry McKnight, Wm B McKnight, PhD, Stephen McKown, WE McKown, George McLafferty, Cameron Mclain, D McLain, PhD, M McLain, PhD, Nicole B McLamb, Michael W McLanahan, Jd McLaughlin, L A McLaurin, Charles A McLean, Michael E McLean, William R McLean, James A McLennan, PhD, G McLeod, John McLeod, Joseph McLuade, Jerry D Mcmahon, William A McMahon Jr, Robert H McMaster, MD, John C McMillan, MD, Twila McMillan, H. L. McMillen, Curtis J McMinn, Bryce H McMullen, PhD, Wilfred Mcmurphy, PhD, David McMurry, Ruth D McNair, PhD, Thomas W McNamara, MD, Tom McNamara, Wm McNamara, PhD, Dennis McNeal, Steve McNeely, PhD, Gregory R McNeill, Perry N McNeil, PhD, Donald F McNeill, PhD, William McNeill, PhD, Thomas E McNider, Edward J McNiff, Glenn L McNutt, Michael J McNutt, PhD, Jasper L McPhail, MD, Betty McPhearson, Chuck McPherson, Clara McPherson, Clinton M. McPherson, PhD, D Sean McPherson, Daniel E Mcpherson Jr, Ray McPherson, Richard McPherson, Robert Mcpherson, Craig W McPhie, L D Mcqueen, PhD, J T Mcquitty, MD, W McRacken, Larry G McRae, PhD, P S McReynolds, Fred McSavis, PhD, C L McSpadden, Harold Mcspaden, MD, John C Mctaggart, James M McUsic, John E McVaugh, Ralph McVay, Harry A McVeigh, PhD, David McVey, PhD, Kevin D McVey, Kenneth E Arl McVicar, Gerard McVicker, Thomas H McWilliams, James Mcwilliams, PhD, George W Mead, Homer N Mead, Kenneth W Mead, Kerry Mead, Robert C Meaders, Richard A Meador, Samantha S Meador, Tammy S Meador, Dean Meadows, Reg Meaker, Edward Mealy, PhD, Winthrop Means, PhD, Susan L Mearns, PhD, A Downing Mears, Jay D Measley, Melanie A Meche, Alan J Mechtenberg, Waldemar Meckes Jr, Rick Meckley, Walter Medding, Robert Medearis, MS Medeiros, Sidney S Medley, PhD, James Medlin, William L Medlin, PhD, Henry M Meduna, Donald N Meehan, PhD, Allen Meek, MD, Ralph D Meeker, PhD, Preston L Meeks, Thomas L Meeks, Richard Y Meelheim, PhD, M G Mefferd, Nace F Mefford Jr, Louis D Megehee, E. K. Megerle, George H Megerle, Karin Megerle, Leathem Mehaffey, PhD, John Mehltretter, Lester Meidenbauer, Dale J Meier, PhD, Delmon D Meier, Jimmy Meier, Robert Meier, PhD, Verlin G Meier, Wellington Meier, PhD, David Meiers, W Meilander, Michael Meimerstorf, Walter T Meinert, Norman A Meinhardt, PhD, Clifford L Meints, PhD, Rolando Meireles, Steve Meisel, John L Meisenheimer, PhD, Ken Meisinger, PhD, Merlin Meisner, Marvin Meister, Peter D Meister, PhD, Joseph Meites, PhD, Paul E Melancon, George W Melchior, PhD, Robert F Rederick Meldau, James C Melear, Mildred Melendz, PhD, Rodney Melgard, Wilton N Melhorn, PhD, John T Melick, Todd Milick, Ivars Melingailis, PhD, Barbara Mella, MD, James R Mellberg, David Mellen, Kenneth E Mellendorf, PhD, John Mellgren, Stanley C Mellin, Stanley Melliv, Mike Melnick, Bohdan Melnyk, Henry P Meloche, PhD, Daniel T. Meloon, PhD, David Melos, Kevin Meloy, James Melton, James R Melton, PhD, Jerry Melton, Marvin E Melton, Robert S Melville, PhD, Scott D Melville, Gary Melvin, Tom Melvin, Ken Melybe, Edgar L Mendenhall, George D Mendenhall, PhD, Jim Mendenhall, MD, Arthur Mendonsa, Xian-Qin Meng, MD, Wm Menger, Todd Menig, John Menke, John Menke, Steven Menkus, Samuel H Mentemeier, Micheal D Mentzel, Robert B Meny, Leo Menz, PhD, Erhard R Menzel, PhD, Carl S Menzies, PhD, J Steven Mercer, Alan C Merchant, MD, Robert F Merchant, MD, John Mercier, Leo Mercy, Jack Meredith, Daniel Merfeld, PhD, Harry W Mergler, PhD, Lawrence Meriage, PhD, Charles R Merigold, James B. Merkel, Paul B Merkel, PhD, Steve Merkel, Gary Merkis, WA Merle, Neri Merlini, PhD, Robert Mermelstein, PhD, Robert N Meroney, PhD, John Lafayette Merriam, Marshal F Merriam, PhD, George Merrick, John Merrifield, Robert Merrill, Ronald Merrill, PhD, William Merrill, William W Merrill, MD, Charles P Merrimen, PhD, Seymour Merrin, PhD, Allen Merritt, PhD, B R Merritt, Henry N Merritt, PhD, John C Merritt Jr, Mark B Merritt, Robt E Merritt, Ross A Merritt, Jack M Merritts, Herman Merte Jr, PhD, F P Mertens, PhD, Lawrence Mertens, Robert Mertens, PhD, Karen Mertins, James Mertz, MD, Paul Louis Merz, PhD, D Messer, Mesko, Warren Mesloh, George Clement Messenger, PhD, Marc H Messenger, Al Messer, Calvin D Messesmith, PhD, Jack Messulam, MD, James Metcalf, Donald Metcalfe, Norbert Methven, Dean Metter, PhD</a:t>
            </a:r>
            <a:endParaRPr b="0" lang="en-US" sz="1200" spc="-1" strike="noStrike">
              <a:solidFill>
                <a:srgbClr val="000000"/>
              </a:solidFill>
              <a:latin typeface="Calibri"/>
            </a:endParaRPr>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8">
                                  <p:stCondLst>
                                    <p:cond delay="0"/>
                                  </p:stCondLst>
                                  <p:childTnLst>
                                    <p:set>
                                      <p:cBhvr>
                                        <p:cTn id="294" dur="1" fill="hold">
                                          <p:stCondLst>
                                            <p:cond delay="0"/>
                                          </p:stCondLst>
                                        </p:cTn>
                                        <p:tgtEl>
                                          <p:spTgt spid="134">
                                            <p:txEl>
                                              <p:pRg st="0" end="0"/>
                                            </p:txEl>
                                          </p:spTgt>
                                        </p:tgtEl>
                                        <p:attrNameLst>
                                          <p:attrName>style.visibility</p:attrName>
                                        </p:attrNameLst>
                                      </p:cBhvr>
                                      <p:to>
                                        <p:strVal val="visible"/>
                                      </p:to>
                                    </p:set>
                                    <p:anim calcmode="lin" valueType="num">
                                      <p:cBhvr additive="repl">
                                        <p:cTn id="295" dur="50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repl">
                                        <p:cTn id="296" dur="5000" fill="hold"/>
                                        <p:tgtEl>
                                          <p:spTgt spid="13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Met to Mor                         </a:t>
            </a:r>
            <a:r>
              <a:rPr b="1" lang="en-US" sz="1200" spc="-1" strike="noStrike">
                <a:solidFill>
                  <a:srgbClr val="000000"/>
                </a:solidFill>
                <a:latin typeface="Calibri"/>
              </a:rPr>
              <a:t>Robert Metz, Michael W Metza, T Metzgar, PhD, A R Metzger, Grant W Metzger, John D Metzger, PhD, Ken Metzger, Dwight F Metzler, PhD, Cynthia Meyer, D Joseph Meyer, MD, PhD, Dennis Meyer, Donald I Meyer, PhD, Edmond G Meyer, PhD, Frank H Meyer, Frederick G Meyer, PhD, Harold Meyer, Harvey J Meyer, PhD, Howard Meyer, Jerry Meyer, Jim Meyer, Matthew D Meyer, Maurice W Meyer, PhD, Mike Meyer, R D Meyer, Richard C Meyer, PhD, Robert Meyer, PhD, Robt A Meyer, Rudolf X Meyer, PhD, Stuart L Meyer, PhD, Walter D Meyer, PhD, Charles J Meyers Jr, Dana Myers, Earl L Meyers, PhD, Frank W Meyers, Richard E Meyers, Robert J Meyers Jr, Robert J Meyers Sr, Ralph Meyertons, Maurice A Meylan, PhD, Eugene Mezger, MD, Alesandru Mezincescu, PhD, Joseph N Miale, Gerald J Miatech, PhD, E Don Michael, Edwin Michael, PhD, Patrick Michael, PhD, Robert Michael, Wm E Michael, Wayne Michaelchuck, Paul C Michaelis, Nicholas Michaels, PhD, Eugene J Michal, PhD, Michael Michalka, Bernadette Michalski, Joseph P Michalski, MD, Andre F Michaudon, PhD, Oskar Michejda, PhD, C Michel, PhD, F Curtis Michel, PhD, Lawrence A Michel, Robert F Michel, Jeff Michels, Lloyd R Michels, PhD, Therese Michels, PhD, David Michelson, Jim Michelson, Michael A Michelson, Willard Michlin, M B Mick, Tim K Mickey, J G Micklow, PhD, Kalus A Miczek, PhD, John Medavaine, Marcus Middleton, W M Midgett, MD, Frank Midkiff, George J Miel, PhD, James E. Mielke, PhD, Edward P. Miesch, PhD, J U Miesse, Anthony J Mihulka, Duane S Mikkelsen, PhD, Bj Service, Dean H Mikkelson, Michael Mikkelson, Douglas G Mikolasek, PhD, Stephen P Mikowski, John A Mikus, PhD, K Milani, Daniel W Miles, PhD, John G Miles, Kelley F Miles, Phil M Miles, Ralph F Miles, PhD, Robert D Miles, William Miles, PhD, William S Miles, Otto Mileti, Frank D Mileto, Frederick H Milford, PhD, Fanny I Milinarsky, William G. Millan, PhD, James P Millard, Richard James Millard, Alan Millen, A R Miller Jr, MD, A S Miller, PhD, Alan D Miller, PhD, Alan Miller, Barbara Miller, Bob Miller, Brian K Miller, C Miller, Claude P Miller, Cliford A Miller, Dale L Miller, Dane A Miller, PhD, Daniel Newton Miller, PhD, Dave Miller, David B Miller, David R. Miller, PhD, David W Miller, Dennis Miller, Dick Miller, PhD, Donadl B Miller, PhD, Donald P Miller, PhD, Edmund K Miller, PhD, Ellis W Miller, PhD, Foil A Miller, PhD, Franklin Miller, Gail Miller, Gary Miller, Gary Miller, Gene Miller, PhD, George Miller, George Miller, George R Miller, Glenn H Miller, PhD, Glenn Miller, H L Miller, Harold W. Miller, Harvey Miller, PhD, Herman L Miller, Howard Miller, PhD, James A Miller, James Avery Miller, PhD, James L Miller, PhD, James Miller, James T Miller, John J Miller Jr, John Miller, John S Miller, Joseph A. Miller, Joseph H Miller, Joseph H Miller, PhD, Kenneth J Miller, Kenneth R Miller, Larry Miller, Larry Miller, Laura S Miller, Lawrence D Miller, Lawrence Miller, Lee Miller, Leland H Miller, Leo J Miller, PhD, Leslie T Miller, Lewis E Miller, Loyle P Miller, M Miller, Marion Miller, Mark A Miller, Marshall Miller, Philip D Miller, PhD, R. Miller, PhD, Raymond E Miller, PhD, Reid J Miller, Richard Miller, Robert C Miller, PhD, Robert Charles Miller, PhD, Robert J Miller, PhD, Robert J Miller, PhD, Robert Miller, Robt L Miller, Roger Miller, Stephen L Miller, Thomas Miller, Timothy Miller, Timothy P Miller, Tonny S Miller, W Jack Miller, PhD, William Knight Miller, PhD, William Miller, L E Millet, PhD, Fay E Millett, MD, Harold A Millie, Frank Milliken, Spencer R Milliken, PhD, Dan Millison, Bruce Mills, Curtis Mills, Edward S Mills, PhD, Hugh H Mills, PhD, Ira K Mills, PhD, Jack Mills, PhD, James Mills, John J Mills, PhD, Norman T Mills, Paul Mills, Randall Mills, Robert C Mills, Greg Millspaugh, George H Milly, PhD, John Milne, Thomas Milstead, Robert M Milton, PhD, Elmer Milz, Wm B Mims, PhD, Angelo De Min, M Myo Min, Howard Minckler, Michael J Minckuer, Bryant A Miner, PhD, Robert S Miner, Jr, PhD, James W Mink, PhD, Michael Minkel, Minkin, PhD, Margaret Minkwitz, PhD, Chris Minnick, J Minoff, PhD, Dale Minor, David R Minor, MD, R Hugh Minor, MD, James F Minter, Jerry B Minter, William Minto, PhD, T L Mintun, John Mintz, MD, PhD, David Mintzer, PhD, A E Minyard, MD, M Miranda, Thomas Miranda, PhD, Srecko M Mircetich, PhD, Raymod Mires, PhD, Gary S Mirkin, MD, Conarad Mirochna, Carol R Mischnick, Facs, MD, N Misconi, PhD, Charles Misdon, Claude Misel, Nawin Mishra, PhD, A Mishulovich, PhD, Vyt Misiulis, Paul Miskowicz, Richard E Mistler, PhD, Gustove A Mistrot III, Billy F. Mitcham, Dale Mitchel, A Wallace Mitchell, Ben G Mitchell, Bob Mitchell, G C Mitchell, Gary Mitchell, Howard R Mitchell Jr, MD, Kossuth Mitchell, PhD, Patricia Mitchell, Poley Mitchell, Ray E Mitchell, Robert H Mitchell, Robt J Mitchell, Theodore Mitchell, William W Mitchell, PhD, Arup P Mitra, Wayne Mitzner, PhD, John B Mix, PhD, Perry J. Mixon, Jack Pitts Mize, PhD, Gerald J Mizejewski, PhD, James J Mizera, Juan A Mjjica, MD, Raymond C Mjolsness, PhD, M Moallem, PhD, K L Moazed, PhD, Jeffrey Mobed, Julie A Mobley, John E Mock, PhD, Paul Mockett, PhD, Richard Mocksfield, Gabor Mocz, PhD, Charles J Mode, PhD, Jerry Modisette, PhD, Fersheed K Mody, PhD, Robt C Moe, Randy Moehnke, H Walter Moeller, Henry Moeller, PhD, James Moeller, William R Moeller, P M Moffett, MD, Mary V Moggio, Joseph P Mohan, Philip Mohan, Marvin J Mohlenkamp, PhD, John G Mohler, MD, Jesse Mohrbacher, Mary E Mohs, PhD, Javid Mohtasham, PhD, George Mohun, MD, Gary A Molchan, Robert Alan Mole, Jack E Molesworth, Albert J Moll, PhD, Jacob T Moll, MD, John L Moll, PhD, Robert Mollenhauer, AE Moller, MD, Karl H Moller, Kenneth Molly, Arnout Mols, Kenneth Molz, Robt P Mominec, D Mommsen, Paul R Monagan, D Frederick J Monaghan, DDS, Leo Monaghan, Ralph Monaghan, Vance Monday, Mahmoud Abdel Monem, PhD, Carl Monismith, D Manos, W Bryan Monosmith, PhD, Christopher Monroe, PhD, Larry S Monroe, PhD, Raymond W Monroe, Harold Gene Monsimer, PhD, Robert Montague, Ernesto Monteiro, Al Montgomery, Edward H Montgomery, PhD, G Keith Montgonery, Gerald Montgomery, Michael A Montgomery, PhD, Monty Montgomery, Robert H Montgomery Jr, Theodore A Montgomery, MD, Charles J Montrose, PhD, Darlene Mood, PhD, David C Moody, PhD, Henry L Moody, J Ward Moody, PhD, Marcia Moody, PhD, Scott M Moody, PhD, Richard Moolick, Henry F Moomau, Donald W Moon, Jim Moon, Mike Moon, Rickie D Moon, Young Moon, PhD, Donald Mooney, James Mooney, Richard T Mooney, Tom Mooney, MD, B L Moore Jr, Charles J Moore, Cindy Moore, Craig Moore, D G Moore, PhD, Daniel Moore, David K Mooore, David S Moore, Douglas Moore, Duane Moore, Earl Moore, Frandk Moore, Gail Moore, Gelnn Moore, Gordon P Moore, J Stephen Moore, Jack W Moore, Joan M Moore, John D Moore, PhD, John F Moore, Joseph Moore, Kenneth Moore, Larry W Moore, PhD, Leonard O Moore, PhD, Mary E Moore, Mel Moore, Michael Moore, PhD, Michael S Moore, PhD, R C Moore, Ray Moore, Richard Moore, PhD, Richard N Moore, Robert Avery Moore, PhD, Robert D Moore, Jr, Roger Moore, Thomas C Moore, Thomas K Moore, PhD, Tom D Moore, W Dupree Moore, Walter C Moore, Walter Moore, PhD, Walter Moore, PhD, Walter Moore, PhD, Walter Moore, PhD, William Moore, MD, Peter T Mora, PhD, Ralph Moradiellos, Alice Moran, PhD, Archie E Moran, John W Moran, Moran, PhD, Ramon Morano, Ronald Morash, PhD, Kou-Yiong Y Moravan, PhD, Josef Moravek, Timothy A Morck, PhD</a:t>
            </a:r>
            <a:endParaRPr b="0" lang="en-US" sz="1200" spc="-1" strike="noStrike">
              <a:solidFill>
                <a:srgbClr val="000000"/>
              </a:solidFill>
              <a:latin typeface="Calibri"/>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8">
                                  <p:stCondLst>
                                    <p:cond delay="0"/>
                                  </p:stCondLst>
                                  <p:childTnLst>
                                    <p:set>
                                      <p:cBhvr>
                                        <p:cTn id="302" dur="1" fill="hold">
                                          <p:stCondLst>
                                            <p:cond delay="0"/>
                                          </p:stCondLst>
                                        </p:cTn>
                                        <p:tgtEl>
                                          <p:spTgt spid="135">
                                            <p:txEl>
                                              <p:pRg st="0" end="0"/>
                                            </p:txEl>
                                          </p:spTgt>
                                        </p:tgtEl>
                                        <p:attrNameLst>
                                          <p:attrName>style.visibility</p:attrName>
                                        </p:attrNameLst>
                                      </p:cBhvr>
                                      <p:to>
                                        <p:strVal val="visible"/>
                                      </p:to>
                                    </p:set>
                                    <p:anim calcmode="lin" valueType="num">
                                      <p:cBhvr additive="repl">
                                        <p:cTn id="303" dur="5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304" dur="5000" fill="hold"/>
                                        <p:tgtEl>
                                          <p:spTgt spid="13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Mor to Nel                          </a:t>
            </a:r>
            <a:r>
              <a:rPr b="1" lang="en-US" sz="1200" spc="-1" strike="noStrike">
                <a:solidFill>
                  <a:srgbClr val="000000"/>
                </a:solidFill>
                <a:latin typeface="Calibri"/>
              </a:rPr>
              <a:t>Michael Morcos, Allan J. Mord, PhD, Leonard Mordfin, PhD, Peter Moreau, Duane E Moredock, George S Morefield, Hubert Morehead, PhD, Robert Morehead, Ned Morehouse, Howard B. Moreland, William Moreland, John P Morelock, Max Morelock, Jim Morentz, PhD, Dena R Morford, Pamela Morford, MD, Dave Morgan, Donald Morgan, PhD, James F. Morgan, John F Morgan, Joseph T Morgan, MD, Lucian L Morgan, Marvin Morgan, Oscar P Morgan Jr, Paul Morgan, Relbue M Morgan, PhD, Richard E. Morgan, Robert Morgan, PhD, Ronald B Morgan, PhD, Stanley L Morgan, Thomas C Morgan, Thomas K Morgan, PhD, W Lowell Morgan, PhD, William T Morgan, PhD, Victor G Morgen, M. Morgenstern, Matt Moriarty, Jerry Moritz, David L Mork, PhD, Carl H Morley, Lawrence Morley, PhD, Robert Morley, PhD, P H Mormile, Antonio Moroni, PhD, Michael Moroso, Paul H Morphy, James Morrella, Cecil A Morris, PhD, Charles W Morris, PhD, David J Morris, David L Morris, MD, Edward C Morris, Edward G Morris, Howard A Morris, PhD, James R Morris, John Morris, PhD, M C Morris, PhD, Morris, Mrs Lisa M. Morris, Paul E Morris, MD, Paul Morris, PhD, Perry Morris, Richard Morris, Robert A Morris, Robert Morris, Robert Morris, William E Morris, Wm G Morris, PhD, John Morrisey, Charles R Morrison, John G Morrison, Lynn Morrison, M E Morrison, PhD, Morrison, PhD, O Charles Morrison, Richard Morrison, PhD, Willard L Morrison, William Morrison, Tim Morrissey, William F Morrissey, Dick Morroni, Dan Morrow, Jon M Morrow, Morrow, PhD, Wm S Morrow, PhD, Brad G Morse, Francis Morse, George Morse, Jerome G Morse, PhD, Roger A Morse, Thomas M Morse, Wa Morse, Joe Mortensen, Kay S Mortensen, PhD, Richard F Mortensen, PhD, Kenneth E Mortenson, PhD, Raymond L Morter, DVM, PhD, Edward P Mortimer, Coleman Morton, John R Morton, PhD, Paul K Morton, Perry Morton, PhD, Ray S Morton, Susan Morton, T R Morton, Vern Morton, Wayne Morton, Willard Morton, James Mortrude, Jacob Mortvedt, PhD, Robert H Mosebar, MD, Moseley, Thomas Moseley, Arthur Moses, Gary E Mosher, Loren Mosher, PhD, Melvyn W Mosher, PhD, William J Moshofsky, Mike Mosier, John R Mosley, PhD, Kenneth Moss, Steven Moss, Paul W Mossey, Malcolm Mossman, Ronald J Mosso, F K Mostofi, Timothy B Mostowy, Karl Mote, James P Motiff, PhD, Michael S Motsch, Jack Mott, PhD, John Mott, Bob Mottice, Richard Mottoros, Henry T Motz, PhD, Lloyd Motz, PhD, Gordon Moughon, MD, Peter R Mould, PhD, Peter V Moulder, MD, Arthur B Moulton, Gail F Moulton Jr, Eldridge M Mount, PhD, Eldridge M Mount Iii, PhD, George E Mount, PhD, Mike Mount, Paul B Mount I I, William H Mount, Roger B Mourich, John Mow, R Mowell, Daniel Mowrey, PhD, Charles F Mowry, Larry R Moyer, Lee W Mozes, PhD, Walter J Mozgala, Charles L Mraz, Barbara Mroczkowski, PhD, Walter A Mroziak, Richard C Much, Rosa M C Muchovej, PhD, Gordon M Muchow, PhD, Dave Mueller, Eugene A Mueller, PhD, George E. Mueller, PhD, George Mueller, PhD, Jerome R Mueller, MD, Joseph J Mueller, Joseph Mueller, Philip M Mueller, Thomas J Mueller, PhD, William B Mueller, Wim L Mueller, Sig Muessig, PhD, Robert Z Muggli, PhD, Barry B Muhoberac, PhD, Vincent U Muirhead, J Mishtu A Mukerjee, Debasish Mukherjee, PhD, V Mukhopadhyay, PhD, Butch Mulcahey, Francis Mulcahy, PhD, Thomas Mulcavage, Michael C Mulder, PhD, Jeff Mulford, Evart E Mulholland, Ralph D Mulhollen, Fred Mulker, James C Mullen, Jim Mullen, Richard L Mullen, Robt L Mullen, PhD, Thomas V Mullen, Jr, Mark Mullenbach, Arthur Mullendore, PhD, Herman E Muller, John Muller, PhD, Justus Muller, L Frederic Muller, L Muller, Ragnwald Muller, Stephen K. Muller, James A Mulligan, John F Mulligan, John Mulligan, Martha M Mullin, Paul Mullinax, Kary B Mullis, Dennis M Mulvey, PhD, Dennis Mulvey, PhD, Karen E Mumm, T Munasinghe, PhD, Donald D Muncy, Wesley Munger, David Munn, PhD, John D Munno, Dan Muno, Kevin Scott Munro, Albert G Munson, PhD, David M Munson, Hac Munson, Alan E Munter, E. A. Munyan, MD, Emil Moise Murad, J F Murbach, Craig B Murchinson, PhD, Pamela W Murchinson, PhD, Everett Murdick, Fenoi Murdock, PhD, Robert Murdock, MD, Roy K Murdock, Stephen K Murdock, Edward S Murduck, PhD, George Murgel, PhD, George Murgel, PhD, Richard C Murgittroyd, K Muriby, Michael M Murkes, PhD, John R Murphey Jr, Robert S Murphey, PhD, Wayne K Murphey, PhD, Alexander J Murphy, PhD, Charles Murphy, PhD, Daniel B Murphy, PhD, Emmett J Murphy, Frank W Murphy III, Jamie Murphy, Jeanne Murphy, MD, John C Murphy, PhD, John Murphy, PhD, Judy Murphy, Mrs Betty Murphy, Murphy, PhD, Neil Murphy, Norman W Murphy, PhD, Robert Murphy, William Murphy, PhD, William P Murphy, MD, Lawrence E Murr, PhD, Clarence Murray, Francis J Murray, PhD, Frank Murray, PhD, Glenn Murray, James W Murray, Larry T Murray, Peter Murray, PhD, Raymond H Murray, MD, Raymond L Murray, PhD, Richard L Murray, William Murray, James T Murrell, PhD, Mark Murtagh, X J Musacchia, PhD, J Muse, PhD, Gerlald Musgrave, PhD, Paul Musgrove, Steven R Musial, I I Pe, James R Musick, PhD, Dale W Musolf, R Musselman, PhD, James G Musser, Adil Mustafa, Rocco J Musumeche, Walter F Muzacz, Thomas J Muzik, PhD, John Mycroft, PhD, Clifford A Myers, Dale D Myers, Dale Dehaven Myers, Don Myers, Earl E Myers, PhD, George M Myers, PhD, Gerald B Myers, MD, John D Myers, Lyle L Myers, PhD, Mark T Myers, Ralph Myers, Ronald F Myers, PhD, Sam A Myers, Scott Myers, Jere C Myette, Michael Myhre, MD, Victor Mylroie, Don Myrick, Thomas L Myron, Glen Myska, Norbert R Myslins, PhD, Charles H Myslinsky, Misac Nabighian, PhD, Robt E Nabours, PhD, Michael J Nadeau, Norman A Nadel, Paula Nadell, MD, Edward Nadgorny, PhD, Robert Naegele, PhD, Danny Naegle, Gordon Naft, Harry Nagel, Fred W Nagle, Jr, Harry E Nagle, Ross E. Nagner, James Nagode, Kenneth A Nagy, PhD, Michael Nahrwold,MD, MD, Yathi Naidu, PhD, Gangadharan V M Nair, PhD, Dennis B Nakamoto, Behnam Nakhai, PhD, John D Nalewaja, PhD, Eugene Malinowksi, PhD, Peter B Nalle, Samuel J Nalley, PhD, Jerome Namy, PhD, Michael L Nance, Robert K. Nance, Richard Nanna, Joseph Napolitano, Gordon E. Napp, Kenneth P Naquin, Richard Narske, PhD, Eric Nary, Ruth Naser, Clinton B Nash, PhD, Franklin Richard Nash, PhD, Harry C Nash, PhD, Robert Nash, Roland Nash, MD, Roger D Nass, John Nasser, Roger Natzke, PhD, Raymond Naumann, MD, Phil Naunann, Michael Nawrocki, Jeffrey S Naylor, Ronald O Neaffer, PhD, Billy J Neal, Daniel Neal, PhD, Dave Neal, Dean Oneal, Victor Thomas Neal, PhD, Dave Neale, Richard Neate, James K Neathery, PhD, John D Nebel, Kenneth H. Nebel, John E Nebergall, Daniel W Nebert, MD, John Neblett, MD, Patricia Nechols, John D Neder Jr, Glen R Needham, Karen M Needham, William Needham, Percy L Neel, PhD, Thomas H Neel, Cheri R Neely, Dana Neely, Terry Neering, Hugh Neeson, John Neff, Robert Neff, Robert Neff, Thomas O'Neil Neff, John P Neglia, Leland K Neher, PhD, James W Nehls, PhD, Myron P Nehrebecki, Lance R Neiberger, Steven P O Neil, Thomas Neil, PhD, Timothy Neil, Hal Neiman, Gary R Neithammer, Gloria Nelara, PhD, John Nelesen, Robert Overman Nellums, George Nelms, PhD, A Carl Nelson, Bud D Nelson, Burke E Nelson, PhD, Charles A Nelson, PhD, Charles A Nelson, PhD, Charles L Nelson, Charles Nelson, MD, Charles Nelson, MD, David L Nelson, David L Nelson, David M Nelson, David Nelson</a:t>
            </a:r>
            <a:endParaRPr b="0" lang="en-US" sz="1200" spc="-1" strike="noStrike">
              <a:solidFill>
                <a:srgbClr val="000000"/>
              </a:solidFill>
              <a:latin typeface="Calibri"/>
            </a:endParaRPr>
          </a:p>
        </p:txBody>
      </p:sp>
    </p:spTree>
  </p:cSld>
  <p:timing>
    <p:tnLst>
      <p:par>
        <p:cTn id="305" dur="indefinite" restart="never" nodeType="tmRoot">
          <p:childTnLst>
            <p:seq>
              <p:cTn id="306" dur="indefinite" nodeType="mainSeq">
                <p:childTnLst>
                  <p:par>
                    <p:cTn id="307" fill="hold">
                      <p:stCondLst>
                        <p:cond delay="0"/>
                      </p:stCondLst>
                      <p:childTnLst>
                        <p:par>
                          <p:cTn id="308" fill="hold">
                            <p:stCondLst>
                              <p:cond delay="0"/>
                            </p:stCondLst>
                            <p:childTnLst>
                              <p:par>
                                <p:cTn id="309" nodeType="afterEffect" fill="hold" presetClass="entr" presetID="28">
                                  <p:stCondLst>
                                    <p:cond delay="0"/>
                                  </p:stCondLst>
                                  <p:childTnLst>
                                    <p:set>
                                      <p:cBhvr>
                                        <p:cTn id="310" dur="1" fill="hold">
                                          <p:stCondLst>
                                            <p:cond delay="0"/>
                                          </p:stCondLst>
                                        </p:cTn>
                                        <p:tgtEl>
                                          <p:spTgt spid="136">
                                            <p:txEl>
                                              <p:pRg st="0" end="0"/>
                                            </p:txEl>
                                          </p:spTgt>
                                        </p:tgtEl>
                                        <p:attrNameLst>
                                          <p:attrName>style.visibility</p:attrName>
                                        </p:attrNameLst>
                                      </p:cBhvr>
                                      <p:to>
                                        <p:strVal val="visible"/>
                                      </p:to>
                                    </p:set>
                                    <p:anim calcmode="lin" valueType="num">
                                      <p:cBhvr additive="repl">
                                        <p:cTn id="311" dur="5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repl">
                                        <p:cTn id="312" dur="5000" fill="hold"/>
                                        <p:tgtEl>
                                          <p:spTgt spid="13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Nel to Oli                           </a:t>
            </a:r>
            <a:r>
              <a:rPr b="1" lang="en-US" sz="1200" spc="-1" strike="noStrike">
                <a:solidFill>
                  <a:srgbClr val="000000"/>
                </a:solidFill>
                <a:latin typeface="Calibri"/>
              </a:rPr>
              <a:t>Donald G Nelson, Douglas T Nelson, Errol Nelson, Frank Nelson, G Barry Nelson, Gary Nelson, Genne Nelson, George D Nelson, J. Robert Nelson, James Nelson, PhD, Jeffrey O Nelson, John Nelson, Judith E Nelson, K W Nelson, Loren D Nelson, PhD, Michael G Nelson, PhD, Nelson, Nelson A Perry, Pamela Nelson, Paul A Nelson, PhD, R T Nelson, R William Nelson, Richard D Nelson, Richard D Nelson, Richard Nelson, Robert Nelson, Ronald Nelson, Stephen Nelson, Sven Nelson, Thomas Nelson, MD, Victor Nelson, Martin J Nemcosky Jr, Melodee Nemeth, Jerry E Nendon, Robert Nerbun, PhD, Paul Nesbeda, PhD, A David Nesbitt, Carl Nesbitt, PhD, Ray B Nesbitt, Stanley Nesheim, Joel K Ness, PhD, Randal Ness, Valmer Ness, Nicholas G Nesteruk, Arthur H Nethercot, PhD, Lowell E Netherton, PhD, Arthur Nethery, PhD, Daniel P Neubauer, Hugo Neubauer, Joseph Navin Neucere, Wendell Neugebauer, Charles H Neuman, PhD, Joachim P Neumann, PhD, Temple W Neumann, Walter Neumann, William Neumann, Harry J Neumiller Jr, PhD, Donald E Neuschwander, James E Neustaedter, Edward F Neuzil, PhD, Robert Nevett, MD, J Ryan Neville, PhD, Daniel B. Nevin, Paul Nevins, Paul M Newberne, Paul Newberne, PhD, Steve Newberry, Jerry S Newcomb, Martin Newcomb, PhD, Waldo Newcomer, John T Newell, PhD, Richard E Newell, Roger Newell, PhD, Jean- Jacques Newey, John M Newey, Marlyn Newhouse, PhD, Russell Newhouse, John B Newkirk, PhD, Douglas Newlin, Robert H Newll, Conrad E Newman, David Newman, PhD, Doyle R Newman, John Newman, Mark Newman, Mark Newman, Nancy Newman, DVM, Robert M Newman, Roger Newman, PhD, Simon L Newman, PhD, Thomas Newman, Tom Newman, Burce E Newmyer, Sam Newner, Richard S Newrock, PhD, Bernard D Newsom, PhD, H Newsom, PhD, Laurie Newsom, William A. Newsom, William Newsome, MD, James Newton, Joseph Newton, MD, Robert Newton, Theresa Newton, DVM, W. A. Newton, W. W. Newton, Jr, Kerwin Ng, Tai T Nguyen, Thuan U Nguyen, PhD, Liz Niccum, Sidney B Nice, Chester E Nichols, PhD, Clifford E Nichols, Davis Betz Nichols, PhD, Donald Ray Nichols, Geo S Nichols, PhD, Grady Nichols, PhD, Jackson Nichols, James R Nichols, James R Nichols, Lee L Nichols, PhD, Marcella Nichols, Mark E Nichols, PhD, Richard A Nichols, PhD, Roberta Nichols, PhD, Thomas W Nichols, Don Al Nicholson, Eugene H Nicholson, PhD, George Nickas, PhD, Robert Nickell, Kenneth W Nickerson, Richard Nickerson, MD, Robert Fletcher Nickerson, PhD, Thomas Nickerson, Michael Nicol, Paula W Nicola, Dennis A Nie, James Niebaum, Edmund L Niedzielski, PhD, R Nieffenegger, Morgan W Nields, Alan Nielsen, Barry C Nielsen, David R Nielsen, MD, Dennis M Nielsen, Donald R Nielsen, PhD, John Merle Nielsen, PhD, Jonathan Nielsen, Kurt Nielsen, Ronald A Nielsen, DDS, Harry Niemczyk, Alfred O Niemi, PhD, Chuck Niemier, Nyal Niemuth, Fred C. Nienaber, Fred Nienaber, William A Nierinberg, Joseph A Nieroski, Preston L Niesen, John E Niesse, PhD, Edward A. Nieto, Herbert Nigg, PhD, Samuel Nigro, MD, PhD, Henry Nikkel, Paul J Nikolai, PhD, Thomas G Nilan, PhD, Raymond C Niles, Bertha F Nilsson, Walter Von Nimitz, PhD, R Nimmer, Harmon Nine, PhD, John Tse Tso Ning, PhD, Donald A Nirschl, Edward Nisbett, Kazunori Nishioka, Larry Niswender, Charles J Nithman, James Nitzschke, Larry Niven, Aundra Nix, Paul R Nixon, Robert Nixon, George Niznik, PhD, Christopher P Nizzi, John C Nobel, MD, John D Noble, PhD, Marion Noble, Shannon Noble, C Nobles, Kenneth R Noel, MD, Michael L Noel, Raymond L. Noel, Theodore N Noel, Ella Mae Noffsinger, Jim Noffsinger, PhD, James Nofziger, DVM, Daniel Nogales, PhD, Thomas Noggle, Charles Nolan, Edward J Nolan, PhD, James Nolan, Martin Nolan, Thomas J Nolan, Wayland Noland, PhD, Lasalle L Nolin, Jack Noll, Leo A Noll, PhD, AR Nollet, James A Nollet, Michael Nollet, Bertram Nolte, PhD, Cliff Nolte, Richard Nolthenius, PhD, Henry F Nolting, Henry F. Nolting, Eugene Nooker, David B Norby, Philip A Norby, Peter J Nord, PhD, Carroll R Norden, PhD, Ivan Nordin, PhD, J Nordin, Edwin C Nordquist, C L Nordstrom, John Norgard, PhD, Ha Noring, Randy Noriyuki, Barry Norlander, Gary Nordlander, R A Norling, Ray Norling, Michael L Norman, PhD, Richmond D Norman, DDS, Sherman B Nornes, PhD, William G Norrie, Albert S Norris, MD, Edward D North, PhD, L D Northcott, Ronnie Northcutt, Dexter B Northrop, PhD, Clyde Northrup, PhD, Scott H Northrup, PhD, Lilburn L Norton, PhD, Robert Norton, S H Norton, PhD, Wm T Norton, PhD, John Norvell, PhD, B G Norwood, MD, Sidney L Norwood, Susan Norwood, Thomas E Noseworthy, James Noss, Jim Nostrant, Albert Notary, Robt J Noteboom, D B Nothdurft, Hallan C Notimier, PhD, Julian R P Nott, Thomas D Nott, Edward F Novak, Raymond F Novak, MD, Robert C. Novak, Bruce W Novark, MD, DDS, Wm J Novick, PhD, James A Novitsky, PhD, J D Novotny, Robert Novy, PhD, Ferdinard J. Nowak, Henry C Nowak, Jerzy Nowakowski, PhD, Z Noworolski, PhD, Oliver Nowotny, Gary P Noyes, PhD, Bernard E. Nuedil, Laurence Nuelle, Edmond Nugent, Leonard James Nugent, PhD, Wm R Nummy, PhD, Ann T Nunnemaker, Samuel Nunnemeker, Thomas Nunnikhoven, PhD, Jack H Nuszbaum, Hugh Nutley, PhD, Dale Nuttall, Frank Q Nuttall, MD, PhD, Garth W. Mutter, Rod Nutter, Roy Sterling Nutter, PhD, William E Nutter, PhD, David W Van Nuys, PhD, George A Nyamekye, PhD, Gary Nydegger, Verda Nye, Chris Nyikos, Van Nyman, James E Nymann, PhD, Richard A Nyquist, PhD, Emmanuel Nzewi, PhD, Mark O Brien, Jeffrey Oak, Edward Oakes, James Oakes, David Oakeson, Michael Oakey, A G Oaks, Michael J Oard, Michael Oard, Harold Oatfield, Deborah Jean O'Bannon, PhD, Gerald O'Bannon, PhD, Richard D Obarr, PhD, Richard C Obee, Harry A Oberhelman, MD, Donald Oberleas, PhD, Robert B Oberst, Hayward Oblad, PhD, Mark Oblad, Nan Oblad, Allan O'Brien, MD, Daniel Obrien, PhD, Thomas W Obrien, PhD, Dale O'Brien, MD, E J O'Brien, Mark J. O'Brien, Robert O'Brien, Sally G O'Brien, John L Occolowitz, George S Ochsner, John Ochsner P E, Richard L. O'Connell, Paul O'Connor, Richard O'Connor, T A O'Connor, MD, Matthew O'Counell, David Odde, PhD, Mark A Odell, R. D. Odell, Robt D Odell, Arlo L Oden, Ron Oden, Frederick Kirk Odencrantz, PhD, Frederic C E Oder, PhD, George Odoherty, PhD, Charles B Odom, MD, Pat Odom, PhD, Charles Odonell, Michael H Odonnell, Mark O'Donnell, Vencil O' Donnell, Dominick Odorizzi, John A Oeffner, David Oehler, Randy Oehling, Thomas J Oelberg, PhD, Carl Oelze, Ordean S Oen, PhD, Robert A Oetjen, PhD, Charles P Ofarrel, PhD, Randy Offenberger, Marvin L Oftedahl, PhD, Calvin Ogburn, Duncan G Ogden, Lynn Ogden, MD, Richard Ogg, Winston S Ogiluy, PhD, Naomi N Ogimachi, PhD, H M Ogle, Kenneth C Ogle, Pearl R Ogle, PhD, Kenneth Oglesby, Richard B. Oglesby, MD, David J Ogren, Arthur C Ohagan, Norbert W Ohara, PhD, Ernest L Ohle, PhD, Ernie Ohle, PhD, William Ohmstede, Stephen Oivanki, George Ojdrovich, Wm O Keefe, William Olkowski, PhD, Arthur F Okuno, John Olashuk, Steven E Olbrich, PhD, Richard Oldack, Fred B Oldham, MD, Geo A Oldham, Daniel Olds, Frederick Olds, Fredric Olds, Harold O'Leary, PhD, Thomas O'Leary Jr, Edward A Oleata, Stanley Oleksy, MD, Marc C Oler, E Wheeler Oliphant, Bernie D Oliver, Donald A Oliver, Donald B Oliver, PhD, Dottie Oliver, Fred Oliver, Horace G Oliver, Jr, Kelly H Oliver, PhD, Kenneth Leo Oliver, PhD, Lawrence Oliver, PhD, Richard C Oliver, PhD, Thomas K Oliver, PhD, Wm P Oliver, PhD, E Jerry Oliveras</a:t>
            </a:r>
            <a:endParaRPr b="0" lang="en-US" sz="1200" spc="-1" strike="noStrike">
              <a:solidFill>
                <a:srgbClr val="000000"/>
              </a:solidFill>
              <a:latin typeface="Calibri"/>
            </a:endParaRPr>
          </a:p>
        </p:txBody>
      </p:sp>
    </p:spTree>
  </p:cSld>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8">
                                  <p:stCondLst>
                                    <p:cond delay="0"/>
                                  </p:stCondLst>
                                  <p:childTnLst>
                                    <p:set>
                                      <p:cBhvr>
                                        <p:cTn id="318" dur="1" fill="hold">
                                          <p:stCondLst>
                                            <p:cond delay="0"/>
                                          </p:stCondLst>
                                        </p:cTn>
                                        <p:tgtEl>
                                          <p:spTgt spid="137">
                                            <p:txEl>
                                              <p:pRg st="0" end="0"/>
                                            </p:txEl>
                                          </p:spTgt>
                                        </p:tgtEl>
                                        <p:attrNameLst>
                                          <p:attrName>style.visibility</p:attrName>
                                        </p:attrNameLst>
                                      </p:cBhvr>
                                      <p:to>
                                        <p:strVal val="visible"/>
                                      </p:to>
                                    </p:set>
                                    <p:anim calcmode="lin" valueType="num">
                                      <p:cBhvr additive="repl">
                                        <p:cTn id="319" dur="50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320" dur="5000" fill="hold"/>
                                        <p:tgtEl>
                                          <p:spTgt spid="13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txBox="1"/>
          <p:nvPr/>
        </p:nvSpPr>
        <p:spPr>
          <a:xfrm>
            <a:off x="457200" y="609480"/>
            <a:ext cx="8229600" cy="5516640"/>
          </a:xfrm>
          <a:prstGeom prst="rect">
            <a:avLst/>
          </a:prstGeom>
          <a:noFill/>
          <a:ln w="0">
            <a:noFill/>
          </a:ln>
        </p:spPr>
        <p:txBody>
          <a:bodyPr anchor="t">
            <a:normAutofit fontScale="65000"/>
          </a:bodyPr>
          <a:p>
            <a:pPr marL="222840" indent="-222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Oli to Pay                                </a:t>
            </a:r>
            <a:r>
              <a:rPr b="1" lang="en-US" sz="1200" spc="-1" strike="noStrike">
                <a:solidFill>
                  <a:srgbClr val="000000"/>
                </a:solidFill>
                <a:latin typeface="Calibri"/>
              </a:rPr>
              <a:t>JF Olivier, Roger D. Oleeman, PhD, Richard G Olmstead, Jr, Brent Olsen, John F Olsen, Randy B Olsen, Dale C Olson, Douglas B Olson, PhD, Edwin A Olson, PhD, Gary Olson, Jan Olson, John Olson, Kenneth Olson, Mark Olson, Merrill M Olson, Michael A. Olson, Randy Olson, PhD, Robert J Olson, Ted Olson, Ray A Olsson, MD, James Oltmans I I, Kevin D Olwell, PhD, Michael O'Mara, MD, Thomas O'Mara, MD, Willard D Ommert, DVM, Carlos Omphroy, MD, Andrew Ondish, Joanne M Ondrako, PhD, Adrian O'Neal, Don O'Neal, Joe R O'Neal, Russell O'Neal, PhD, Ryan O'Neal, Wm D E Oneill, PhD, James O'Neil, Michele O'Neil, George F Oneill, PhD, Jeffrey O'Neil, Robert E O'Neill, Marchall F Onellion, PhD, Richard A Onken, Anatoli Onopchenko, PhD, Clinton R Ooten, Joseph W Opie, PhD, Peg Opolski, Gary L. Oppliger, PhD, Erik Opstad, Jonathan M Oram, J A Oravetz III, Roger Orcutt, PhD, Stephen Orcutt, Drew R Van Orden, Anthony Ordile, Michael Ordoyne, Fernando Ore, PhD, Errol Orebaugh, PhD, Gerald J Orehostky, Don N Orelup, MD, Robert Orenstein, MD, David R Orfant, Jane M Orient, MD, W L Orient, William Orlandi, Johathan Orloff, PhD, J Orloski, S. J. Orloski, Robert Ormesher, Cornel G Ormsby, Walter C Ormsby, PhD, Harold A Orndorff, James F Orofino, Brian P O'Rourke, James T O'Rourke, PhD, Gus G Orphanides, PhD, Demetrius G Orphanos, PhD, Andrew A Orr, Thomas E Orr, William V Orr, David A Orser, Ernest Orsi, PhD, William A Orth, PhD, F Ortiz, William Ortloff, Harold R Ortman, DDS, Paul Ortwerth, PhD, Gary Orvis, Brian Osborn, Harold Osborn, Herbert Osborn, PhD, J M Osborn, PhD, James Osborn, John R Osborn, PhD, Osborn, Terrell J Osborn, PhD, Marla Osborne, Paul W Osborne, PhD, Raymond L Osborne Jr, MD, W E Osborne, Stephen S Osder, Bert Osen, Oskoorouichi, PhD, Jeffrey Oslund, Maurice J Osman, Joseph T Osmanski, Duane Ostenson, Charles Oster, Dds, DDS, Charles Osterberg, PhD, Dave Osterhout, George F Osterhout, William Osterloh, PhD, David Osterlund, Robert Osthues, Dan Ostlind, PhD, John Ostrom, PhD, Peter P Ostrowski, PhD, Prosper Ostrowski, Throdore O Osucha, R. Oswald, Osamudiamen M Otabor, Arnold Otchin, Robert Otham, William Orthwein, PhD, Edward O'Toole, PhD, Joseph M O'Toole, Judith O'Toole, Haruko Otoshi, Caarl W Ott, Leo E Ott, PhD, Steve Ott, Wayne Ott, PhD, Wm J Otting, PhD, Craig A Otto, Michael J Otto, PhD, William Otto, William L Otwell, Augustua C Ouano, PhD, Mark Oulundsen, Kevin D Ours, G Out, PhD, Susan B Ouzts, Jacques Ovadia, PhD, Robert Ovellette, J W Overall Jr, Lanny Overby, Donald R Overdorf, Albert W Overhauser, PhD, Rufus M Overlander, F A Overly, David K Overmier, Robert F Overmyer, J David Overton, Mack Overton, Dennis Owen, James R Owen, PhD, Jerry Owen, P.R. Owen, Richard Owen, T D Owen, Terrence Owen, PhD, Fredric N Owens, PhD, John S Owens, Joseph F. Owens, Mark Owens, Phillip P Owens, Thoams Owens, William C Owens, William W Owens, RM Owensby, MD, A D Owings, PhD, Marvin L Oxley, Oyelola, PhD, Jim L Ozbun, PhD, David Ozsvath, PhD, John Pace, Wesley E Pace, Gilbert Pacey, PhD, Ralph S Pacini, MD, Bruce Packard, Karle Packard, C Subah Packer, PhD, Richard Milton Paddison, MD, David R Paddock, S Paddock, Jack Paden, Sedonna Paetz, Murali Krishna Pagala, PhD, Algred Pagano, PhD, Carey Page, MD, David S Page, PhD, Edgar J Page, PhD, Gary Page, Michael Page, Daivd Pagie, Joseph R. Pagnozzi, Ted Paige, Daivd Paik, Joseph P. Paine, F Painter, PhD, Lorn Painter, Ruth Painter, Kenneth Paladino, Felice Charles Palermo, Robert R Palik, Henry Palka, Edward Palkovic, Richard W Palladino, Richard Palmateer, Karl Palmberg, MD, Alan Palmer, PhD, Bruce R Palmer, PhD, Jay A. Palmer, Jay Palmer, PhD, John D Palmer, PhD, R Palmer, Ralph L Palmer, Richard Palmer, Thomas Y Palmer, Timothy T Palmer, PhD, Vincent Palmer, PhD, Muriel S Palmgren, PhD, John C Palmquist, PhD, Robt E Palmquist, John M Palms, PhD, Huberto Platz, Michael V Palvov, Gyan S Pande, PhD, V N Pandey, PhD, Patrick Pandolfi, Louis A Panek, PhD, Arthur Pansze, PhD, John A Pantelis, Sergio R Panunzio, PhD, Jack S Panze, Francis Paolini, PhD, Charles A Papacostas, PhD, Andreas M Papas, PhD, Carles Herach Papas, PhD, Joseph Papenfuss, PhD, Steven P Pappajohn, Helen Pappas, James Pappas, Michael L Pappas, Sastry U Pappu, PhD, Ronald E Paque, MD, Georges Pardo, PhD, Howell Pardue, William M Pardue, Manuel Paredes, B K Parekh, PhD, Hemant B Parikh, Travis A Paris, Edward James Parish, PhD, Richard L Parish, PhD, Brian Park, Gerald M Park, James L Park, PhD, Robert Park, PhD, Robret E Park, PhD, William Park, Cyril Parkanyi, PhD, Wayne Parke, Ben Parker, PhD, D Parker, David Parker, Dennis Parker, Donald Parker, PhD, Eugene Parker, PhD, Garth R Parker, George Parker, Groege E. Parker, Jack Parker, James C. Parker, Jerald D. Parker, PhD, John M Parker, Kenneth Parker, Michael D Parker, Nina Parker, PhD, Raymond G Parker, Richard A Parker, Richard Parker, T Parker, Theodore C Parker, Thomas Parker, William Parker, R M Parkhurst, Robert Parkhurst, Gary Parkinson, Arthur Parks Sr, Gary L Parks, George H Parks, H L Parks, James Parks, MD, L Parks, Lloyd M Parks, PhD, Edward M Parma, Sheldon C Parmer, L Owell C Arr Parode, Albert Parr, PhD, James Floud Parr, PhD, Mark Parr, J Parrish, K W Parrish, Kale Parrish, Stephen L Parrott, PhD, Christopher Parry, PhD, Forrest Parry, H D Parry, Marshall E Parry, Robert W Parry, PhD, Zohreh Parsa, PhD, Michael L Parsons, PhD, Alice B Parsons, David H Parsons, Marshall F Parsons, Stuart Parsons, W H Parsons, PhD, Blakeslee Partridge, C R Partridge, Ralph E Pasceri, PhD, Richard Pase, Gary Pashaian, David F Paskausky, PhD, David F Paskausky, PhD, Thomas Joseph Pasko, Richard S Passamaneck, PhD, Marvin P Pastel, PhD, Arvid Pasto, PhD, Sergio Pastor, Mark Pastore, Robert Patarcity, Stanley Patchet, PhD, Charlie Patchett, H Richard Pate, James Pate, MD, Mitchell Pate, William Pate, Arun Patel, Kirit Patel, Mangal Patel, Natu C Patel, P V Patel, PhD, Lawrence Patella, James M Paterson, PhD, John H Paterson, Richard Paterson-Jones, Christopher J Patitsas, MD, Bernard Patrick, MD, James H Patrick, Sandra Patrick, Sandra Patrick, Wesley Clare Patrick, PhD, William Patrick, Frank Pattee, Brian Patten, PhD, Donald A Patten, MD, Gaylord P Patten, PhD, Alec M Patterson, Bernard Patterson, MD, Billy Patterson, Don R Patterson, Gary A Patterson, Gilbert W Patterson, Greg Petterson, Henry Patterson, Ian J Patterson, James C Patterson, James H Patterson, PhD, Jeff Patterson, Joseph G Patterson, Malcolm Patterson, Orus F Patterson III, R D Patterson, Randy Patterson, Robert W Patterson, Roe Patterson, Sharon Patterson, Timothy Patterson, Wayne Patterson, PhD, Wilbur I Patterson, PhD, Dean Pattison, Gary M Patton, James W Patton, PhD, Robert J. Patton, Cynthia Patty, William Paucrisler, PhD, Alfred N Paul, Anto D Paul, PhD, James T Paul, Robert Paul, PhD, Rolf Paul, PhD, W Quinn Paulk, MD, Ralph L Pauls, Craig L. Paulsen, Kenneth R Paulsen, Robert C Paulsen, Charles Paulson, James M A Paulson, PhD, Kermit Paulson, Theodore Paulson, Patricia Paulson-Ehrhardt, Bruce H Pauly, John Pauly, PhD, Charles W Pavey, MD, Albert Pavlic, PhD, Arthur S Pavlovic, PhD, Emil H Pawlik, Paul Pawlisch, PhD, Charles H Paxton, John Paxton, H Payes, Barry Payne, Cyril J Payne, Dalian Payne, Daniel Payne, Dewitt A Payne, PhD, Doyle Payne, F R Payne, PhD, Franklin E Payne, MD, George A Payne, James Payne, PhD, James R Payne, Julian Payne, Michael A Payne, PhD, Tamara E. Payne, PhD, Raymond A Paynter, PhD, Daniel N Payton</a:t>
            </a:r>
            <a:endParaRPr b="0" lang="en-US" sz="1200" spc="-1" strike="noStrike">
              <a:solidFill>
                <a:srgbClr val="000000"/>
              </a:solidFill>
              <a:latin typeface="Calibri"/>
            </a:endParaRPr>
          </a:p>
          <a:p>
            <a:pPr marL="222840" indent="-222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a:t>
            </a:r>
            <a:endParaRPr b="0" lang="en-US" sz="1200" spc="-1" strike="noStrike">
              <a:solidFill>
                <a:srgbClr val="000000"/>
              </a:solidFill>
              <a:latin typeface="Calibri"/>
            </a:endParaRPr>
          </a:p>
        </p:txBody>
      </p:sp>
    </p:spTree>
  </p:cSld>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28">
                                  <p:stCondLst>
                                    <p:cond delay="0"/>
                                  </p:stCondLst>
                                  <p:childTnLst>
                                    <p:set>
                                      <p:cBhvr>
                                        <p:cTn id="326" dur="1" fill="hold">
                                          <p:stCondLst>
                                            <p:cond delay="0"/>
                                          </p:stCondLst>
                                        </p:cTn>
                                        <p:tgtEl>
                                          <p:spTgt spid="138">
                                            <p:txEl>
                                              <p:pRg st="0" end="0"/>
                                            </p:txEl>
                                          </p:spTgt>
                                        </p:tgtEl>
                                        <p:attrNameLst>
                                          <p:attrName>style.visibility</p:attrName>
                                        </p:attrNameLst>
                                      </p:cBhvr>
                                      <p:to>
                                        <p:strVal val="visible"/>
                                      </p:to>
                                    </p:set>
                                    <p:anim calcmode="lin" valueType="num">
                                      <p:cBhvr additive="repl">
                                        <p:cTn id="327"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328" dur="5000" fill="hold"/>
                                        <p:tgtEl>
                                          <p:spTgt spid="138">
                                            <p:txEl>
                                              <p:pRg st="0" end="0"/>
                                            </p:txEl>
                                          </p:spTgt>
                                        </p:tgtEl>
                                        <p:attrNameLst>
                                          <p:attrName>ppt_y</p:attrName>
                                        </p:attrNameLst>
                                      </p:cBhvr>
                                      <p:tavLst>
                                        <p:tav tm="0">
                                          <p:val>
                                            <p:strVal val="#ppt_y+1"/>
                                          </p:val>
                                        </p:tav>
                                        <p:tav tm="100000">
                                          <p:val>
                                            <p:strVal val="#ppt_y-1"/>
                                          </p:val>
                                        </p:tav>
                                      </p:tavLst>
                                    </p:anim>
                                  </p:childTnLst>
                                </p:cTn>
                              </p:par>
                            </p:childTnLst>
                          </p:cTn>
                        </p:par>
                        <p:par>
                          <p:cTn id="329" fill="hold">
                            <p:stCondLst>
                              <p:cond delay="5000"/>
                            </p:stCondLst>
                            <p:childTnLst>
                              <p:par>
                                <p:cTn id="330" nodeType="afterEffect" fill="hold" presetClass="entr" presetID="28">
                                  <p:stCondLst>
                                    <p:cond delay="0"/>
                                  </p:stCondLst>
                                  <p:childTnLst>
                                    <p:set>
                                      <p:cBhvr>
                                        <p:cTn id="331" dur="1" fill="hold">
                                          <p:stCondLst>
                                            <p:cond delay="0"/>
                                          </p:stCondLst>
                                        </p:cTn>
                                        <p:tgtEl>
                                          <p:spTgt spid="138">
                                            <p:txEl>
                                              <p:pRg st="1" end="1"/>
                                            </p:txEl>
                                          </p:spTgt>
                                        </p:tgtEl>
                                        <p:attrNameLst>
                                          <p:attrName>style.visibility</p:attrName>
                                        </p:attrNameLst>
                                      </p:cBhvr>
                                      <p:to>
                                        <p:strVal val="visible"/>
                                      </p:to>
                                    </p:set>
                                    <p:anim calcmode="lin" valueType="num">
                                      <p:cBhvr additive="repl">
                                        <p:cTn id="332" dur="5000" fill="hold"/>
                                        <p:tgtEl>
                                          <p:spTgt spid="138">
                                            <p:txEl>
                                              <p:pRg st="1" end="1"/>
                                            </p:txEl>
                                          </p:spTgt>
                                        </p:tgtEl>
                                        <p:attrNameLst>
                                          <p:attrName>ppt_x</p:attrName>
                                        </p:attrNameLst>
                                      </p:cBhvr>
                                      <p:tavLst>
                                        <p:tav tm="0">
                                          <p:val>
                                            <p:strVal val="#ppt_x"/>
                                          </p:val>
                                        </p:tav>
                                        <p:tav tm="100000">
                                          <p:val>
                                            <p:strVal val="#ppt_x"/>
                                          </p:val>
                                        </p:tav>
                                      </p:tavLst>
                                    </p:anim>
                                    <p:anim calcmode="lin" valueType="num">
                                      <p:cBhvr additive="repl">
                                        <p:cTn id="333" dur="5000" fill="hold"/>
                                        <p:tgtEl>
                                          <p:spTgt spid="138">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Paz to Pot                            </a:t>
            </a:r>
            <a:r>
              <a:rPr b="1" lang="en-US" sz="1200" spc="-1" strike="noStrike">
                <a:solidFill>
                  <a:srgbClr val="000000"/>
                </a:solidFill>
                <a:latin typeface="Calibri"/>
              </a:rPr>
              <a:t>Zoran Pazameta, PhD, Andy Peabody, Larry R Peabody, H W Peace I I, Herry Peace, David Peacock, PhD, Val E Peacock, PhD, Harold J Peake, Frederick J. Pearce, PhD, R Pearce, Richard H Pearce, Albert M Pearson, PhD, Anthony Pearson, PhD, Charles Pearson, Durk Pearson, Earl Pearson, PhD, F G Pearson, PhD, George J Pearson, PhD, John Pearson, Richard C Pearson, Richard Pearson, PhD, Ross E. Pearson, S Ivan Pearson, Doug Pease, Robert A Pease, Rod Pease, David C Peaslee, PhD, Justin B Peatross, PhD, R Pecen, PhD, Michael J Pechan, PhD, E L Peck, PhD, Edson R Peck, PhD, Patrick A Peck, Roger Peck, Alan E Peckham, Richard S Peckham, PhD, Carl Pecko, Bruce Pedersen, Richard Pedersen, Gerald J Pedoto, Christopher Peek, Michael Peelish, Art Peerman, William Peet, Edward J Peik, Ronald Peik, Vernon L Peipelman, Fred A Peiplow, Alfred H Pekarek, PhD, Gary Pekarek, Albert Pela, Tim Pelfrey, David G Pelka, PhD, Erik M Pell, PhD, John Pellet, Floy Pelletier, PhD, Floy Pelletier, PhD, M J Pellillo, Thomas Pelt, Frank M Pelteson, Frank Pelteson, Richard R Pemper, PhD, Hugo Gabriel Pena, PhD, Orville Pence Jr, Curtis A Pendergraft, PhD, David Pendery, Winston Kent Pendleton, PhD, Raymond Penick, Stanley J Penkala, PhD, Mary A Penland, Gerald Penn, John Penn, William Penn, Jr PhD, PhD, Robert Pennak, PhD, Frederic J Penner, Samuel Penner, PhD, B F Pennington, Bill D Pennock, Paul Pennypacker, MD, Charles R Penquite, Wayne Penrod, Jeffrey G Penta, Daivd Peontek, Ann Peper, Robert Peper, Wendell Pepperdine, PhD, Armand B Pepperman, PhD, Linda Pequegnat, PhD, J Percha, Luzviminda K Peredo, MD, James M Perel, PhD, Motty Perel, Richard E Perez, Victor Perez, Darlene A Periconi-Balling, James Periman, Arthur S Perkins, FM Perkins, Madonna J Perkins, Perkins, PhD, Robert A Perkins, Russell G Perkins, Steve Perkins, Thomas Perkins, PhD, Michael D Perrea, Bill Perry, Burton L. Perry Sr, Charles Perry, Dale Perry, Donald M Perry, MD, Elmer L Perry, Jr, Eric Perry, George Perry, PhD, John E Perry, Kenneth D Perry, Mark Perry, Michael Perry, Nelson Perry, Richard Perry, Kenneth F Persin, Persky, PhD, Cyril J Perusek, Michael Pestes, Mikhail I Petaev, PhD, Donald Peter, Zell E. Peterman, PhD, Heide Petermann, Brian D Peters, Calvin Peters, Douglas Peters, Douglas Peters, Elroy J. Peters, Elroy Peters, PhD, Eugene Peters, James B Peters, Jeffrey L Peters, Leroy L Peters, Ralph Peters, PhD, Raymond Peters, Charles A. Petersen, David Petersen, PhD, Joseph C Petersen, PhD, Stephen G Petersen, Al Peterson, Arthur W Peterson, Brian L Peterson, MD, Christopher K Peterson, David Peterson, PhD, Donald J Peterson, Duane Peterson, Edward C Peterson, Floyd M Peterson, Gary L Peterson, PhD, Gerald L Peterson, Irvin L Peterson, DVM, Jack E Peterson, PhD, James D Peterson, James L Peterson, Joel E. Peterson, Paul Peterson, Raymond W Peterson, Terrance E Peterson, Victor L Peterson, Parker H Petit, Fred Petito, Arthur Petraske, Samuel Petrecca, Randy Petresh, Glenn Petrick, PhD, Howard Petrie, PhD, William L Petrie, Peter P Petro, PhD, George Petrosky, Thomas G Petrulas, Raymond M Petrun, Francis Petrus, J A Petrusha, Heriberto Petschek, David E Pettijohn, PhD, Dave Pettit, Ray H Pettit, PhD, Andrey Petukhov, PhD, CmRonald Petzoldt, PhD, Chester Peyton, George C Pfaff Jr, Robert W Pfaff, Wm H Pfaff, Bernard Pfefer, James E Pfeffer, Lawrence M Pfeffer, PhD, Douglas R Pfeiffer, PhD, Raymond J Pfeiffer, PhD, Glenn Pfendt, John R Pfieffer, Robert Pfister, Donald Pfittsiher, Bill Pfitzer, Tom Pfitzer, Francis Pflum, MD, R Fred Pfost, PhD, Arun G Phadke, PhD, Robert Phalen, PhD, Tuan Duc Pham, PhD, Raj Phansalkar, PhD, Bill Phebe, Frederick Phelps, PhD, George C Phelps, Jeffrey Philbin, PhD, L Pilgram, DDS, Harry M Philip, Herbert R. Philipp, PhD, Kathleen Phillips, Richard A Phillips, PhD, Lloyd L Philipson, PhD, Lincoln Phillippi, B Phillips, PhD, C. Eric Phillips, Calvin Phillips, David K Phillips, Don A Phillips, Dwayne Phillips, Edward J Phillips, Ernest Phillips, James A Phillips, PhD, John Phillips, John Phillips, Keith Phillips, Kenneth M Phillips, Mitchel Phillips, MD, Robert Phillips, Steven J Phillips, MD, Steven P Phillips, Thomas Phillips, Walter T Phillips, Wendell F Phillips, Wallae C Philoon, PhD, Jay W Phippen, PhD, Cu Phung, PhD, Louis Pianetti Jr, George J Piazza, PhD, Vince Picarello, Perry T Piccard, Wayne Pickard, MD, Margaret A Pickel, Timothy Pickenheim, Max Pickerill, PhD, John Pickett, PhD, William Pickett, Sean Piecuch, Rex D Pieper, PhD, John Pierce, Matthew Lee Pierce, PhD, Susan K Prierce, PhD, William Pierce, MD, Stephen L Pierett, Fred E Piering, George Piers, Gene Peirson, Gerald Pierson, Richard Pierson, MD, S W Pierson, Edwin T Pieski, PhD, Pat Pietrefesa, Charles E Pietri, William J Pietrusiak, Anthony Pietsch, Jeffrey T Pietz, MD, Arthur J Pignocco, PhD, D Pigott, PhD, Robert L Pigott I I, Alan Pike, PhD, Charles Pike, David M Pike, G Pike, Gordon E Pike, PhD, Arturs Piksis, PhD, Glen A Piland, Charles F Pilati, PhD, Lester Pilcher, Valter E Pilcher, PhD, Paul E. Pilkington, Vincent J Pileggi, PhD, Laurence O Pilgeram, PhD, Kurt Pilgram, Hyman Ira Pilgrim, PhD, Richard A Pilon, Vernor Pilon, MD, Robert A Piloquin, Annemarie Pilveins, David Pimentel, PhD, John H Pimm, Peter Pincura, Irwin J Pincus, MD, Pine, PhD, RE Pine, Robert F Pineiro, PhD, Anthony Piniat, Michael Pinnell, Bob Pinner, Edmund Pinney, PhD, Mark A Pinsky, PhD, Pam Pinson, Raymond G Pinson, Anton J Pintar, PhD, Ronald Pinter, William R Pioli, Chris Piotrowski, Michael R Piotrowski, PhD, Ervin L Piper, Robert Piper, William Piper, Bernard Wallace Pipkin, PhD, Anthony W Pircio, PhD, Daniel J Pisano, PhD, Richard Pisano, Jack Piskura, Ed Piszynski, Richard M Pitcher, Fred Pitman, Joseph T Pitman, Charles Pitt, PhD, William Pitt, PhD, A Lincoln Pittinger, John P. Pittman, PhD, Peter Pittman, Richard Pittman, David Pitts, Gerald S Pitts, Gregory S Pitts, Michael Pitts, Peter Pityk, Rahn G Pitzer, Russell Pitzer, William C Piver, Michael Piznar, Philip A Pizzica, Jerry P Place, PhD, James C Plagge, PhD, Gus Plagianis, John A Plaisted, Ronald Plakke, PhD, Don Planchard, Robert V Plank, Joseph J M Plante, Thomas Plante, John E Plapp, PhD, Alan Edward Platt, PhD, Beth M Platt, Lucian B Platt, PhD, Wallace Platt, Robert V Plehn, MD, James D Plimpton, PhD, Don Plisek, Larry Plonsker, PhD, Andrew W Plonsky, Karl W Plumlee, PhD, Byron L Plumley, Howard Plummer, William A Plummer, PhD, Joseph S Plunkett, David Pocengul, Roger Pocklington, John F Podhaisky, Robert Podlasek, PhD, Steve C Poe, Wendy K Pogozelski, PhD, William Pogue, Max Pohl, Roland F Pohler, Henry Pohs, Carl R Poirier, William Poley, Frank C Polidora, MD, B Poling, PhD, Polinger, PhD, Jack J Polise, John Polish, Gregory E Polito, MD, Larry Polk, R Scott Pollard, Robert Pollard, Ruth Polley, Wm A Polley, Charles B Pollock, Charlotte Pollock, Myron Pollycove, William J Polson, PhD, Kent Pomeroy, MD, Paul Pompeo III, Wilson G Pond, PhD, Walter L. Pondrom, PhD, Philip Pongetti, Bernard Ponseggi, Kurt W Pontasch, PhD, Larry Pontaski, Karl Hallman Pool, PhD, George Poole, H K Poole, Russel Poole, Robert W Poole, Jr, Alan Pope, Arthur F Pope, Lee Pope, Thomas Pope, MD, M G Popik, Louis B Popovich, Robert D Popper, G Albert Popson, PhD, Bruce Porter, David D Porter, MD, Edward S Porter, Frederic E Porter, PhD, Jeffrey Porter, Richard F Porter, Thomas Porter, Vernon R Porter, PhD, John Porterfield, Thomas Porterfield, William W Porterfield, PhD, Michael Portman, Bonne Posma, Mike Posson, Joseph Post, ME Postlethwaite, Richard W Postma, PhD, Denzil Poston, PhD, Harvey W Posvic, PhD, Louis Potash, PhD, Walter Potczny, PhD, Reddeppa Pothuri, PhD</a:t>
            </a:r>
            <a:endParaRPr b="0" lang="en-US" sz="1200" spc="-1" strike="noStrike">
              <a:solidFill>
                <a:srgbClr val="000000"/>
              </a:solidFill>
              <a:latin typeface="Calibri"/>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nodeType="afterEffect" fill="hold" presetClass="entr" presetID="28">
                                  <p:stCondLst>
                                    <p:cond delay="0"/>
                                  </p:stCondLst>
                                  <p:childTnLst>
                                    <p:set>
                                      <p:cBhvr>
                                        <p:cTn id="339" dur="1" fill="hold">
                                          <p:stCondLst>
                                            <p:cond delay="0"/>
                                          </p:stCondLst>
                                        </p:cTn>
                                        <p:tgtEl>
                                          <p:spTgt spid="139">
                                            <p:txEl>
                                              <p:pRg st="0" end="0"/>
                                            </p:txEl>
                                          </p:spTgt>
                                        </p:tgtEl>
                                        <p:attrNameLst>
                                          <p:attrName>style.visibility</p:attrName>
                                        </p:attrNameLst>
                                      </p:cBhvr>
                                      <p:to>
                                        <p:strVal val="visible"/>
                                      </p:to>
                                    </p:set>
                                    <p:anim calcmode="lin" valueType="num">
                                      <p:cBhvr additive="repl">
                                        <p:cTn id="340" dur="5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341" dur="5000" fill="hold"/>
                                        <p:tgtEl>
                                          <p:spTgt spid="13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Pot to Ree                           </a:t>
            </a:r>
            <a:r>
              <a:rPr b="1" lang="en-US" sz="1200" spc="-1" strike="noStrike">
                <a:solidFill>
                  <a:srgbClr val="000000"/>
                </a:solidFill>
                <a:latin typeface="Calibri"/>
              </a:rPr>
              <a:t> Robert Potoski, Dale Potter, PhD, George Potter, PhD, Keith M. Potter, Kenneth Potter, Terry Potter, Rainer Potthast, PhD, Floyd Potts, PhD, James Potts, James E Potzick, Jerry Poumelle, PhD, Daniel B Pourreau, PhD, Jacob A Poutsma, MD, Joseph J Poveromo, PhD, Louis Povinelli, PhD, Richard J Powals, PhD, George Powe, Alan Powell, PhD, Biuy R Powell, David T Powell, Jr, Derek Powell, Edward T Powell, PhD, Jim Powell, June Powell, Mark L Powell, Michael Robert Powell, PhD, R C Powell, Robert Powell, MD, Susan Powell, James P Power, John D Power, Timothy M Power, Daren Powers, PhD, Harold Powers, Jean Powers, PhD, Kendall G Powers, PhD, Russell C Powers, Robert W Powitz, PhD, David E Powley, William F Poynter, Ernest Ppospischil, Carl S Vender, Kurt Pralle, David Pramer, PhD, Hullahalli Prasan, PhD, Eugene Praschan, John M Praskwiecz, John Prater, Arnold Warburton Pratt, MD, Donald L Pratt, PhD, Robert J Pratt, Robert Pratt, Samuel F Pratt, Jr, Ronald Prebys, Frank M Precopio, PhD, Thomas Prehoda, Prendegast, PhD, Camille Prenn, Irving Prentice, Richard S Prentice, David S Prerau, PhD, Glenn C Prescott, Jerry Prescott, Kenneth Presley, Allister L Presnal, Press, Ron Presswell, C Dan Preston, Gary Preston, Richard Preston, MD, William Preston, Mary K. Prettyman, Martin Preus, PhD, R H Prewitt, Casey Jo Price, Charles R Price, Donald G Price, Jr, George W Price, H. Price, Harold Anthony Price, PhD, Henry L Price, MD, James Price, Kenneth Price, PhD, R E Price, Steven F Price, Steven Price, PhD, R L Prichard, Jerry Priddy, Gerald O Priebe, J Prieditis, PhD, Char W Prince, PhD, R K Prince, Robert Prince, James Pringle, Vernon Pringle Jr, David Prinzing, Ronald L Prior, PhD, William H Prior, Jim Priskos, Donald W Pritchard, PhD, James E Pritchard, PhD, Robert Pritchett, Ronald W Pritchett, Nolan Probst, Richard Probst, PhD, Donald L Prochnow, David G Proctor, PhD, David Livingston Proctor, MD, Richard J Proctor, John Prodan, Tso-Ping Ma, PhD, Barry Profeta, B Prokai, PhD, William H Prokop, Gary Proksch, PhD, Ronald L. Promboin, PhD, Thomas P Propert, Joseph W Proske, PhD, Leon Prosky, PhD, Brian S Prosser, Alan L Prouty, Jesus R Provencio, PhD, Frederick D Provenza, PhD, Anthony J Provenzano, PhD, Michael Pruchnicki, MD, Buchard Pruett, MD, Elmer Pruim, Basil A Pruitt, MD, Basil A Pruitt, MD, Charles W Pruitt, Jay Pruitt, L L Pruitt, Zenon C Prusas, Charles Pruszynski, Michael J Pryor, PhD, William Pryor, PhD, Andrezej Przyjazny, PhD, Trodor Przymusinski, PhD, Siegfied Pudell, David L Puent, Daniel Puffer, Eugene M J Pugatch, MD, Evan R Pugh, PhD, Richard P Pugh, T Linn Pugh, Ronald J Pugmire, PhD, William Pulford, J Pullen, Layne L Puls, John Pulte, Bruce Purcell, Everett W Purcell, L Purcell, MD, T O Purcell, PhD, Cary C Purdy, David C Purdy, Robt G Purington, Scott Purinton, E Dale Purkhiser, PhD, James K Purpura, Paul E Purser, Richard A Purtell, David R Puryhear, John Pusatari, Herman Pusin, Richard L Puster, Edison W Putman, PhD, George Putman, PhD, Thomas H Putman, PhD, Abbott A Putnam, Charles Putnam, J W Putt, David Puzan, Albert Pye, PhD, Orrea F Pye, PhD, George T Pyndus, Eugene Pyrcioch, Louis Pytlewski, PhD, Erling Pytte, PhD, Tom Pyzdek, Kathy Qin, M A Qin, Forrest Quackenbush, PhD, James Qualey, PhD, Russell Qualls, PhD, Keith J Quanbeck, Earl R Quandt, PhD, James Quandt, Miller W Quarles, Barry Quart, PhD, Ramon S Quesada Jr, MD, John M Quiel, Samuel Quigley, Spence Quilling, James R Quinan, PhD, John Quinalan, John J Quinn, PhD, John Quinn, Perry C O Quinn, Ralph Quinn, Rena Quinn, Robert D. Quinn, Shirley J Quinn, Alan Quintero, Phil Quire, Terence T. Quirke, PhD, Karl S Quisenberry, PhD, William Quisenberry, Patrick W Quist, Ralph Quosig, Bernard Raab, PhD, FH Raab, PhD, Frederick H Raab, PhD, Daryl Raabe, Kent Raate, Ashley Rabalais, David Rabb, Steven Rabe, Craig Rabeneck, Mj Rabinonitz, PhD, Louis C Raburn, Ken Rachal, Joseph Rachlin, PhD, Jeff Racho, Kenneth Rachocki, PhD, John Rackley, Charles Raczowski, PhD, Richard Radcliffe, Frederick J Radd, PhD, Richard Radeka, Frank Radella, David R Raden, Ken Rader, Ned Radich, MD, Rodney W Radke, PhD, D Rado, Donald Radtke, Michael T Radvan, Keith Rae, Harold Raemer, PhD, Beat U Raess, PhD, Hershel Raff, PhD, Keen Rafferty, PhD, Donal M Ragan, PhD, Robert Ragen, Mohsen K Rahbar, PhD, Perry H Rahn, PhD, Ronald O Rahn, PhD, Milfreed Rainel, Robert Raines, Ted Rains, John R Rairden, III, Elliott Raisen, PhD, Dejan Rajcic, Beth Raker, Robert P Raker, MD, Francis A Rakow, John M Rakowski, Charles Raley, PhD, James A Ralph, George Ramatowski, Dario Ramazzotti, C L Rambo, Frederick Rambow, PhD, William Ramer, Harmon H Ramey, PhD, A Ramirez, Rafael G Ramirez, PhD, Simon Ramo, PhD, Albert A Ramos, PhD, Benjamin F Ramsey, Jerry D Ramsey, PhD, Madeline Ramsey, Mark S Ramsey, Alvin O Ramsley, David C Ramsower, Lawrence D Ramspott, PhD, Paul Ramstad, PhD, John Ramus, Shahida Rana, David Rancour, PhD, James Rancourt, Philip G Rand, PhD, Charles A Randall, PhD, Charles C Randall, MD, Joseph L Randall, PhD, P Randall, Robert Randall, Wm J Randall, PhD, Ann Randolph, PhD, Spencer G Randolph, Robert Raney, MD, William P Raney, PhD, Margene G Ranieri, PhD, Tom Rank, PhD, Thomas J Rankin, C J Ransom, PhD, W. R. Ransone, G J Ransonet, Charles G Ranstrom, Irving Rapaport, Stephen Rapchak, Stephen C Raper, Henry Rapoport, PhD, Donald Rapp, Eric Rascoe, Bob Raser, Marco Rasi, PhD, James B Rasmussen, Lowell Rasmussen, PhD, James Rasor, Ned S Rasor, PhD, Howard Rast, PhD, Lee Ratcliff, Mike Ratcliff, Prescott H Rathborne, Carlisle B Rathburn, Dennis Rathman, PhD, Hukum S Rathor, PhD, Andrew A Rathsack, Jr Ratliff, Steven Ratliff, PhD, Oscar D Ratnoff, MD, Egan J Rattin, Alfred Ratz, PhD, Michael Ratz, Richard Rauch, PhD, Donald O Rausch, PhD, Gerald W Rausch, PhD, Steven Rauzi, Francis H Raven, PhD, Nancy C Raven, Michael Rawley, Kyle Rawlings, PhD, James Rawls, Stanley R Rawn Jr, Derek J Rawson, Clifford H Ray, PhD, Donald R Ray, Michael B Ray, PhD, Sylvian Richard Ray, PhD, Thomas A Ray, Clinton M Rayes, Park Rayfield, PhD, Sharon S. Rayman, Larry C Raymond, Richard L Raymond, PhD, Stuart Raynolds, PhD, Gary D Rayson, PhD, Bill E Raywinkle, David Thomas Read, PhD, Robert G Read, Ernest H Reade Jr, Fred Reader, James Ready, MD, James A Reagan, Michael J Realmuto, Tom Reamsnyder, James A Reas, D L Reasons, Wallace Reaves, Jerry Reaves, Nelson Reavey-Cantwell, MD, Paul R Reay, MD, David N Rebol, Theodore L Rebstock, PhD, John W Rebuck, PhD, Paul A Rechard, Andreas B Rechnitzer, PhD, H C Rechtien Jr, Walter L Records, Charles W Rector, PhD, W Rector, J B Red, John G Reddan III, Larry K Reddig, Foster K Redding, PhD, James D Redding, Harold J Reddy, Richard L Reddy, Allan G Redeker, MD, Immo Redeker, John W Redelfs, MD, Jamie Redenbaugh, Noeman Redford, John G Redic, K Redig, Robert H Rediker, PhD, Brian Redlin, Thomas R Redman, Erick L Redmon, Larry Redmon, PhD, Peter Redmon, Jack Redmond, PhD, Jack Redmond, PhD, Jory Redo, PhD, Redwine, PhD, Cynthia A Reece, Allan H Reed, PhD, C Reed, PhD, David A Reed Jr, Donal J Reed, PhD, Emmett Van Reed, J Arthur Reed, MD, Jack Reed, Jan T Reed, Kenneth R Reed, Max E Reed, PhD, Philip Reed, Sherman Kennedy Reed, PhD, Thomas Reed, PhD, Tom Reed, Stuart Reeko, O W Reen, PhD, Steven Reeoer, MD, Norman V Rees, Dale Reese, Joe Reese, Max Reese, Ruchel Reese, William O. Reeside, William Reeside, William Reeside, Gerhard Reethof, PhD, Harold F Reetz, PhD, Donald F Reeves, G G Reeves, PhD, Homer E Reeves, PhD</a:t>
            </a:r>
            <a:endParaRPr b="0" lang="en-US" sz="1200" spc="-1" strike="noStrike">
              <a:solidFill>
                <a:srgbClr val="000000"/>
              </a:solidFill>
              <a:latin typeface="Calibri"/>
            </a:endParaRPr>
          </a:p>
        </p:txBody>
      </p:sp>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28">
                                  <p:stCondLst>
                                    <p:cond delay="0"/>
                                  </p:stCondLst>
                                  <p:childTnLst>
                                    <p:set>
                                      <p:cBhvr>
                                        <p:cTn id="347" dur="1" fill="hold">
                                          <p:stCondLst>
                                            <p:cond delay="0"/>
                                          </p:stCondLst>
                                        </p:cTn>
                                        <p:tgtEl>
                                          <p:spTgt spid="140">
                                            <p:txEl>
                                              <p:pRg st="0" end="0"/>
                                            </p:txEl>
                                          </p:spTgt>
                                        </p:tgtEl>
                                        <p:attrNameLst>
                                          <p:attrName>style.visibility</p:attrName>
                                        </p:attrNameLst>
                                      </p:cBhvr>
                                      <p:to>
                                        <p:strVal val="visible"/>
                                      </p:to>
                                    </p:set>
                                    <p:anim calcmode="lin" valueType="num">
                                      <p:cBhvr additive="repl">
                                        <p:cTn id="348" dur="50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repl">
                                        <p:cTn id="349" dur="5000" fill="hold"/>
                                        <p:tgtEl>
                                          <p:spTgt spid="14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800" spc="-1" strike="noStrike">
                <a:solidFill>
                  <a:srgbClr val="000000"/>
                </a:solidFill>
                <a:latin typeface="Calibri"/>
              </a:rPr>
              <a:t> </a:t>
            </a:r>
            <a:r>
              <a:rPr b="1" lang="en-US" sz="3200" spc="-1" strike="noStrike">
                <a:solidFill>
                  <a:srgbClr val="000000"/>
                </a:solidFill>
                <a:latin typeface="Calibri"/>
              </a:rPr>
              <a:t>Petition Signers – Ree to Roc                            </a:t>
            </a:r>
            <a:r>
              <a:rPr b="1" lang="en-US" sz="1200" spc="-1" strike="noStrike">
                <a:solidFill>
                  <a:srgbClr val="000000"/>
                </a:solidFill>
                <a:latin typeface="Calibri"/>
              </a:rPr>
              <a:t>Richard G Reeves, Roy F Reeves, PhD, Terry A Reeves, MD, WR Reeves, John Reffner, PhD, Frank Regan, Gerhard Regenauer, Steven Regis, Carl J Regone, Thomas R Rehm, PhD, Claude V Reich, PhD, John Reichenbach, Alfred D Reichle, PhD, Franklin G. Reick, Franklin Reick, B J Reid, George Reid, PhD, James Reid, PhD, Kenneth B Reid, PhD, William Reid, PhD, Anthony A Reidlinger, PhD, Leonard Reiffel, PhD, William Reifsnyder, PhD, M Loren Regier, Kenneth F Reighard, Richard Reiley, Hugh Reilly, Richard J Reilly, Timothy Reilly, Jeff Reimche, Robert T Reimers, PhD, Richard D Rein, John B Reindehl, Thomas L Reinecke, PhD, Robert R Reiner, James Reinert, John W Reinert, Jack Reinhard, Richard Reinhardt, Fred W Reinhart, Stanley E Reinhart, PhD, Mark B Reinhold, PhD, Robert Reinke, MD, Rydell Reints, John Reis, Samuel Reiser, David Reiser, PhD, Richard Reising, PhD, Harold B Reisman, PhD, Paul Reiter, PhD, Russel Reiter, Richard H. Reitz, PhD, David Relihan, Joseph F Remar, PhD, Marlin E Remley, PhD, Mack Remlinger, George Remmenga, Norbert T Rempe, Susan Rempe, PhD, James C Remsberg, Don J Remson, Alvin C Rencher, PhD, Kevin D Renfro, Harris B Renfroe, PhD, Daniel F Renke, Steven Y Rennell, Edward G Rennels, PhD, Hans H Rennhard, PhD, Peterson D Rens, Nicholas A Renzetti, PhD, Thomas R Pepitone, PhD, Kermit Reppond, Kenneth L Rergman, F E Resch, R Resch, Robert Resnik, PhD, William B Retallick, PhD, David A Retterer, Melvin Rettig, Mari Rettke, Fredrick K Retzlaff, David E Reubush, Mary E Reuder, PhD, George H Reussner, R H Reuter, PhD, R B Reves, Gordon Revey, Randall Reviere, William E Rew, Brian Rex, Robert Walter Rex, PhD, William R Rex, Djenane Rey, Arthur Reyes, Raul J De Los Reyes, MD, Walter L Reyland, John R Reynolds, Bruce Reynolds, PhD, C H Reynolds, Charles A Reynolds, PhD, David Reynolds, Gary Reynolds, George W. Reynolds, J. H. Raynolds, Jeffrey Reynolds, MD, Joe E Reynolds, John Reynolds, MD, John Reynolds, Lawrence Reynolds, Leslie H Reynolds, Max J Reynolds, Robert Ware Reynolds, PhD, Thomas W Reynolds, Vic Reznack, Hee M Rhee, PhD, James Rhoades, PhD, Richard G Rhoades, PhD, John E. Rhoads, PhD, W Rhodaberger, Carl Rohde, Edward T Rhode, Brian Rhodes, Harvey Rhodes, James D Rhodes, John R Rhodes, Kevin Rhodes, R David Rhodes, Robert A Rhodes, PhD, Winston Rhodes, Mary Rhyne, William Ribben, PhD, Wm Eugene Ribelin, PhD, Armando T Ricci Jr, Gary R Rice, Jack Rice, James K Rice, Michael D Rice, PhD, Pat Rice, Richard Rice, PhD, Sean Rice, Terry Rice, Warren Rice, PhD, David Rich, Dennis Rich, Frederic Richard, PhD, Guerico L Richard, MD, J J Richard, Lee Richard, Brian K Richardet, A Richards, Benjamin Richards, PhD, Bernard L Richards, PhD, Bill Richards, Charles D Richards, PhD, Donald Richards, George W Richards III, James Richards, Joseph D Richards, Russell Richards, T L Richards, Thomas C Richards, PhD, Allyn St Clair Richardson, Charles Richardson, CHB Richardson, David Richardson, Earl Richardson, Everett Richardson, PhD, Gary Richardson, PhD, Gerald Laverne Richardson, Hollis M Richardson, J C Richardson, J Mark Richardson, PhD, Larry J. Richardson, Leonard Frederick Richardson, PhD, Neal Allen Richardson, PhD, Ralph J Richardson, PhD, Robert W Richardson, Stephen G Richardson, PhD, T L Richardson, DDS, Thomas E Richardson, Verlin H Richardson, PhD, Jerry O Richartz, Nancy D Richert, PhD, Frank Richey, PhD, Ed Richman, PhD, Selma Richaman, George Richmond, James M Richmond, PhD, Michael Richmond, Timothy Richmond, Neil Richter, Thomas Richter, Bruce Rickard, Richard W Ricker, PhD, Robert Ricker, PhD, Russell Rickert, PhD, Linda Ricketts, Philip M. Ricketts, PhD, Thomas Ricketts, Andy Rickland, Douglas W Ricks, PhD, Nr Ricks, Richard Ricks, Ralph E Ricksecker, Marilyn Riddel, PhD, Fred R Riddell, PhD, R J Riddell, PhD, David Riddle, PhD, Maureen Rider, Russell Ridgway, William C Ridgway, PhD, Susan Riebe, Robt W Riedel, Martin Max Rieger, PhD, Herman H Rieke, PhD, Paul E. Rieke, PhD, D Riemer, Edward R Ries, PhD, Stanley K Ries, PhD, Noel D Rietman, James L Rigassio, Stephen J Riggi, PhD, David Riggs, Elliott A Riggs, PhD, James W Riggs, PhD, Karl A Riggs, PhD, Kenton Riggs, Lorrin Riggs, PhD, Robert Righter, George P Rigsby, PhD, Ali Rihan, Jim Rike, William M Rike, Jim Riker, PhD, Bernard J Riley, Charles Riley, PhD, Cody Riley, G Riley, Gary T Riley, J Herbert Riley, John T Riley, PhD, Larry Riley, Lyrad Riley, MD, Michael Riley, William Riley, James H Rillings, PhD, J W Rimes, Dan H Rimmer, Jerry F Rimmer, Gregory Rinaca, Charles E Rinehart Jr, PhD, Kent R Rinehart, John A Rinek, Robert Ringering, MD, Lawrnece Ringham, James L Ringo, PhD, Roy Ringo, PhD, Arthur J Riopelle, PhD, Beverly Riordan, David Rios-Aleman, Harold C Ripley, Richard L Ripley, Daivd Rippee, David Ririe, PhD, Paul Risbin, Michelle M Rising, Winthrop Risk, MD, PhD, David Rislove, PhD, James Rispoli, Harold W Ritchey, PhD, Robert L Ritchey, William Ritchey, PhD, Carolyn Ritchie, Charles F. Ritchie, Charles I Ritchie, Gary Alan Ritchie, PhD, Harlan Ritchie, PhD, Logan R Ritchie, Jr, Martin Ritchie, PhD, James S Ritscher, PhD, Jonathan Ritson, MD, James R Rittenhouse, Alfred Ritter, PhD, Arnold P Ritter, Glenn Ritter, Harold E Ritter, Robert B Ritter, Steven J Titter, PhD, Christopher Ritz, Russell E Ritz, Terry Ritzel, Joseph P Riva, R A Rivas, Paul Rivers, PhD, Ronnie L Rivers, PhD, George A Rizk, P Rizzo, Leonardrizzute, AE Roach, Beverly L Roach, John V Roach, Kenneth Roane, James J Roark, Patrick C Roark, Terry P Roark, PhD, Ernest A Robbins, PhD, Fred Robbins, DDS, George W Robbins, James E Robbins, Kelly Robbins, PhD, Norman B. Robbins, Raymond C Robeck, Gregory Robel, PhD, Allan Roberts, Arthur Roberts, PhD, David Roberts, Dewayne Roberts, PhD, Edward H Roberts, Frank Roberts Jr, George A Roberts, Harry Roberts, James Roberts, John Roberts, John Roberts, Johnny R Roberts, Joyce H Roberts, Kenneth Roberts, Larry C. Roberts, MD, Michael A Roberts Jr, Norman Hailstone Roberts, PhD, Paul D Roberts, R A Roberts, Samuel E Roberts, Stephen F Roberts, Alexander F Robertson, PhD, Bernard I Robertson, Daniel E Robertson, Daniel Robertson, David Robertson, PhD, David Robertson, Don B Robertson, Donald K Robertson, Douglas Welby Robertson, Eric P Robertson, F H Robertson, Gary N Robertson, Gary Robertson, George H Robertson, PhD, James A Robertson, PhD, Jerry Lewis Robertson, PhD, John Robertson, Jr, John S Robertson, PhD, Leslie E Robertson, Mark Robertson, Stanley L Robertson, PhD, Thomas M Robertson, Wilbert J Robertson, PhD, William F Robertson, Gordon W Robertstad, PhD, Roger Robinett, MD, Larry Robinette, Albert Robinson, PhD, Arnold Robinson, Arthur B Robinson, PhD, Charles Robinson, Charles S Robinson, PhD, Clark S Robinson, Darlene Robinson, Donald W Robinson, E Douglas Robinson, G Alan Robison, PhD, Gary E Robinson, Geor H Robinson, J Robinson, James Robinson, Larry J. Robinson, Lee A Robinson, M Robinson, PhD, Nancy W Robinson, R E Robinson, PhD, Raymond Francis Robinson, Richard D Robinson, Robert Robinson, PhD, Stephen L Robinson, Stewart Robinson, PhD, T F Robinson, PhD, Terence L Robinson, PhD, Zachary W Robinson, Ken Robirds, Wm Robisch, Daniel B Robison, Frank Robles, John M Roblin, PhD, Steven Roblyer, Michael J Robrecht, James L Robrock, MD, Gaspar Roca, Vincent P Rocco, R James Rocha, Alex F Roche, MD, PhD, TC Roche, Jr, J La Rochelle, PhD, M V Rock, MD, Peter A. Rock, PhD, Robert M Roecker, PhD, James W Rockhold</a:t>
            </a:r>
            <a:endParaRPr b="0" lang="en-US" sz="1200" spc="-1" strike="noStrike">
              <a:solidFill>
                <a:srgbClr val="000000"/>
              </a:solidFill>
              <a:latin typeface="Calibri"/>
            </a:endParaRPr>
          </a:p>
        </p:txBody>
      </p:sp>
    </p:spTree>
  </p:cSld>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8">
                                  <p:stCondLst>
                                    <p:cond delay="0"/>
                                  </p:stCondLst>
                                  <p:childTnLst>
                                    <p:set>
                                      <p:cBhvr>
                                        <p:cTn id="355" dur="1" fill="hold">
                                          <p:stCondLst>
                                            <p:cond delay="0"/>
                                          </p:stCondLst>
                                        </p:cTn>
                                        <p:tgtEl>
                                          <p:spTgt spid="141">
                                            <p:txEl>
                                              <p:pRg st="0" end="0"/>
                                            </p:txEl>
                                          </p:spTgt>
                                        </p:tgtEl>
                                        <p:attrNameLst>
                                          <p:attrName>style.visibility</p:attrName>
                                        </p:attrNameLst>
                                      </p:cBhvr>
                                      <p:to>
                                        <p:strVal val="visible"/>
                                      </p:to>
                                    </p:set>
                                    <p:anim calcmode="lin" valueType="num">
                                      <p:cBhvr additive="repl">
                                        <p:cTn id="356" dur="5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357" dur="5000" fill="hold"/>
                                        <p:tgtEl>
                                          <p:spTgt spid="141">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3" name="Content Placeholder 3" descr="Fig_03_Short_Sun_Intensity.tif"/>
          <p:cNvPicPr/>
          <p:nvPr/>
        </p:nvPicPr>
        <p:blipFill>
          <a:blip r:embed="rId2"/>
          <a:stretch/>
        </p:blipFill>
        <p:spPr>
          <a:xfrm>
            <a:off x="609480" y="380880"/>
            <a:ext cx="3071880" cy="2633760"/>
          </a:xfrm>
          <a:prstGeom prst="rect">
            <a:avLst/>
          </a:prstGeom>
          <a:ln w="0">
            <a:noFill/>
          </a:ln>
        </p:spPr>
      </p:pic>
      <p:sp>
        <p:nvSpPr>
          <p:cNvPr id="64" name="TextBox 4"/>
          <p:cNvSpPr/>
          <p:nvPr/>
        </p:nvSpPr>
        <p:spPr>
          <a:xfrm>
            <a:off x="990720" y="3352680"/>
            <a:ext cx="7238880" cy="312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H</a:t>
            </a:r>
            <a:r>
              <a:rPr b="0" lang="en-US" sz="2400" spc="-1" strike="noStrike" baseline="-25000">
                <a:solidFill>
                  <a:srgbClr val="000000"/>
                </a:solidFill>
                <a:latin typeface="Calibri"/>
              </a:rPr>
              <a:t>2</a:t>
            </a:r>
            <a:r>
              <a:rPr b="0" lang="en-US" sz="2400" spc="-1" strike="noStrike">
                <a:solidFill>
                  <a:srgbClr val="000000"/>
                </a:solidFill>
                <a:latin typeface="Calibri"/>
              </a:rPr>
              <a:t>O and CO</a:t>
            </a:r>
            <a:r>
              <a:rPr b="0" lang="en-US" sz="2400" spc="-1" strike="noStrike" baseline="-25000">
                <a:solidFill>
                  <a:srgbClr val="000000"/>
                </a:solidFill>
                <a:latin typeface="Calibri"/>
              </a:rPr>
              <a:t>2</a:t>
            </a:r>
            <a:r>
              <a:rPr b="0" lang="en-US" sz="2400" spc="-1" strike="noStrike">
                <a:solidFill>
                  <a:srgbClr val="000000"/>
                </a:solidFill>
                <a:latin typeface="Calibri"/>
              </a:rPr>
              <a:t> molecules </a:t>
            </a:r>
            <a:r>
              <a:rPr b="1" lang="en-US" sz="2400" spc="-1" strike="noStrike">
                <a:solidFill>
                  <a:srgbClr val="000000"/>
                </a:solidFill>
                <a:latin typeface="Calibri"/>
              </a:rPr>
              <a:t>do not </a:t>
            </a:r>
            <a:r>
              <a:rPr b="0" lang="en-US" sz="2400" spc="-1" strike="noStrike">
                <a:solidFill>
                  <a:srgbClr val="000000"/>
                </a:solidFill>
                <a:latin typeface="Calibri"/>
              </a:rPr>
              <a:t>kill sunbeams. They also do not steal boxes of money. However, as Al Gore neglects to mention to the children, they </a:t>
            </a:r>
            <a:r>
              <a:rPr b="1" lang="en-US" sz="2400" spc="-1" strike="noStrike">
                <a:solidFill>
                  <a:srgbClr val="000000"/>
                </a:solidFill>
                <a:latin typeface="Calibri"/>
              </a:rPr>
              <a:t>do</a:t>
            </a:r>
            <a:r>
              <a:rPr b="0" lang="en-US" sz="2400" spc="-1" strike="noStrike">
                <a:solidFill>
                  <a:srgbClr val="000000"/>
                </a:solidFill>
                <a:latin typeface="Calibri"/>
              </a:rPr>
              <a:t> provide the carbon and much of the oxygen and hydrogen for every protein, fat, and carbohydrate molecule in Susie and the ingredients in her ice cream cone. </a:t>
            </a:r>
            <a:endParaRPr b="0" lang="en-US" sz="2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Without atmospheric H</a:t>
            </a:r>
            <a:r>
              <a:rPr b="0" lang="en-US" sz="2400" spc="-1" strike="noStrike" baseline="-25000">
                <a:solidFill>
                  <a:srgbClr val="000000"/>
                </a:solidFill>
                <a:latin typeface="Calibri"/>
              </a:rPr>
              <a:t>2</a:t>
            </a:r>
            <a:r>
              <a:rPr b="0" lang="en-US" sz="2400" spc="-1" strike="noStrike">
                <a:solidFill>
                  <a:srgbClr val="000000"/>
                </a:solidFill>
                <a:latin typeface="Calibri"/>
              </a:rPr>
              <a:t>O and CO</a:t>
            </a:r>
            <a:r>
              <a:rPr b="0" lang="en-US" sz="2400" spc="-1" strike="noStrike" baseline="-25000">
                <a:solidFill>
                  <a:srgbClr val="000000"/>
                </a:solidFill>
                <a:latin typeface="Calibri"/>
              </a:rPr>
              <a:t>2</a:t>
            </a:r>
            <a:r>
              <a:rPr b="0" lang="en-US" sz="2400" spc="-1" strike="noStrike">
                <a:solidFill>
                  <a:srgbClr val="000000"/>
                </a:solidFill>
                <a:latin typeface="Calibri"/>
              </a:rPr>
              <a:t> molecules, shown here as evil demons, life on earth would not be possible.</a:t>
            </a:r>
            <a:endParaRPr b="0" lang="en-US" sz="2400" spc="-1" strike="noStrike">
              <a:solidFill>
                <a:srgbClr val="000000"/>
              </a:solidFill>
              <a:latin typeface="Calibri"/>
            </a:endParaRPr>
          </a:p>
        </p:txBody>
      </p:sp>
      <p:pic>
        <p:nvPicPr>
          <p:cNvPr id="65" name="Picture 5" descr="Fig_24a_Plant_Growth_A.tif"/>
          <p:cNvPicPr/>
          <p:nvPr/>
        </p:nvPicPr>
        <p:blipFill>
          <a:blip r:embed="rId3"/>
          <a:stretch/>
        </p:blipFill>
        <p:spPr>
          <a:xfrm>
            <a:off x="4726080" y="380880"/>
            <a:ext cx="3836880" cy="26290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Roc to Sam                          </a:t>
            </a:r>
            <a:r>
              <a:rPr b="1" lang="en-US" sz="1200" spc="-1" strike="noStrike">
                <a:solidFill>
                  <a:srgbClr val="000000"/>
                </a:solidFill>
                <a:latin typeface="Calibri"/>
              </a:rPr>
              <a:t>Ralph A Rockow, Morris Rockstein, PhD, David Rockstraw, PhD, Theodore Rockwell, PhD, Abraham P. Rockwood, James W Rodde, David A Roddy, Daniel L Rode, Jonathan P Rode, PhD, Clint Roden, Rocky Roden, Charles Rodenberger, PhD, Billy R Rodgers, PhD, Michael Rodgers, PhD, Rich Rodgers, Robert W Rodier, James Rodine, PhD, Dale Rodolff, Brian D Rodriguez, Harold V Rodriguez, PhD, Thomas E Rodwick, Michael Rodzianko, Brian D. Roe, John Roe, Joseph Roe, Roebuck Assoc, Inc, John Roede, Robt C Roeder, PhD, Arthur P Roeh, Greg Roel, Ted Roes, III, Raylan Roetman, A C Rogers, Arthur Rogers, Bruce A Rogers, Col Joseph Rogers, D R Rogers, Diame Rogers, Donald R Rogers, MD, Frank A Rogers, MD, Fred Rogers, Gordon H Rogers, Gordon Rogers, Gwenda Rogers, John Rogers, Lloyd Sloan Rogers, MD, Marion A Rogers, PhD, Michael E Rogers, Paul Rogers, Randy Rogers, Robert W Rogers, PhD, Tom Rogers, PhD, William L Rogers, Dale Rognlie, PhD, Charles R Rohde, PhD, Oliver Roholt, PhD, Robert C Rohr, PhD, John H Rohrbaugh, PhD, Neal Rohrbaugh, Ralph E Rohrbaugh, Don A Rohrenbach, Ignatius Rohrig, Dwayne Rohweder, PhD, Robert G Rohwer, Robet Roland, MD, Richard Rolfes III, Michael H Roller, PhD, Albert Rollins, Thomas Rollins, Louis D Rollmann, PhD, Gary Rollstin, Marston Val Roloff, PhD, Louise R Romanow, Louis Rombach, PhD, John A Romberger, PhD, Charles T Rombough, PhD, L Romikwie, William C Romney, Thomas Ronay, PhD, Oscar A Rondon, PhD, Jeff H Ronk, Wendell Hofma Rooks, David M Rooney, PhD, Robt L Rooney, Rebecca L Roop, Malcom Rooper, Peter E Roos, David Root, Norman L Root, Thomas Root, Pamela Rootenberg, MD, Paul James Roper, PhD, Simpson Roper, Erik Rorem, Andrew H Rorick, Ivor Rorquist, Robert Rorschach, Albert J Rosa, PhD, Christopher La Rosa, Eugene J Rosa, PhD, Eugenie Roscoe, John G Roscoe, John Roscoe, John Roscoe, PhD, John S Roscoe, PhD, Allan B Rose, Benny H Rose, PhD, Charles Rose, David Rose, PhD, Gary Rose, MD, Kenneth L Rose, PhD, Richard Rowe, MD, Judd A Roseberry, Frederick A Rosell, Alan Rosen, PhD, Milton J Rosen, PhD, Sidney Rosen, PhD, Ward Rosen, Ernest S Rosenberg, Richard A Rosenberg, PhD, Steven L Rosenberg, PhD, William E Rosenberg, Alan Rosenblatt, Richard Rosencrans, Lawrence Rosendale, Robert Rosene, Charles R Rosenfeld, MD, Leonard Rosenfeld, Harold Rosenhan, Bruce D Rosenquist, PhD, Melvin S Rosenthal, MD, Harold L Rosential, PhD, Jack W Rosential, M Rosenzweig, Richard Roser, Fred Rosi, PhD, Joseph Rosi, Randy Rosiere, PhD, George Roskee, DDS, John K Rosky, Johathan Rosman, MD, Allan Ross, Arthur L Ross, PhD, Arthur Ross, B Robert Ross, Donald Ross, Donald Ross, PhD, Franklin J Ross, James Ross, Jeffrey Ross, John P Ross, PhD, John Ross, Malcolm Ross, PhD, Suzi Ross, William F Ross, Wm E Ross, B A Rosser, Robert G Rosser, MD, Mario Rossi, A David Rossin, PhD, Charlie Rossman, Zsolt Rosta, Ora Rostad, John S Rostand, Paul Rosten, J Paul Roston, R A Roston, R P Roth, R. H. Roth, PhD, Robert H Roth, PhD, Timothy Roth, PhD, Thomas Rothacker, Ronald C Rothe, William Rotherporth, R. E. Rothhaar, PhD, Elliot Rothkopf, PhD, George Rothrock, PhD, John W Rothrock, James C Rothwell, Wm S Rothwell, PhD, John Rotondo, PhD, Gene Rotramel, Nicholas Rott, PhD, John Rottenborn, Bruce Rotter, Gaylord E Rough, PhD, Michael J O' Rourke, PhD, George E Rouse, PhD, Lawrence J Rouse, PhD, Billy Rouser, Chris Rouser, Edwin S Rousseau, Charles F Row, MD, Verald K Row, W Jeffrey Row, Dighton F Rowan, PhD, Rich Rowder, PhD, Carl Rowe, Dorothy Rowe, James Lincoln Rowe, PhD, James M Rowe, PhD, Martin Rowe, Melinda Rowe, Robert S Rowe, PhD, Trent Rowe, William R Rowe, Bruce Rowell, PhD, Rex Rowell, John Rowland, PhD, Lenton Rowland, PhD, Neil W Rowland, PhD, Steve Rowland, Tterry L Rowland, Brian Rowles, Stephen Rowley, George Roxton, George M Roy, Joseph A Roy, Thomas M Royal, A R Royce, PhD, G Roysdon, Randy Royse, John Rozenbergs, PhD, Mary E Rozmus, Csaba Rozsa, PhD, Balaz F Rozsnyai, PhD, Timothy Rozycki, Ibrahim Rubeiz, PhD, Leonard Rubenstein, Ben H Rubican, Arthur Rubin, Mae K Rubin, PhD, Mark A Rubin, Daniel Rubinstein, PhD, David D Rubis, PhD, Bryan Rubright, Jim R Rucker, Kirk Ruddell, Thomas A Ruddin, MD, Kenneth E Ruddy, Douglas Rudenko, Charles F Rudershausen, PhD, Carl S Rudisill, PhD, Gerard Rudisin, Boris Rudkevich, Thomas Rudy, PhD, Thomas Rudy, Edward E Rue, Rolland Rue, PhD, Raymond L Ruehle, W Ruehle, Stephen Ruehlman, Robert Reuss, Robert H. Ruf, PhD, Sue Ruff, G Alan Ruger, Ed Ruhl, John Ruhl, T H Ruland, Raymond J Rulis, Melvin D Rumbaugh, PhD, J H Rumely, PhD, Donald E Ruminer, Rosmarie Von Rumker, PhD, Larry J Rummerfield, George Rumney, PhD, George Rundall, Robert E Rundle, John S Runge, Paul Runge, Howell I Runion, PhD, Kim J Runk, Kelli Runnels, PhD, Olaf Runquist, PhD, Edward Runyan, Charles V Runyon, Michael Runyon, A L Ruoff, PhD, Jarrold Rupe, Gerald Rupert, PhD, Robert Rupert, John A Rupley, PhD, Darrel Rupp, William Rupp, Theodore A Ruppert, William J Ruppert, Louis J Rusconi, PhD, Michael T Rusesky, B Rush, PhD, Perry Rush, Charles Rushing, George Rushton, Irving Rusoff, PhD, Louis Rusoff, PhD, James R Russel, A Yvonne Russell, MD, PhD, Allen S Russell, Andrew Russell, Charles L Russell, Cynthia B Russell, David E Russell, David Russell, Edmund L Russell, Ernest E Russell, PhD, James Russell, PhD, Jean Russell, PhD, Jim Russell, Joe L Russell, Kenneth Russell, Lewis B Russell, Mark Russell, PhD, Robert B Russell Jr, Robert R Russell, PhD, Ross F Russell, PhD, Karen Russo, James H Rust, PhD, Robert F Rust, Carri Rustad, M R Rusty, MD, Lorraine Rutgard, Robert Rutherford, Susan E Rutherford, MD, Mark Ruttle, MD, Patrick Rutty, Mary Ruwart, PhD, Don Ruzicka, Bill C Ryan, PhD, C B Ryan, Daberath Ryan, Frederick M Ryan, PhD, James M Ryan, PhD, James Ryan, James Ryan, James W Ryan, PhD, Jean Ryan, PhD, Jeffrey W Ryan, Julian Gilbert Ryan, Kevin M Ryan, Michael J Ryan, Michele M Ryan, Timothy M Ryan, Wayne Ryan, PhD, Wendall Ryan, William F Ryan, Charles J Ryant, Jr, PhD, George Ryberg, John Rybicki, Daniel Rycroft, David F Ryder, Paul A Rydin, Lester Rydl, PhD, Paul H Rydlund, Kathleen Rygiel, Robert R Ryland, James Rynerson, MD, John W Ryon, PhD, Alicja M Kirkien Rzeszotarsk, PhD, Waclaw J Rzeszotarski, PhD, Patrick Saatzer, PhD, Joaquin A Saavedra, Edward S Sabisky, PhD, Edward Sabo, Julius Jay Sabo, Kenneth Sabo, PhD, Frank Sacco, Sohindar Sachdev, PhD, David Sachs, PhD, Frederick Sachs, PhD, John P Sachs, PhD, Thomas Dudley Sachs, PhD, Edgar A Sack, PhD, Marcus Sack, Debrah K Sacrey, William Sacrison, Donald Sadler, George D Sadler, PhD, J Evan Sadler, PhD, James C Sadler, James C Sadler, Leon Y Sadler III, PhD, W Alter Carl Saeman, Alfred Saffer, PhD, Frederick Sagabiel, Jerry F Sagendorf, Brian Sager, PhD, Harry C Sager, Saghafi, PhD, Faycel L B Said, PhD, M M Said, PhD, George S Sajner, Alexander A Sakhnovsky, B A Sakosky, Mamdouh M Salama, PhD, Eugene Salamin, Solomon J Salat, Erdjan Salih, PhD, Belinda Salinas, David J Salisbury, Phillip Salitros, Hyman L Sall, Steven Salli, Seppo O Salminen, PhD, Stuart C Salmon, PhD, Wilmar L Salo, PhD, James A Salsgiver, Joe Saltamachia, Mikal E Saltveit, PhD, John Salvador, Tim A Salvati, Robert H Salvesen, PhD, Jay Salwen, MD, Paul Salzman, PhD, Dominick A Sama, PhD, Richard Sama, George Albert Samara, PhD, R E Sameth, W J Samford, D S Sammis, L C Sammons Jr, MD, Francis L Sammt, Larry Sample, Ann G Samples</a:t>
            </a:r>
            <a:endParaRPr b="0" lang="en-US" sz="1200" spc="-1" strike="noStrike">
              <a:solidFill>
                <a:srgbClr val="000000"/>
              </a:solidFill>
              <a:latin typeface="Calibri"/>
            </a:endParaRPr>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8">
                                  <p:stCondLst>
                                    <p:cond delay="0"/>
                                  </p:stCondLst>
                                  <p:childTnLst>
                                    <p:set>
                                      <p:cBhvr>
                                        <p:cTn id="363" dur="1" fill="hold">
                                          <p:stCondLst>
                                            <p:cond delay="0"/>
                                          </p:stCondLst>
                                        </p:cTn>
                                        <p:tgtEl>
                                          <p:spTgt spid="142">
                                            <p:txEl>
                                              <p:pRg st="0" end="0"/>
                                            </p:txEl>
                                          </p:spTgt>
                                        </p:tgtEl>
                                        <p:attrNameLst>
                                          <p:attrName>style.visibility</p:attrName>
                                        </p:attrNameLst>
                                      </p:cBhvr>
                                      <p:to>
                                        <p:strVal val="visible"/>
                                      </p:to>
                                    </p:set>
                                    <p:anim calcmode="lin" valueType="num">
                                      <p:cBhvr additive="repl">
                                        <p:cTn id="364" dur="50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365" dur="5000" fill="hold"/>
                                        <p:tgtEl>
                                          <p:spTgt spid="142">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Sam to Sch                              </a:t>
            </a:r>
            <a:r>
              <a:rPr b="1" lang="en-US" sz="1200" spc="-1" strike="noStrike">
                <a:solidFill>
                  <a:srgbClr val="000000"/>
                </a:solidFill>
                <a:latin typeface="Calibri"/>
              </a:rPr>
              <a:t>B Samples, Ronald E Samples, Charles Sampson, Douglas Sampson, PhD, Douglas Sampson, PhD, Edward Samsel, PhD, Daniel Samson, Frederick E Samson, PhD, Robert E. Samuelson, PhD, Mohammad Samiullah, PhD, James A Sanager, William Sanborn, Alexander Sanchez, Jose Sanchez, PhD, Juan Sanchez, Katherine Sanchez, John F Sandell, PhD, Wm Marion Sandefur, PhD, Eric Sanden, PhD, William A Sander, C L Sanders, Charles Sanders, Donald W Sanders, Fred Sanders, Ian A Sanders, Jerrell L Sanders, John Paul Sanders, PhD, Richard M Sanders, PhD, Thomas Sanders, James Sanderson, Burton B Sandiford, Andrew Sandorfi, PhD, Michael Sandquist, MD, B Sandri, Robt Lee Sandridge, PhD, Donald J Sandstrom, Wayne M Sandstrom, PhD, S. C. Sandusky, Gary L Sanford, PhD, H Key Sanford, James Sanford, Robert M. Sanford, Robt A Sanford, PhD, Sam Sangregory, L A Sankpill, John T Sanner, John Sans, PhD, Frank S Santamour, PhD, G S Santi, Alcide Santilli, Miguel A Santos, Eric Santrago, George Sapora, Mykola Saporoschenko, PhD, Steve Sapp, Peter K Sappanos, Edward J Sarcione, PhD, A Sam Sarem, PhD, Herbert P Sarett, PhD, Charles Sargent, K A Sargent, PhD, Leroy Sargent, PhD, Dalip K Sarin, Peter T Sarjeant, PhD, Somnath Sarkar, PhD, Lynn Redmon Sarles, PhD, Mark K. Sarlo, Balu Sarma, PhD, Ignacio Sarmina, MD, Mr Cornel Sarosdy, Ronald G Sarrat, D D Saars, Ted L Sartain, Randall Sartorius, Raymond Edmund Sarwinski, PhD, Daryl Sas, PhD, Richard Sasiela, PhD, Joachim Sasse, PhD, George K Sassmann, Frank Satterlee, Hugh Satterlee, PhD, Jerry Satterwhite, Rudolph Sattler, Larry V Satzler, Alva E. Saucier, Ralph J Saucier, Sharol Sauder, Bryan B Sauer, PhD, Edward A Saunders, PhD, Sally Saunders, Walt Saunders, Jason Saunderson, PhD, Mark Saur, Jim Sause, Robert Saute, PhD, David P Sauter, Leroy J Sauter, Jay Sautter, PhD, Lester Rosaire Sauvage, MD, John D. Savage, Paul Savaryn, MD, Greg Savasky, David R Savello, PhD, Emilio A Savinelli, PhD, Kathleen Kido-Savino, Basil U Savoy, Samuel Sawan, PhD, Thomas Sawarynski, Don D. Sawyer, Frederick G Sawyer, PhD, Frederick Sawyer, PhD, John Sawyer, MD, William E Sawyer, Narendra K Saxena, PhD, Narendra K Saxena, PhD, S C Saxena, PhD, Vinod K Saxena, PhD, Vinod K Saxena, PhD, George P Saxon, PhD, Razi Saydjari, MD, John Sayen, MD, Cody Scace, Gutherie Scaggs, James Scala, PhD, Robt A Scala, PhD, Ray Scales, Frank Scalia, PhD, Barrett L Scallet, PhD, Charles J Scanio, PhD, Thomas S Scanlon Jr, Brian H Scarborough, Marc A Scarchilli, Paul Scardaville, Michael P Scardera, Lido Scardigli, James R Scarlett, Patrick Scarpitti, MD, Thomas E Scartaccini, Lawrence A Schaal, Robert Schaal, Gerald L Schad, Henry F Schaefe, PhD, Francis T Schaefer, Frederic C Schaefer, PhD, Mark Schaefer, Robert Schaefer, Howard J Schaeffer, PhD, W A Schaeffer III, Len Schaer, E Brett Schaffer, Robert A Schaff, PhD, Simon Schaffel, PhD, Brett Schaffer, Layton Schlafly, MD, Charles L Shackelford, Thomas S Schalk, Robert R Schalles, PhD, James Schammerhorn, Paul R Schank, Hans Schantz, PhD, Robert Schappe, PhD, Micheal R Schardt, Darrell R Scharf, Richard Scharf, Richard M Scharlach, John F Schatz, PhD, Harvey Schau, PhD, Stephen Schaub, Carl Schauble, PhD, Judy Schauer, George S Schauf, MD, Kenneth Schechtman, PhD, Larry Schecter, PhD, Robert Scheel, Gary Scheeser, Howard Scheetz, Daniel Scheffel, Randolph Scheffel, Paul O Scheibe, PhD, J T Scheick, PhD, Frank R Scheid Jr, Francis M Scheidt, PhD, Boris Schein, PhD, Christian Scheindel, Perry A Scheinok, PhD, Frank Schell, MD, Fred M Schell, PhD, Karl A Schellenberg, PhD, Jay Ruffner Schenck, PhD, Al J Schenkel, Gary Schenker, Timothy Wm Schenz, PhD, Roger Scherer, PhD, Erwin Scherich, Allan Scherr, PhD, Joseph Scherzer, MD, L McD Schetky, PhD, Don Ralph Scheuch, PhD, Richard A Scheuing, PhD, Robert J Scheuplein, PhD, Keith J Schiager, PhD, Milton J Schick, William Schiefler, William Schierholz, Richard Schiewetz, Mark Schiller, MD, Alexander Schilling, PhD, F P Schilling, PhD, Keith Schimmel, PhD, Walter Schimmerling, PhD, Guenter Martin Schindler, PhD, Marvin M Schindler, Ray Schindler, Chester Schink, PhD, Mark A Schinlli, Hassel Charles Schjelderup, PhD, Brent D Schkade, Robert Schlant, MD, Jeffrey Schleher, Robert E Schlicher, Schlichting, PhD, Erika Schlueter, PhD, Robert A Schluter, PhD, L E Schmaltz, Robert Schmeck, Edward J Schmeltz, John H. Schmertmann, PhD, Donald Schmid, Rudi Schmid, PhD, David J Schmidle, Frederick Schmidlin, PhD, Alfred C Schmidt, Brian Schmidt, Charles Schmidt, Clifford L Schmidt, PhD, Douglas W Schmidt, Earl A Schmidt, George Schmidt, John Schmidt, DDS, Joseph D Schmidt, Jr, Justin O Schmidt, PhD, Paul Schmidt, Paul W. Schmidt, Ralph Schmidt, Schmidt, PhD, Stanley F. Schmidt, PhD, Terry Schmidt, Timothy Schmidt, Werner H Schmidt, Richard A Schmidtke, PhD, Lucien A Schmit, Jr, Edward A Schmitt, Philip L Schmitz, Marcel R Schmorak, PhD, Alvin Schmucker, Thomas Schmucker, Wm A Schmucker, Charles D Schmulbach, PhD, David Schmutzler, Robert C Schnabel, Paul Schnapp, Richard Schneeberger, Robert Schneeflock, Carl Schneider, Charles F Schneider, Jr, David Schneider, Douglas G Schneider, Edward G Schneider, PhD, Edward P Schneider, Howard A Schneider, PhD, James Schneider, John Schneider, PhD, John Schneider, Louis I Schneider Jr, Michael Schneider, PhD, Morris H Schneider, PhD, Terril Schneider, MD, William P Schneider, Conrad Schneiker, Lynn Schnell, J Schneller III, PhD, Erwin Schnetzer, Edward Shcnitker, Lewes B Schnitz, Arthur W Schnizer, PhD, David A Schoderbek, Carl P Schoen, PhD, Wm R Schoen, Donald Schoenberg, John L Schoenthaler, Randall Schoenwetter, George L Schofield Jr, PhD, James G Schofield, Richard A Schofield, MD, Christ O Scholomiti, Helem Schols, Kurt A Scholz, Darryl A Schonacher, Melvin Schonhorst, PhD, Peter H Schoonmaker, Matthew Schor, Rex Schorzman, Oscar Schott, Michael Schowen, Paul Schrade, Barry P Schrader, Robert Schrader, John L Schrag, PhD, Robert Joseph Schramel, Derek Schramm, Martin Wm Schramm, PhD, Nelson Schramm, William Schrand, Keith Schreck, Mary G Schreckenberg, PhD, Robert A Schreiber, PhD, William Schreiber, PhD, Ethan J Schreier, PhD, Albert Wm Schreiner, MD, Felix Schreiner, PhD, Roderic Schreiner, R J Schrior, J Richard Schrock, John L Schroder, Mary B Schroder, Alan D Schroeder, Alan Schroeder, Donald Schroeder, Hartmut Schroeder, PhD, James W Schroeder, Jeff D. Schroeder, Julia Schroeder, PhD, Robert G Schroeder, Robert S Schroeder, PhD, Charles Schroeter, William Schrom, Steven E Schroth, Paul K Schubert, Robert Schubring, Walter Schuchard, Russell Schucker, Donald Schuder, John K Schueller, PhD, Herbert A Schueltz, Richard J Schuerger, PhD, Eric Schuetz, Richard J Schuetz, Thomas J. Schuetz, Joseph Schufle, PhD, Robt E Schuhmann, MD, Eric Schuler, George Schuler, Theodore A Schuler, Dunell V Schull, Mark Schull, Erland M Schulson, PhD, D H Schulte, PhD, Steve Schulte, Steve Schulte, PE, James J Schultheis, Albert B Schultz, PhD, Charles M. Schultz, Franklin A Schultz, PhD, Frederick Schultz, PhD, Gerald Schultz, Lloyd E Schultz, Peter Schultz, Robert Schultz, PhD, Roland Schultz, PhD, Steven Schultz, T R Schultz, Thomas A Schultz, Michael Schulz, Richard B Schulz, Paul Schumacher, Robert Schumacher, Robert Schumacher, Marc G Schurger, R. David Schurian, Steven R Schurman, Garmond G Schurr, Mark Schusler, George W Schustek, David Schuster, Donald Schuster, Michael Schuster, Donald Frank Schutz, PhD, John Schutz</a:t>
            </a:r>
            <a:endParaRPr b="0" lang="en-US" sz="1200" spc="-1" strike="noStrike">
              <a:solidFill>
                <a:srgbClr val="000000"/>
              </a:solidFill>
              <a:latin typeface="Calibri"/>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8">
                                  <p:stCondLst>
                                    <p:cond delay="0"/>
                                  </p:stCondLst>
                                  <p:childTnLst>
                                    <p:set>
                                      <p:cBhvr>
                                        <p:cTn id="371" dur="1" fill="hold">
                                          <p:stCondLst>
                                            <p:cond delay="0"/>
                                          </p:stCondLst>
                                        </p:cTn>
                                        <p:tgtEl>
                                          <p:spTgt spid="143">
                                            <p:txEl>
                                              <p:pRg st="0" end="0"/>
                                            </p:txEl>
                                          </p:spTgt>
                                        </p:tgtEl>
                                        <p:attrNameLst>
                                          <p:attrName>style.visibility</p:attrName>
                                        </p:attrNameLst>
                                      </p:cBhvr>
                                      <p:to>
                                        <p:strVal val="visible"/>
                                      </p:to>
                                    </p:set>
                                    <p:anim calcmode="lin" valueType="num">
                                      <p:cBhvr additive="repl">
                                        <p:cTn id="372" dur="50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repl">
                                        <p:cTn id="373" dur="5000" fill="hold"/>
                                        <p:tgtEl>
                                          <p:spTgt spid="143">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Sch to Shu                            </a:t>
            </a:r>
            <a:r>
              <a:rPr b="1" lang="en-US" sz="1200" spc="-1" strike="noStrike">
                <a:solidFill>
                  <a:srgbClr val="000000"/>
                </a:solidFill>
                <a:latin typeface="Calibri"/>
              </a:rPr>
              <a:t>Peter T Schuyler, Charles R Schwab, W E Schwabe, Robert E Schwager, Thomas Schwager, John Schwaninger, Ronald L Schwanke, Karl A Schwape, Robert Schwartz, PhD, Henry G Schwartzberg, PhD, E J Schwarz, PhD, Jeffrey A. Schwarz, Jeffry Schwarz, Florian Schwarzkopf, PhD, Florian Schwarzkopf, PhD, C P Schweikhardt, W L Schweisberger, Mike Schweitzer, MD, Otto R Schweitzer, PhD, Albert E Schweizer, PhD, Frederick A Schweizer, Thomas R Schwerdt, George W Schwert, PhD, Howard Schwiebert, Kevin Schwinkendorf, PhD, Carlo Schwinn, Daniel Sciarra, MD, John J Sciarra, PhD, Donald Scifres, PhD, Scofield, PhD, James F Scoggin, PhD, Richard A Scollay, Richard L Scollin, Theodore T Scolman, PhD, Stylianos P Scordilis, PhD, Clive R Scorey, PhD, C. J. Scott, Charles N Scott, David F Scott, PhD, Deborah J Scott, PhD, Elizabeth Scott, MD, Harrison S Scott, J O Scott, James A Scott, John F Scott, John W Scott, PhD, Philip B Scott, R W Scott, PhD, Richard Scott, Robert Scott, Ronald E Scott, PhD, Samuel Scott, Stephen G Scott, Terrence R Scott, Edward L Scram, Michael Screpetis, MD, Michael E Scribner, PhD, Paul Scribner, Steven C Scribner, David H Scriven, Terry M Scroggin, D G Scruggs, Scott Scrupski, Walter T Scudder, PhD, Brian E Scully, MD, Carol Seaborn, PhD, James B Seaborn, PhD, Spencer L Seager, PhD, John D Seagrave, PhD, J. Boyd Seal, Thom J Seal, Ryan B Seals, Brian Sealy, Chris L Seaman, PhD, WH Seaman, William J Seaman, PhD, Gary L Seanwright, PhD, George Sears, Joel K Sears, MD, Norman E Sears, Robert D Sears, William Sears, PhD, Paul A Sease, Elwood Seasholtz, Kent Seaton, Christopher T Seaver, George A Seaver, PhD, Randall J Seaver, J Glenn Seay, Richard D Seba, PhD, Bruce Sebree, PhD, Jack B Secor, PhD, Robert Secor, MD, Gordon Secrest, Joseph Sedberry, PhD, Sederholm, Chuck See, Richard A See, Fred Seeber, PhD, David W Seegmiller, PhD, Ralph W Seelke, PhD, Paul R Seelye, Steven Seer, Hal Sefton, Barry Segal, Boris M Segal, MD, Warren G Segelken, PhD, Charles F Seger III, Paul A Seib, PhD, J A Seibt, Walter E Seideman, PhD, Lewis S Seiden, PhD, Frank R. Seidl, John Seidle, PhD, Otto F Seidelman, Mark Seifert, PhD, Avi Seifert, William Edgar Seifert, PhD, Harvey N Seiger, PhD, Robert Seigneur, Fritz A Seiler, PhD, Carl Seilsbad, Edwin H. Seim, PhD, Pat Seintz, John H Seipel, PhD, Jerold A Seitchik, PhD, Frederick Seitz, Robert Seitz, PhD, Ronald Sekellick, Robert Seklemian, Robert Seklemian, James A Selasky, John Selby, Paul B Selby, PhD, Charles E Selecman, Seleem, PhD, Donald M Self, Anthony Selk, Art Selland, Joe Selle, James M Sellner, Tom Selstad, Arthur Seltmann, James E Seltzer, PhD, N T Selvey, Harner Selvidge, PhD, Joseph Semak, Maurie Semel, PhD, Joseph L Seminara, S Semlinger, Mark Semon, PhD, Richard G Semonin, DW Sencenbaugh, D W Sencenbaugh, Richard Sener, Lawrence Seng, Martin Seng, Robert Seng, Taze L Senn, PhD, William Sens, Karl A Sense, Phillip Sensibaugh, Lee H Sentman, PhD, James C Sentz, PhD, Alan J Senzel, PhD, Nicholas S Sereno, PhD, Francis G Serio, DDS, James B Serrin, PhD, Lisa Servais, Alexander Sesonske, PhD, Timothy A Sestak, Clevis T Setlik, William G Setser, Earl Wm Seugling, PhD, Byron R Sever, PhD, Nelson Severinghaus, John Severns, Arlen R Severson, MD, Ordean Steverud, John Sewall, Edward Sewell, PhD, Harry Sewell, PhD, James Sewell, Raymond F Sewell, PhD, Richard W Sewell, Frederick H Sexsmith, PhD, Alan W Sexton, PhD, Andrew Sexton, Frank David Seydel, PhD, James Sfiridis, PhD, Fritiof S Fjostrand, MD, PhD, Charles Shabica, PhD, Carl J Shack, PhD, Craig Shackelford, Willaim Shackleford, PhD, Rowdy L Shaddox, Steven R Shadow, James Shaeffer, PhD, H E Shafer, Richard U Shafer, Wayne Shaffer, William Shafer, Brian Shaffer, James W Shaffer, William L Shaffer, G P Shaffner, James Shaffner, David Shah, Mateen Shah, Shirish A Shah, PhD, Donald G Shaheen, Arsen A Shahnazarian, Carl Shallenberger, Laurence K Shallenberger, Irvin C. Shambaugh, John H Shamburger, Raymond Shamie, Michael L Shand, PhD, Shane, Robt E Shank, PhD, James L Shanks Jr, Al M. Shannon, D Shannon, John A Shannon, Linda R Shannon, Linda Shannon, Terry Shannon, Robert Shantz, PhD, Anatole Shapiro, PhD, Edward K Shapiro, PhD, Edward Shapiro, MD, Ralph Shapiro, PhD, Lloyd S Shapley, PhD, Stephen Sharar, Alan Shapiro, Kenneth N Sharitz, Sharkey, PhD, D Sharp, David C Sharp, Dexter B Sharp, PhD, Ernest K Sharp, Franklin Sharp, James Sharp, Kenneth Sharp, Margaretty Sharp, Sharp, Grant William Sharpe, PhD, Jane Sharpe, Roland Sharpe, Sharpe, Francis Sharpton, PhD, M L Sharrah, PhD, Clay M Sharts, Wayne C Shattuck, Brian Shaughnessy, Clifford J Shaver, Brian S Shaw, Elwood R Shaw, Ena A Shaw, Gaylord E Shaw, PhD, Glenn E Shaw, PhD, Gordon D Shaw, Gordon Shaw, Ian Shaw, Lawrence H Shaw, Richard Shaw, PhD, Robert Shaw, Robert Shaw, MD, Sandy Shaw, Stephen Shaw, Stevan M Shaw, PhD, Steven Shaw, Warren D Shaw, Roy W. Shawcroft, PhD, Daniel R Shawe, PhD, S Shayan, Dennis Shea, James J Shea, John J Shea, MD, John Shea, MD, Mike Sheahan, Thomas Sheahen, PhD, W A Sheasin, MD, William Sheasley, PhD, William W Sheehan, Jennifer P Sheets, Ralph W Sheets, PhD, Joshua Shefer, PhD, Robt E Sheffield, TE Sheffield, Terry R. Sheffield, Paul Sheil, Daniel H Sheingold, Bob Sheldon, Joseph Sheldon, Ray W Sheldon, Harvey D Shell, PhD, Monte Shelley, PhD, Thomas Shelley, George C Shelton, PhD, Grant Shelton, James Shelton, PhD, Preston Shelton, William Sheman, Hao Ming Shen, PhD, Shen, Thomas B Shen, PhD, Henry A Shenkin, MD, David Shepard, David P Shepherd, PhD, Kent L Shepherd, Raymond L Shepherd, PhD, Mike Shepler, John Sheport, Moses M Sheppard, PhD, Johathan D. Sher, MD, Lawrence Sher, Dan Shereda, C. Richard Sherer, Douglas A Sheridan, Jon Sheridan, Peter Sheridan, William Sheriff, Anthony Sherman, PhD, Douglas Sherman, Gordon Sherman, PhD, Malcolm Sherman, PhD, Matthew M Sherman, Russell Sherman, Walter L Sherman, Richaed Shern, B Sherrill, Joseph Sherrill, PhD, Frederick A Sherrin, George Sherritt, P Sherry, Dalton Sherwood, Garry Sherwood, Thomas R Sheuenbarger, Wilbert L Shevel, PhD, Dennis Shevlin, PhD, Paul Shewmon, PhD, Chung-Shin Shi, PhD, Shoji Shibata, PhD, Philip E Shick, PhD, Bruce Shields, Kevin J Shields, Robert M Shields Jr, PhD, John B Shiffert, Scott Shifflett, Frederick F Shih, PhD, Avner Shilman, PhD, R J Schimenz, Don Shimmon, Sung Y Shin, PhD, Vernon J Shiner, PhD, Frank Shinneman, Lee Shiozawa, Calvin Shipbaugh, PhD, Scott T. Shipley, PhD, Charles Wm Shipman, PhD, Dale Shipman, Ross L Shipman, John Shippee, Wm G Shira, Al Shirah, Gene M Shirley, PhD, Joseph A Shirer, Glenn A Shirey, Frank Connard Shirley, PhD, George A Shirn, PhD, Larry Shivak, Kandiah Shivanandan, PhD, Charles Shivers, PhD, Andrew Shkolnik, Neil Shmunes, MD, Gilbert R Shockley, PhD, Richard Shockley, William Shockley, Steve Shoecraft, Steven E Shoelson, MD, PhD, Robert S Shoemaker, Bruce Shofner, Merle D Shogren, Robert L Shone, PhD, Kenneth Shonk, Derek W Shoobridge, Kenneth L Shook, William B Shook, John J Shore III, Dale M Short, H Drexel Short, M A Short, PhD, Ted Short, PhD, Terry Shortridge, MD, James Edward Shottafer, PhD, Adolph C Shotts, John O Shotwell, Martin Shotzberger, Michael Shourd, Chrles C Shrader, Loy William Shreve, PhD, Mark A Shreve, Leo Schrider, Avanti C Shroff, PhD, Sanjeev Shroff, PhD, Craig E Shuler, Patrick J Shuler, PhD, Steve Shulte, James C Shults, Charles H Shultz, PhD, Paul Shultz, Thomas F Shultz, MD, Edward F Shumaker, John B Shumaker, PhD, Cornwell Shuman, PhD, Curtis A Shuman, PhD</a:t>
            </a:r>
            <a:endParaRPr b="0" lang="en-US" sz="1200" spc="-1" strike="noStrike">
              <a:solidFill>
                <a:srgbClr val="000000"/>
              </a:solidFill>
              <a:latin typeface="Calibri"/>
            </a:endParaRPr>
          </a:p>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28">
                                  <p:stCondLst>
                                    <p:cond delay="0"/>
                                  </p:stCondLst>
                                  <p:childTnLst>
                                    <p:set>
                                      <p:cBhvr>
                                        <p:cTn id="379" dur="1" fill="hold">
                                          <p:stCondLst>
                                            <p:cond delay="0"/>
                                          </p:stCondLst>
                                        </p:cTn>
                                        <p:tgtEl>
                                          <p:spTgt spid="144">
                                            <p:txEl>
                                              <p:pRg st="0" end="0"/>
                                            </p:txEl>
                                          </p:spTgt>
                                        </p:tgtEl>
                                        <p:attrNameLst>
                                          <p:attrName>style.visibility</p:attrName>
                                        </p:attrNameLst>
                                      </p:cBhvr>
                                      <p:to>
                                        <p:strVal val="visible"/>
                                      </p:to>
                                    </p:set>
                                    <p:anim calcmode="lin" valueType="num">
                                      <p:cBhvr additive="repl">
                                        <p:cTn id="380" dur="50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repl">
                                        <p:cTn id="381" dur="5000" fill="hold"/>
                                        <p:tgtEl>
                                          <p:spTgt spid="144">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Shu to Sny                               </a:t>
            </a:r>
            <a:r>
              <a:rPr b="1" lang="en-US" sz="1200" spc="-1" strike="noStrike">
                <a:solidFill>
                  <a:srgbClr val="000000"/>
                </a:solidFill>
                <a:latin typeface="Calibri"/>
              </a:rPr>
              <a:t>D M Shumate, Dinah O Shumway, Douglas Shumway, Jill Shumway, Richard P Shumway, PhD, J Shung, PhD, Dick Shunulvy, Gary Shupp, George W Shuster, Charles Shutt, Larry D Shuttlesworth, John V Shutze, PhD, Eunice C Shuytema, PhD, Valery Shver, Edwin Shykind, PhD, Barbara Shykoff, PhD, Ronald E Siatkowski, PhD, Mark Sibille, David Sibley, S. Sicalides, David V Sice, Martin Sichel, PhD, Doug Sickelka, James D Van Sickle, Glenn Sickles, Kurt Sickles, Kent Sickmeyer, Mohammed H Siddiqui, Michael Sidor, MD, Dave Seibel, Larry D Siebert, Paul Siechert, Merlin R Siefken, Steve Seifried, PhD, Arthur Siegel, John P Siegel, MD, Kent Siegel, Richard W Siegel, PhD, Wm C Siegel, Harold Siegele, John Siegenthaler, William Siegfried, Steven M Siegwein, Jerome Siekierski, Richard Ernest Siemens, Eugene G Siemer, PhD, Ernst Siemoneit, Bruce Siepak, Arnold J Sierk, PhD, Jamet Siert, Chester P Siess, PhD, Wayne Sievers, PhD, Werner E Sievers, Curtis J Sievert, Larrysifton, James Ernest Siggins, PhD, James Sigmon, Carl Signorelli, Charles Signorino, PhD, Samia M Siha, PhD, Henno Siismets, John W Sij, PhD, Michael P Siklosi, PhD, Wade Sikora, Michael Silbergh, Miles Silberman, PhD, Leonard S Silbert, PhD, Lt Col Henry W Silk, Claude W Sill, John Sills, PhD, Richard Sills, Lucila Silva, Herbert Silverman, PhD, J. Silverman, PhD, Marc S Silverman, Walter Lawrence Silvernail, PhD, Joseph D Silverstein, PhD, Sandro Silvestri, Joseph Silvia, L Simerl, PhD, R John Simic, MD, Bruce Siminoff, John Simion, Karl L Simkins, PhD, Charles Simmons, E Lee Simmons, MD, Harold A Simmons, PhD, Joseph H Simmons, Keith Simmons, Ralph O Simmons, PhD, Val Simmons, PhD, Wm W Simmons, PhD, Carl Simms, John C Simms, PhD, Albert Simon, PhD, David L Simon, Dorothy M Simon, PhD, Edward Simon, PhD, Gerald Simon, MD, RJ Simon, William E Simon, PhD, Walter Simons, Clifton Simonson, Vernon Simonson, Jack Simonton, A Craig Simpson, Chirstopher Simpson, Craig Simpson, John Simpson, Lynn Simpson, Michael B. Simpson, Randal S. Simpson, Ray E. Simpson, Robert S Simpson, Virgil Simpson, David C Sims, Donald E Sims, Donald Sims, Gordon B Sims, Leland Sims, Samuel J Sims, PhD, Ray Simson, Suman Priyadarshi Harain Sin, PhD, E L Sinclair, John Sinclair, Robert Sinclair, Martin Singen, Michael Singer, MD, Robet B. Singer, S Fred Singer, PhD, G Gail Singh, Iqbal Singh, MD, Lal P S Singh, PhD, Raj N Singh, Erwin Single, Vernon L Singleton, PhD, William M Singleton, Kenneth Sinks, Joseph R. Sinner, Lou Di Sioudi, Richard H Sioui, PhD, David M Sipe, PhD, Herbert H Sipe, PhD, J L Sipes, Al Sirianni, Larry Sirkin, PhD, Lee Sirois, PhD, Co-Gen II, Robin Snyder Publisher, Ernesto Sirvas, Charles C Sisler, Amor Sison, Norman Sissenwine, Edward H Sisson, Wm A Sistrunk, PhD, Mareu A Sitarsici, PhD, Sitarski, PhD, Doug Sitko, Michael Sitko, PhD, Daniel Sittler, Richard L Sitton, Andrew Sivak, PhD, Michael Sivertsen, Henry Siwek, Frank Sizemore, Ron Sizemure, Phillip S Sizer, Duane Sjoberg, Gary W Sjolander, PhD, William Skagerberg, Jerry Skaggs, Mertonm Skaggs, Harold W Skalka, MD, Riley Skeen, Hugh B Skees, John R Skelley, Jerome P Skelly, PhD, Larry Skelton, Damir S Skerl, Joseph L Skibba, PhD, Edward L Skidmore, PhD, James G. Skifstad, PhD, Dale D Skinner, Daniel Skinner, MD, David Skinner, Leslie D Skinner, Nicholas R Skinner, Terry K Skinner, Timothy A Skinner, Gary M Skirtich, Skluzacek, PhD, Earl Skogley, PhD, Alfred Skolnick, PhD, Alex Skora, Stuart Skowbo, Thomas Skrinar, MD, Lawrence Skromme, Ronald Skufca, MD, Dave Skusa, Bolesh J Skutnik, PhD, Harold T Slaby, PhD, Philip E Slade, PhD, Norman E Sladek, PhD, Thomas Sladek, Peter J Slater, PhD, Robert E Slater, W Roy Slaunwhite, PhD, Charles H Slauter Jr, Nelson Sigman Slavik, PhD, Jon Slaybaugh, Frederick W Slee, PhD, Paul Slepian, PhD, Kenneth Sletten, Jane A Slezak, PhD, Faye Slift, Michele E Slinkard, T Wentworth Slitor, Wm M Sliva, PhD, Bennett Sloan, W Keith Sloan, Nathan H Sloane, PhD, Ken Slocumb, A Slomowitz, DDS, Anthony R Slotwinski, Earl R Sluder, PhD, Harold S Slusher, PhD, Thomas E Slusher, Joseph Slusser, Peter J Van Slyke, Arthur L Slyter, PhD, Denny L Small, Gilbert Small, PhD, Jeffrey S Small, Samuel W Small, G A Smalley, Glen Wm Smalley, PhD, R L Smalley, Ralph Smalley, Robert G Smalley, PhD, Steven W Smalt, James B Smart, PhD, Vera B. Smart, William Donald Smart, Ronald Smedberg, PhD, Ronald Smelt, PhD, Darryl E Smika, PhD, Douglas E Smiley, Patrick L Smiley, Robert Smiley, PhD, Allan M Smillie, PhD, Francis Smit, Al Smith, Alan Smith, PhD, Albert Smith, Alexander G Smith, PhD, Alice Smith, Arthur Smith, Augustin Smith, Augustine N. Smith, Avery Smith, B B Smith, Jr, B D Smith, Bob Smith, Bruce G Smith, MD, Bruce Smith, MD, Bruce W Smith P E, Bryan Smith, C. Lavett Smith, PhD, Cedric M. Smith, MD, Charlee Smith, Clay T Smith, PhD, Craig Smith, Dale Smith, PhD, Dana L Smith, Daniel Smith, Danny Smith, Davey L Smith, David A Smith, David A Smith, PhD, David L Smith Jr, Deborah L Smith, Deboyd L Smith, Delmont K Smith, PhD, Donadl Smith, Donald A Smith, Donald R Smith, PhD, Donna Smith, MD, Dwayne Smith, Earl W Smith, PhD, Elwin E Smith, Emerson Smith, Eric S Smith, Floyd A Smith, Francis Marion Smith, Frederick W Smith, PhD, Garmond S Smith, PhD, Garry A Smith, PhD, Gary Smith, MD, George Smith, Gilbert H Smith, PhD, Glenn S Smith, Gregory Smith, H J Smith, PhD, Harvey M Smith, Hayden Smith, Herbert L Smith, PhD, Hugh A Smith, Hyrum C Smith, PhD, Ivan H Smith, Ivan K Smith, J Michael Smith, Jacks Smith, James L Smith, PhD, James R Smith, James R Smith, James Smith, Jay H Smith, PhD, Jay K Smith, Jeff Smith, Jesse R Smith, Joel Smith, MD, John E Smith, PhD, John R. Smith, PhD, John Smith, John W Smith, PhD, Joseph C Smith, Judson S Smith, Ken Smith, Kevin L Smith, Kevin L. Smith, Kevin Smith, Larry Smith, Larry T Smith, Lewis O Smith III, Loren Smith, Louis C Smith, PhD, Louis G Smith, Louis J Smith, Marian J Smith, PhD, Mark A Smith, PhD, Marshall Smith, Marvin F Smith Jr, Maurice Smith, Maynard E Smith, PhD, Michael Smith, Milton L Smith, PhD, Nathan L Smith, PhD, Neil M Smith, Norman C Smith, O Lewis Smith Jr, Paul D Smith, MD, PhD, Paul V Smith, PhD, Percy Lieghton Smith, R L Smith, Ralph E Smith, PhD, Richard Lloyd Smith, PhD, Richard Smith, MD, Rick A Smith, Rick Smith, Rick Smith Jr, Robert L Smith, PhD, Robert Smith, Robert Smith, Roger C Smith, Ron Smith, Ronald Smith, Roy Smith, S Frank Smith, S. Clarke Smith, MD, S. T. Smith, Sam C Smith, PhD, Scotty A Smith, Sherman Smith, Shofner Smith, Spencer Smith, Stan Smith, T J Lee Smith, Thane Smith, PhD, Theodore A Smith, Thomas B Smith, Thomas E Smith, PhD, Thomas Lee Smith, Thomas Smith, PhD, Tim Smith, Tracy Smith, Walter J Smith, Wayne Smith, MD, Wesley D Smith, PhD, William H Smith Jr, William Smith, William Smith, Clara Smith Craver, Eileen Smithers, Smithrud, PhD, G Ray Smithson, Jr, Peter Smits, Joseph Smock, James Smook, Tom Smoot, PhD, Bronislaw B Smura, PhD, Robt C Smythe, Cloyd A Snavely, PhD, Snavely, Helen Snedberg, Wallace A Sneddon, MD, Billy Sneed, Gary Sneed, Gary Snell, Gilbert Snell, Jon S Snell, Walter L Snell, Leonard W Snellman, PhD, C R Snider, J. Tony Snider, Ned L Snider, MD, R. Larry Snider, Richard Snider, James J Snodgrass, John Snodgrass, John Snook, Charles Snow, Frank R Snow, John Snow, Richard L Snow, PhD, Thomas M Snow, Wayne Snow, William R Snow, PhD, Donald P Snowden, PhD, Blaine Snyder, David Snyder, PhD, Donald Snyder, Duane Snyder, Dudley C Snyder, PhD, Franklin F Snyder</a:t>
            </a:r>
            <a:endParaRPr b="0" lang="en-US" sz="1200" spc="-1" strike="noStrike">
              <a:solidFill>
                <a:srgbClr val="000000"/>
              </a:solidFill>
              <a:latin typeface="Calibri"/>
            </a:endParaRPr>
          </a:p>
        </p:txBody>
      </p:sp>
    </p:spTree>
  </p:cSld>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8">
                                  <p:stCondLst>
                                    <p:cond delay="0"/>
                                  </p:stCondLst>
                                  <p:childTnLst>
                                    <p:set>
                                      <p:cBhvr>
                                        <p:cTn id="387" dur="1" fill="hold">
                                          <p:stCondLst>
                                            <p:cond delay="0"/>
                                          </p:stCondLst>
                                        </p:cTn>
                                        <p:tgtEl>
                                          <p:spTgt spid="145">
                                            <p:txEl>
                                              <p:pRg st="0" end="0"/>
                                            </p:txEl>
                                          </p:spTgt>
                                        </p:tgtEl>
                                        <p:attrNameLst>
                                          <p:attrName>style.visibility</p:attrName>
                                        </p:attrNameLst>
                                      </p:cBhvr>
                                      <p:to>
                                        <p:strVal val="visible"/>
                                      </p:to>
                                    </p:set>
                                    <p:anim calcmode="lin" valueType="num">
                                      <p:cBhvr additive="repl">
                                        <p:cTn id="388" dur="5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389" dur="5000" fill="hold"/>
                                        <p:tgtEl>
                                          <p:spTgt spid="145">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Sny to Ste                             </a:t>
            </a:r>
            <a:r>
              <a:rPr b="1" lang="en-US" sz="1200" spc="-1" strike="noStrike">
                <a:solidFill>
                  <a:srgbClr val="000000"/>
                </a:solidFill>
                <a:latin typeface="Calibri"/>
              </a:rPr>
              <a:t>Fred F C Snyder, Gary Snyder, George Snyder, PhD, Glenn Snyder, Jack A Snyder, PhD, Joe Snyder, Nicholas Snyder, Robert Snyder, Snyder, Warren S Snyder, William H Snyer, Edna Sobel, MD, Robert Soberman, PhD, Milton A Sobie, Jaroslaw Sobieski, PhD, Bruce Sobol, MD, Lowell E Socolofsy, Laurence R Soderberg, Lisa A Soderberg, Richard C Soderholm, Donld W Soderlund, Dena Soderstrom, Scott Soderstrom, Dave A Soerens, PhD, Herman Soifer, Elizabeth C Sokol, R J Sokol, MD, Marc Sokolay, MD, Robert Soley, MD, Jon Sollid, PhD, Lon Solomita, Alan Solomon, MD, H J Soloway, MD, Dennis B Solt, PhD, Charles Somers, Don V. Somers, Andrew P Somlyo, MD, Walter C Somski, Xiaouhi M Song, PhD, Philip Sonleitner, P Sonnet, PhD, Brad Sons, Wanda C Soo Young, Mark Soper, Quentin F Soper, PhD, Thomas M Sopko, Brent A Sorensen, Carl D. Sorensen, PhD, David P Sorensen, PhD, John Sorensen, James A Sorenson, PhD, Wesley K Sorenson, N K Sorkoram, Magorie M. Soroka, Danny C Sorrells, Charles Sorrentino, Joseph Sorrentino, C Sorvaag, C. M. Sorvaag, John A Soscia, MD, Michael Sosebee, Norman Sossong, PhD, Gerard T. Sossorg, Joseph Sottile, PhD, Armand M Souby, Leo E Soucek, Wallace W Souder, PhD, Chris Soule, Frank E South, PhD, Everett Southam, PhD, William T Southards, Parks Souther, Richard C Southerland, Lloyd J Southern, PhD, William Southern, PhD, Larry Southwick, Gary W Sova, Edmund Sowa, John R Sowa, PhD, Edward E Sowers, PhD, Harold Sowman, Darrel H Spackman, PhD, R Spackman, Monique Spaepen, Antonio Spagna, Susie Spain, Jon A Spaller, Walter Spangenberg, William Spangenberg, Tim Spangler, Nicholas M Spanos, D Paul Sparks Jr, Sparks, PhD, Tom Sparks, William L Sparks, Dale Sparling, PhD, David M Spatz, PhD, Dean Spatz, Richard F Speaker, Paul William Spear, MD, Howard C K Spears, Leah Spears, William Spears, Gerald E. Speck, Norton L Speck, Robert L Speckman, Abraham Spector, PhD, Michael P Spector, PhD, Richard C Spectors, Jack M Speece, Robert R Speers, PhD, Steven Tremble Spees, PhD, John L Speier, PhD, Richard Speight, Philip Speir, Aaron B Speirs, Jim Spellman, Anna Spelman, Edward L Spence, PhD, Kemet Spence, PhD, William H Spence, PhD, Brian Spencer, C R Spencer, Charles Spencer, Daniel Spencer, Gordon R Spencer, Michael S Spencer, PhD, Thomas Spencer, William Spencer, MD, James P. Serber, Richard J Sperley, PhD, John Spezia, William J Spezzano, Charles L Spiegel, Firth Spiegel, MD, Frederick Spielgelberg, Earl Spieles, Lawrence Spielvogel, Felix A Spies, Andrew Spiessbach, PhD, Charles W Spieth, Leroy Spilde, PhD, D Erik Spiller, Leo H Spinar, PhD, Robert Joseph Spinard, PhD, Bill Spindler, Robert F Spink, Joel S Spira, James Spires, Marion E Spitler, A J Spitzer, Jan J Spitzer, PhD, John G Spitzley, Paul Spivey, WB Spivey, Gary A Splitter, PhD, D R Spodyak, Marie T Spoerlein, PhD, Norman P Spofford, Ralph J Spohn, PhD, Robert B Spokane, PhD, Arthur Spoo, Harry Spooner, Rock Spraggins, Douglas S Sprague, Lucian M Sprague, PhD, Richard Sprague, John Obert Spreiter, PhD, Alfred C Spreng, PhD, Robert Spriggs, Harry Spring, Robert C Springborn, PhD, Allan Springer, PhD, David T Springer, PhD, Robert H Springer, PhD, Timothy A Springer, PhD, Pete Springsteen, MD, Colette Sprinkel, Robert L Sprinkel Jr, James Kent Sprinkle, J C Sprtsbergen, PhD, G J Sprokel, PhD, Julien C Sprott, PhD, Mark W Sprouls, D Sprowl, PhD, Eve S Sprunt, PhD, Hugh Sprunt, Michael Spurlock, PhD, Richard K Spurlock, James P Spurrier, Edward J Spyhalski, Donald P Squier, PhD, Alexander Squire, Charles F Squire, PhD, Gordon Squires, Robert Squires, PhD, James P Srebro, Charles St Jean, DVM, Robert M St Louis, Robert M St John, PhD, William Stable, Thomas M. Stabler, Teri Stabley, Stephen Stack, William Jacob Stadelman, PhD, Edward Stadelmann, PhD, Leon Stadtherr, PhD, Rebecca A Staffeld, Alice Stafford, Dave Stafford, John Wm Stafford, Harold K Stager, Paul A Stagg, Charles J Stahl III, MD, Frank B Stahl, Laddie L Stahl, Michael Stahl, MD, Ralph Stahl, Mark Stahmann, PhD, Kim W Stahnke, Raiford Stainback, William Stair, PhD, Emerson A. Stairs, Joseph Staley, Gilbert Stallknecht, PhD, Dennis D Stalmach, Mark A Stalzer, PhD, Michael R Stamatedes, William S Stambaugh, PhD, Charles H Stammer, PhD, Daniel Stamps, Dave Stamy, Gregory E Stanbro, Jr, Dan Stanciu, Raymond Standahar, Norman W Standish, PhD, S M Standish, R E Standridge, Dick Stanfield, Lethenual Stanfield, Harvey J Stangel, PhD, J E Stanhopf, Charles Stanich, Frank X Stanish, MD, Bernard Stankevich, Drago Stankovic, Edward A Stanley, PhD, Gerald R Stanley, Kevin Stanley, Robert C. Stanley, Rodney B Stanley, PhD, Steven Stanley, William M Stanley, William Stanley, Robin Stansell, John M Stansfield, E J Stanton, Peter J Stanul, MD, Glenn Stanwick, Gary M Stanwood, R. J. Stapf, Jerry Staples, Mark A Staples, PhD, Harvey J Stapleton, PhD, Phillip Stapleton, Stephen E Stapp, David J Starbuck, Don S Starcher, John Starck, Fred Starheim, PhD, James C Stark, PhD, John Stark, Kelly L Stark, John Starkenberg, PhD, Donn Starkey, Paul E Starkey, DDS, Walter Starkey, PhD, Roger A. Starner, Chauncey Starr, PhD, Kelly Starr, Robt I Starr, PhD, William Starrett, Gene Start, Mike Starzer, Jennifer Staszel, Raymond Stata, PhD, Richard R Statton, Herman Statz, PhD, Harrison L Staub, Jack Stauder, PhD, Peter Staudhammer, PhD, Jack Stauffer, Richard D Stauffer, Thomas R Stauffer, PhD, Harold F Staunton, PhD, John Staunton, Ronald Staut, PhD, Frederick L Stead, Jan Steber, Arnold E Steele, Kathleen P Steele, PhD, Robert Steele, Sanford L Steelman, PhD, David A Steen, Kevin J Steen, Richard Steenberg, D E Steeper, Donald N Steer, Albert J Stefan, Karl H Stefan, Vincent Steffen, Neil A Stegent, Ralph Steger, Anton J Stegner, Stephen N Stehlik, Keith Stehman, William H Steigelmann, Bland Stein, Bob Stein, Larry Stein, Fred Steinberg, MD, Howard Steinberg, PhD, Michael A Steinberg, Morris Steinbert, PhD, Kenneth B Steinbruegge, Charles Steincamp, G Steiner, PhD, Gerry Steiner, PhD, Wm H Steiner, John E Steinhaus, MD, PhD, John Steinhaus, PhD, Mark Steinle, Harold Stienmeier, Ray L Steinmetz, Theo Steinmeyer, Wm Stekiel, PhD, Frank R Steldt, PhD, Peter Stelos, PhD, Leigh Stelzer, PhD, Paul Stelzner, Justin Stemland, S M Stemper, William K Stenzel, David G Stephan, PhD, J Stephanoff, Larry C Stephans, Dale Stephens, David Stephens, PhD, Frank Stephens, PhD, James O. Stephens, Jesse J Stephens, PhD, Larry Stephens, PhD, Lou Stephens, P. Stephens, Ralph Stephens, Richard Stephens, Robert D Stephens, Stuart Stephens, PhD, William Stephens, David A Stepp, Michael Steppe, Stephen M Sterbenz, PhD, James W Sterenberg, Paul V Sterk, G Sterling, James D Sterling, Philip J Sterling, John A Stern, Robt L Stern, PhD, Charles A Sternbach, PhD, Joseph Sternberg, PhD, Sidney Sternberg, Rune L Stjernholm, PhD, Mike Sterritt, Alvin Rae Stetson, Milan Steube, Thomas Steven, MD, B Stevens, Billy Stevens, Donald Stevens, Frank Stevens, Harry Stevens, Jr, Henry Stevens, Howard O Stevens, James I Stevens, James Stevens, Jeff Stevens, Lewis A Stevens, M F Stevens, PhD, Ralph B Stevens, Robert Stevens, Roger T Stevens, PhD, Scott Stevens, Wm D Stevens, PhD, Arthur E Stevenson, CStevenson, Frank J Stevenson, PhD, Leo M Stevenson, MD, Mary Stevenson, Robert L Stevenson, PhD, Robert Stevenson, PhD, William C Stevenson, Michael Stevermer, Charles Steward, PhD, Jim Steward, Kerry K. Steward, PhD, Lester H Steward, MD, William Stewart, PhD, Carleton C Stewart, Darryl Stewart, Daryl Stewart, E L Stewart, Fred Stewart, G David Stewart, Gary F Stewart, PhD, Glenn A Stewart, PhD, Gordon E Stewart</a:t>
            </a:r>
            <a:endParaRPr b="0" lang="en-US" sz="1200" spc="-1" strike="noStrike">
              <a:solidFill>
                <a:srgbClr val="000000"/>
              </a:solidFill>
              <a:latin typeface="Calibri"/>
            </a:endParaRPr>
          </a:p>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28">
                                  <p:stCondLst>
                                    <p:cond delay="0"/>
                                  </p:stCondLst>
                                  <p:childTnLst>
                                    <p:set>
                                      <p:cBhvr>
                                        <p:cTn id="395" dur="1" fill="hold">
                                          <p:stCondLst>
                                            <p:cond delay="0"/>
                                          </p:stCondLst>
                                        </p:cTn>
                                        <p:tgtEl>
                                          <p:spTgt spid="146">
                                            <p:txEl>
                                              <p:pRg st="0" end="0"/>
                                            </p:txEl>
                                          </p:spTgt>
                                        </p:tgtEl>
                                        <p:attrNameLst>
                                          <p:attrName>style.visibility</p:attrName>
                                        </p:attrNameLst>
                                      </p:cBhvr>
                                      <p:to>
                                        <p:strVal val="visible"/>
                                      </p:to>
                                    </p:set>
                                    <p:anim calcmode="lin" valueType="num">
                                      <p:cBhvr additive="repl">
                                        <p:cTn id="396" dur="50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repl">
                                        <p:cTn id="397" dur="5000" fill="hold"/>
                                        <p:tgtEl>
                                          <p:spTgt spid="146">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Tal to Tom                            </a:t>
            </a:r>
            <a:r>
              <a:rPr b="1" lang="en-US" sz="1200" spc="-1" strike="noStrike">
                <a:solidFill>
                  <a:srgbClr val="000000"/>
                </a:solidFill>
                <a:latin typeface="Calibri"/>
              </a:rPr>
              <a:t>Larry Talley, PhD, Russell Talley, Richard F Tallini, Robt O Tallman, Jim Tallon, Katherine Talluto, PhD, Edward Talmage, MD, John Talpas, Don Talsma, PhD, Alan W Tamarelli, PhD, Daniel J Tambasco, PhD, Louis A Tamburino, PhD, Ajit C Tamhane, PhD, Lukas Tamm, PhD, Nixon De Tamowsky, David Tan, MD, Kim H Tan, PhD, John Tanaka, PhD, Fulvio J Tang, Darrell G Tangman, Peter E Tannenwald, PhD, John P Tanner, P E, Orey Tanner, Robert Tanner, Wm F Tanner, PhD, J Alden Tansey, Daniel Tao, PhD, Rita Tao, Waino A Tapale, Frederick D Tappert, PhD, John M Tarbutton, Armen Charles Tarjan, PhD, Nixon De Tarnowsky, John Tarpley, Charles M Tarr, Jeffrey Tarrand, MD, M J Tarrillion, William J Tarver, MD, Jerry Tastad, Donald W Tate, Gordon E Tate, Suren A Tatulian, PhD, John P Tatum, Milton A Taves, PhD, Richard Taw, MD, Ben E. Taylor, Ben E Taylor, Ben Taylor, Byron Taylor, C L Taylor, David Taylor, Donald E Taylor, Doug Taylor, Douglas H Taylor, PhD, Douglas P. Taylor, Edward Taylor, Eugene W Taylor, Gene Warren Taylor, PhD, George H. Taylor, Gordon E Taylor, Harold L Taylor, PhD, Harold M Taylor, PhD, James A Taylor, DDS, James S Taylor, PhD, James Taylor, PhD, James Taylor, MD, John E Taylor, PhD, John J Taylor, Lester Taylor, DDS, Michael K Taylor, Paul J Taylor, PhD, Richard Taylor, PhD, Steve D Taylor, Steve Taylor, Steve Taylor, William Taylor, MD, Richard Tebbs, Robt Techo, PhD, Stephen Tedore, Hubert O Teer, Stephen W Tehon, PhD, Edward Teitel, MD, Philip Teitelbaum, PhD, Dentz Tek, MD, John W Telford, PhD, Edward Teller, PhD, RH Temple, PhD, Robert W Temple, Robert Templeton, Robert E Teneick, PhD, David A Teneyck, Lee C Teng, PhD, Donald L Tennant, Jeffrey Tennant, PhD, David M Tennent, PhD, Martha Tennent, Eugene M Tenney, Harold Tenney, Wilton R Tenney, PhD, Aubrey Tennille, PhD, Richard Tennille, Lowell G Tensmeyer, PhD, Michael Teodori, MD, Gary Tepas, Thomas G Tepas, Thomas Tepas, Joseph Teplica, Joseph Teplick, MD, Emanuel Tepper, Joyce Tepper, Kenneth J Terbeek, PhD, Aram Terchunian, Don Tergerson, H S Terrace, PhD, Victor Terrana, PhD, Ronald L Terrel, PhD, Daniel V Terrell III, Peter Terrell, Glenn A Terry, PhD, RD Terry, PhD, Richard L Terry, Tim Terry, George Terwilliger, PhD, Steven Terwilliger, Earl Tessem, Lou Testa, Lou Testa, Dixon Teter, PhD, W G Teubner, Marvin Teutsch, Bliss W. Tew, Richard Tew, PhD, Ram Tewari, PhD, Sant S Tewari, PhD, Michael M Thacker, Raymond Thacker, PhD, Michael Thaker, Warren A Thaler, PhD, Tim L Thamm, William N Thams, Carol Tharp, MD, Johsua M Tharp Jr, Reginald Thatcher, Walter E Thatcher, PhD, Daivd Thayer, John Thebo, Robt N Theilacker, John L Thein, Eugene Theios, Brenda Theis, Don Theis, Jerold H Theis, MD, Sean Theisen, MD, Albert Theriault, Wayne Therrell, Richard C Theuer, PhD, C Brent Theurer, PhD, William Thickstun, PhD, Lawrence Thieben, Gregory Thiel, Thomas Thiel, Lawrence Euegene Thielen, Vernon J Thielmann, PhD, Otto G Thilenius, PhD, John D Thirkill, Kris V Thiruvathukal, PhD, James Thissell, Steve Thomas, Edward F Thode, PhD, Kendall U Tholstrom, David K Thom, Kenneth Thoma, Richard W Thoma, PhD, A D Thomas, Bassy S Thomas, Charles Thomas, Jr, PhD, Dean Thomas, Dudley G Thomas, Edward S Thomas, PhD, Floyd Thomas, Forrest D Thomas, PhD, Garfield J Thomas, Gerald Thomas, PhD, Gordon A Thomas, PhD, J P Thomas, PhD, J Todd Thomas, James L Thomas, James Thomas, PhD, James Thomas, Jerry Thomas, John B Thomas, John P Thomas, MD, John Thomas, John Thomas, Julian E Thomas, PhD, Marlin U Thomas, PhD, Martin J Thomas, PhD, Michael Thomas, Richard Thomas, PhD, Shirley Thomas, PhD, Stan Thomas, PhD, David M Thomason, PhD, William H Thomason, PhD, L T Thomasson, B Thompson, PhD, Betty Thompson, Bobby Thompson, Christina Thompson, David B. Thompson, PhD, Donald C Thompson, MD, Donald Thompson, MD, Edwin Thompson, Ellen Thompson, Elton R Thompson, Gerald E. Thompson, Glenn Thompson, PhD, Grant Thompson, PhD, Greg Thompson, MD, Guy Thompson, Herbert B Thompson, PhD, J Christy Thompson, Jack Thompson, James R Thompson, PhD, James Thompson, John C Thompson, PhD, John Thompson, PhD, Joseph Thompson, Kenneth A Thompson, Kent Thompson, L Thompson, Leslie Thompson, Louis M Thompson, PhD, Louis Thompson, PhD, Mary Thompson, PhD, Mary Thompson, Neal P Thompson, PhD, Ned Thompson, Philip Thompson, Ralph N Thompson, Ramie H Thompson, Richard D Thompson, Richard Thompson, PhD, Richard Thompson, Richard Thompson, Richard W Thompson Jr, Robert H Thompson, PhD, Robert R Thompson, PhD, Sharyn S Thompson, Sidney Thompson, Ted Thompson, Thomas Thompson, PhD, Timothy R Thompson, Tommy Thompson, PhD, W Thompson, Warren Thompson, PhD, Warren Thompson, Wm B Thompson, PhD, Wm O Thompson, PhD, Zack Thompson, Michael B Thomsen, Walter W Thomsen, Howard Thomson, Kenneth C. Thomson, PhD, Ker C. Thomson, L H Thomson, Eyvind Thor, PhD, G J Thorbecke, PhD, Michael Thorlain, Henry Thorland, Charles Thorman, PhD, Craige Thorn, PhD, George W Thorn, MD, Billy J Thorne, PhD, Francis Thorne, PhD, James A Thornhill, Richard Thornhill, William J Thornhill, AE Thornton, Alan Thornton, David Thornton, J O Thornton, J. Claiborne Thornton, Patrick Thornton, Robert L Thornton, Robert Thornton, PhD, Ruth D Thornton, PhD, T Thornton, Thomas Thornton, Thomas Thorpe, John R Thorson, Arnold W Thorton, PhD, Purvis Thrash, Billy Thrasher, PhD, Dennis L Thrasher, MD, Jack Threet, Richard Threet, PhD, W Threlfall, Peter E Throckmorton, PhD, Mike L Thronburg, Lewis J Throop, PhD, Leslie W Trowbridge, PhD, Henrik C Thurfjell, Ben Thurman, MD, Jim Thurman, Paul Thurman, Lee F Thurner, Daniel Thurston, David B Thurston, J Bradley Thurston, MD, Richard Thwaitis, DVM, John G Thweatt, PhD, Scott Thyfault, Rory Tibbals, Thomas Tibbels, MD, Elmer L Tibbetts Jr, Wesley Tibbetts, Melinda Tichenor, Eugene D Tidwell, Pat T. Tidwell, MD, Pat Tidwell, MD, Albert W Tiedemann, PhD, Michael M Tierney, Gary Tietjen, Paul Tietz, Jon Tiger, Patricia Tigges, Thomas Tighe, Larry Tilis, MD, Calvin O Tiller, Frank M Tiller, PhD, William A Tiller, PhD, Dorothy Tillery, Bryan M Tilley, Bill Tillman, Jennifer L Tillman, Henry C Tillson, PhD, John Tilton, Richard H Timberlake, PhD, Richard Timberlake, Torke E Timell, PhD, Ronald W Timm, William Timm, Jacob Timmers, Darrol H Timmons, PhD, Richard Timmons, PhD, E. Timson, Daniel Tindle, PhD, Clarence N Tinker, Wilfred Tinney, Samuel W Tinsley, PhD, James H Tinsman, PhD, Richard H Tinsman, Sarah J Tipka, Craig Tips, A C Tipton, MD, Clyde R Tipton, Merlin Tipton, William R Tipton, Herbert G Tiras, Pe, Paul E Tirey, John A Tirpak, MD, William H Tisler, Spencer R Titley, PhD, Charles Titus, Dudley S Titus, PhD, Frederic E Titus, Robert W Titus, Sarah Tjioe, PhD, Michael Tjoelker, MD, Arthur R Tobey, PhD, James Tobey, Robert A Tobey, PhD, Stephen W Tobey, PhD, Joseph J Tobias, Joseph D Tobiason, PhD, Kerry Tobin, William Tobin, Michael W Tobrey, Glen C Todd, PhD, James P Todd, Marty Todd, Sandra Todd, Robert M Todor, Mat Toenniessen, Michael J Toffan, Brent Tolend, PhD, Fred L Tolerico, Norman Tolk, PhD, Douglas M Tollefsen, PhD, K R Tollin, Manolis M Tomadakis, PhD, John Toman, Kurt Toman, PhD, Thomas B Tomasi, MD, John Tomaso, James Tomberlin, Kevin Tomera, MD, J Tomkin, PhD, Randy Tomkins, L E Tomlinson</a:t>
            </a:r>
            <a:endParaRPr b="0" lang="en-US" sz="1200" spc="-1" strike="noStrike">
              <a:solidFill>
                <a:srgbClr val="000000"/>
              </a:solidFill>
              <a:latin typeface="Calibri"/>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8">
                                  <p:stCondLst>
                                    <p:cond delay="0"/>
                                  </p:stCondLst>
                                  <p:childTnLst>
                                    <p:set>
                                      <p:cBhvr>
                                        <p:cTn id="403" dur="1" fill="hold">
                                          <p:stCondLst>
                                            <p:cond delay="0"/>
                                          </p:stCondLst>
                                        </p:cTn>
                                        <p:tgtEl>
                                          <p:spTgt spid="147">
                                            <p:txEl>
                                              <p:pRg st="0" end="0"/>
                                            </p:txEl>
                                          </p:spTgt>
                                        </p:tgtEl>
                                        <p:attrNameLst>
                                          <p:attrName>style.visibility</p:attrName>
                                        </p:attrNameLst>
                                      </p:cBhvr>
                                      <p:to>
                                        <p:strVal val="visible"/>
                                      </p:to>
                                    </p:set>
                                    <p:anim calcmode="lin" valueType="num">
                                      <p:cBhvr additive="repl">
                                        <p:cTn id="404" dur="5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repl">
                                        <p:cTn id="405" dur="5000" fill="hold"/>
                                        <p:tgtEl>
                                          <p:spTgt spid="147">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3200" spc="-1" strike="noStrike">
                <a:solidFill>
                  <a:srgbClr val="000000"/>
                </a:solidFill>
                <a:latin typeface="Calibri"/>
              </a:rPr>
              <a:t> </a:t>
            </a:r>
            <a:r>
              <a:rPr b="1" lang="en-US" sz="3200" spc="-1" strike="noStrike">
                <a:solidFill>
                  <a:srgbClr val="000000"/>
                </a:solidFill>
                <a:latin typeface="Calibri"/>
              </a:rPr>
              <a:t>Petition Signers – Tom to Wae                         </a:t>
            </a:r>
            <a:r>
              <a:rPr b="1" lang="en-US" sz="1200" spc="-1" strike="noStrike">
                <a:solidFill>
                  <a:srgbClr val="000000"/>
                </a:solidFill>
                <a:latin typeface="Calibri"/>
              </a:rPr>
              <a:t>David Tompkins, David Tompkins, Gilbert Tompson, John Toney, William Harry Tonking, PhD, Daniel Tonn, PhD, Brian P Tonner, PhD, Steven A Tonsfeldt, PhD, Cass Tont, Fred Toole, John Toomay, Arthur J Toompas, George Tope, Luis A Topete, Vladimir P Torchilin, PhD, Wilfred E Toreson, PhD, Torgerson, Calvin D Tormanen, PhD, Carlos Toroes, Joseph Torosian, A M Torres, Peter J Torvik, PhD, Mary E Totaro, Ildiko Toth, PhD, John Toth, MD, Paul E Toth, Robert Totusek, PhD, Mike Touchinski, Charles J Touhill, PhD, James E Toups, MD, Mills Tourtellotte, Donald R Tourville, PhD, Laura L Tovo, PhD, Lawrence Towell, David C Tower, MD, Sargent N Tower, Joseph W Town, D A Towner, Lawrence E Townley, Guy M Townsend, John A Townsend, Marjorie R Townsend, Phinn Townsend, Roger Townsend, Donald F Towse, PhD, Terrence J Toy, PhD, Peter Toynbee, Randall K Tozer, MD, Anthony Trabue, MD, Joseph C Tracy, PhD, Trafton, Ed Trahan, Ralph Trambarulo, PhD, George T Trammell, PhD, Rex Trammell, Zimg Tran, PhD, T C Trane, Robert Trapasso, MD, James B Trapp, John H Trapp, Tim Trapp, Ann Trappey, John Traub, Robert Trauger, Dale Traupman, Mitchell Trauring, Del Traveller, M.J. Travers, William Brailsford Travers, PhD, Francis Travis Jr, George E Travis, Jeffrey Travis, B V Traynor, Leora Traynor, MD, O E Trechter Jr, Herbert M S Uberall, PhD, Laird Ueberroth, Alfred H Uhalt Jr, George Uhlig, PhD, John H Uhran, PhD, John L Uhrie, PhD, Bobby L. Ulich, PhD, Joseph J Ulliman, PhD, William Ullom, MD, William Ullom, Geo W Ullrich, Alexander Ulmer, James J Ulmes, F R Ulrech, E H Ulrich, David J Ulsh, L T Umfleet, Charles Umhey, MD, Kathleen Umstead, Glenn Underhill, PhD, Keneth Underhill, John D Underwood, Sharon C Underwood, PhD, Paul W Unger, PhD, Kot Unrug, PhD, Darin Unthank, Erik Unthank, Joseph Unthank, PhD, Randall Unthank, Simon Upfill-Brown, Chester R. Upham, J E Upton, Randy Uranes, Robert Urban, MD, John Urbanchuk, Ronald T Urbanik, G A Urda, John Urdea, John Ure, Wm A Uricchio, PhD, George Uriniuk, Dave Uscheek, Noble R Usherwood, PhD, Thomas N Uslar, Bob Usnick, Randal Utech, A L Utesch, Donna Utley, PhD, D Utrup, Raj B Uttamchandani, MD, O Manuel Uy, PhD, Johannes Uys, PhD, Norman A Vaa, Duane Vaagen, Richard Vacherot, Charles F Vachris, James Vacik, PhD, J O Vadeboncoeur, N Vader, Richard Vaeth, P Roy Vagelos, MD, Remigijus Vaicys, PhD, Larry D Vail, PhD, J. Peter Vajk, PhD, Kyriake U Valassi, PhD, Laura Valdes, William P Vale, S B Valine, Siva Vallabhaneni, Bernard Vallerga, Oriol T Valls, PhD, Marius P Valsamis, MD, Vida Vambutas, PhD, Horn H H Van, PhD, Rheenen B Van, PhD, Strien R E Van, PhD, William P Van, PhD, John H Van Aken, John Van Amringe, Willard Van Asdall, PhD, Theodore Van Bruggen, PhD, William Van De Stadt, Albert Van Der Kloot, Van Domelen, Bruce Harold, PhD, Jim Van Eaton, PhD, Clayton Van Hall, PhD, Laweance Van Heeler, Neal Van Heukelem, Wendell A Van Hook, Ruth Van Knapp, Alan Van Lair, PhD, James R Van Meter, Wayne Van Meter, PhD, Dominique Van Nostrand, Thomas Van Ordt, Donald O Van Ostenburg, PhD, Raymond Van Pelt, Richard J Van Pelt, Earl Van Reenan, Jacob Van Roekel, Don Van Schenck, MD, Rosemary Van Vranken, PhD, Mark Van Westrum, J Vanaman, C Gordon Vanarman, PhD, Willliam Vanarsdale, PhD, Ira Vanasperen, Steve Vanata, C Kenneth Vance, Petra Vance, Richard A Vandame Jr, John L. Vandeberg, PhD, Vandemerwe, PhD, Joe Vandenhouten, Paul Vander Pol, Vern C Vanderbilt, PhD, Job Vanderbliek, Rick Vanderkin, Chris J Vandermaas, Thomas H Vanderspurt, PhD, William Vandersteel, Jerry G Vandertuig, PhD, John Warren Vanderveen, Donald Vandervelde, Christina Vandervende, PhD, James M Vanderwiele, R V Vandewoestine, PhD, Sam Vandivort, Brian S Vandrak, Edward Vandrunen, Tina K Vandyk, Richard M Vaneffen, PhD, David H Vanhise, Walker S Vaning, Thomas L Vannaman, Vito A Vanoni, PhD, Naoloa Vanorden, PhD, Richard Vanriper, Jerry Vanseckle, Edwin H Vanseggern, Gordon H. Vansickle, Tim Vanwyngarden, Larry Vardiman, PhD, Nancy Vardiman-Hall, Richrad S. Varga, Steven W Vargo, PhD, John A Varhola, G D Varn, Jr, George C Varner, PhD, Michael O Varner, Lawrence J Varnerin, PhD, William York Varney, PhD, James E Varnon, PhD, Perry H Vartanian, PhD, Stanley S. Vasa, Mihal Vasilache, John R Vasko, MD, Gregory S Vassell, Andreas H Vassiliou, PhD, Bangalore S Vasu, PhD, Marc Vatin, MD, Robert Dahlmeier Vatine, PhD, Steve Vatovec, Joe E Vaughan, PhD, Otha H Vaughan Jr, T. D. Vaughan, William W Vaughan, PhD, Wm Walton Vaughan, PhD, James Vaughn, Jeffrey L. Vaughn, PhD, Joseph C Vaughn, King F Vaughn, M H Vaughn, Thomas E Vaught, Ron Vaupel, Jaroslav Vaverka, PhD, Eva Vavrousek-Jakuba, PhD, Steven Vawter, Darrell A Veach, Delton E Veatch, Sidney E Veazey, PhD, Thomas M Veazey, PhD, William Vecere, William A Veech, PhD, Richard Veghte, Karl F Veith, PhD, Rodney D Veitschegger Jr, MD, Theodore E Veltfort, Steve Venner, Anthony Venson, PhD, Deadaws Ventures, PhD, Bruce Veralli, Carl J Verbanic, PhD, Anthony J Verbiscar, PhD, John R Vercellotti, PhD, Larry Verdier, Karl Verebey, PhD, Laval Verhalen, PhD, Roger F Verhey, PhD, J D Vermaelen, David Vermilyea, John D Silvernail, William Vernetson, PhD, James Vernier, MD, Vernon G Vernier, MD, Jack Vernon, PhD, Lonnie W Vernon, PhD, Richard Vernon, Richard Vernotzy Sr, George Veronis, PhD, Ralph W Vertrees, Shane Vervoort, MD, Jim Vess, Alex Vest, Harry A Vest, William T Vest, Zoe Vest, Ron Vesterby, James Ira Vette, PhD, Erich Veyul, Marc Vezeau, Vic Rigley, Charles Vice, Steven G Vick, Walter L Vick, Richard P. Vickerman, James H Vickers, DVM, Kent Vickie, Keith V. Vickrs, Edward J Vidt, Frederick L Vieck, Richard A Vierling, PhD, Joseph Vierra, Susan Vigars, Thomas P Viggiano, Lilly Vigil, Stanley Viglione, L L Vigoren, Roberto Villaverde, PhD, Keith Vilseck, Carl K Vincent, Roy E Vincik, Jorgen P Vinding, James D Vine, E C Viner, Herbert M Vines, PhD, W E Vining, Alfred Viola, PhD, David F Viox, Luciano Virgili, PhD, Howard Virkler, Richard J Virshop, Saralee Visscher, R Visser, Robert C Visser, Joseph J Vitale, Robert L Vitek Sr, Robert Vitone, Morill T Vittum, Kalman N Vizy, PhD, Russell C Vlack, Petro Vlahos, Doug Vliet, M. Douglas Vliet, George Vockroth, Nickolas Voegtly, C J Voelkel, Dennis E Voelker, C L Voellinger, George L Voelz, MD, Bill Vogel, Henry Vogel, PhD, James Vogel, Leo J Vogel Jr, Ltc John F Vogel, Richard W Vogel, Roger F Vogel, Peter J Vogelberger, Karl Vogler, PhD, Gary Vogt, Paul Vogt, William Voigt, James Vogler, PhD, Russell Volkmann, Philip A. Volker, Philip A. Volker, Staci Voll, Cory Vollmer, James Vollmer, PhD, Gert P J Volpp, PhD, Jim Volz, Paul A Volz, PhD, James Vomocil, PhD, Hans Von Amsberg, PhD, Eugene Von Rosenberg, Karl Vonderlinden, PhD, Frederick Vonkaenel, Charles T Vono, Howard Voorhees, PhD, Norman Vorcheimer, PhD, Max R. Vordenbaum, Frederick H Vorhis, Carroll Voss, Deone Voss, Donald L Voss, Edward W Voss, PhD, Susan Voss, PhD, Timothy C Voss, Mike Vossen, Floyd G Vosters, Frederick C. Vote, George Vourvopoulos, PhD, John C Vredenburgh, Daniel Vrudny, Don C. Vu, Duc Vu, Vladeta Vuckovic, PhD, Emil J Vyskocil, Gerald N Wachs, MD, Richard Wachtell, Lois Wachtman, Mark Waco, Cy Waddle, Glen Wade, PhD, James Wade, PhD, Jeffrey Wade, John C. Wade, Robert Wade, Robert Wade, PhD, Thomas J Wade, PhD, William H Wade, William Wadsworth, Jerome A Waegli, PhD, Allan G Waelchli, Salome Gluecksohn Waels, PhD</a:t>
            </a:r>
            <a:endParaRPr b="0" lang="en-US" sz="1200" spc="-1" strike="noStrike">
              <a:solidFill>
                <a:srgbClr val="000000"/>
              </a:solidFill>
              <a:latin typeface="Calibri"/>
            </a:endParaRPr>
          </a:p>
        </p:txBody>
      </p:sp>
    </p:spTree>
  </p:cSld>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8">
                                  <p:stCondLst>
                                    <p:cond delay="0"/>
                                  </p:stCondLst>
                                  <p:childTnLst>
                                    <p:set>
                                      <p:cBhvr>
                                        <p:cTn id="411" dur="1" fill="hold">
                                          <p:stCondLst>
                                            <p:cond delay="0"/>
                                          </p:stCondLst>
                                        </p:cTn>
                                        <p:tgtEl>
                                          <p:spTgt spid="148">
                                            <p:txEl>
                                              <p:pRg st="0" end="0"/>
                                            </p:txEl>
                                          </p:spTgt>
                                        </p:tgtEl>
                                        <p:attrNameLst>
                                          <p:attrName>style.visibility</p:attrName>
                                        </p:attrNameLst>
                                      </p:cBhvr>
                                      <p:to>
                                        <p:strVal val="visible"/>
                                      </p:to>
                                    </p:set>
                                    <p:anim calcmode="lin" valueType="num">
                                      <p:cBhvr additive="repl">
                                        <p:cTn id="412" dur="5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413" dur="5000" fill="hold"/>
                                        <p:tgtEl>
                                          <p:spTgt spid="148">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txBox="1"/>
          <p:nvPr/>
        </p:nvSpPr>
        <p:spPr>
          <a:xfrm>
            <a:off x="457200" y="609480"/>
            <a:ext cx="8229600" cy="5516640"/>
          </a:xfrm>
          <a:prstGeom prst="rect">
            <a:avLst/>
          </a:prstGeom>
          <a:noFill/>
          <a:ln w="0">
            <a:noFill/>
          </a:ln>
        </p:spPr>
        <p:txBody>
          <a:bodyPr anchor="t">
            <a:normAutofit fontScale="66000"/>
          </a:bodyPr>
          <a:p>
            <a:pPr marL="226080" indent="-226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Wae to Wel                          </a:t>
            </a:r>
            <a:r>
              <a:rPr b="1" lang="en-US" sz="1200" spc="-1" strike="noStrike">
                <a:solidFill>
                  <a:srgbClr val="000000"/>
                </a:solidFill>
                <a:latin typeface="Calibri"/>
              </a:rPr>
              <a:t>Salome G Waelsch, PhD, Bruce Waespe, Ronald E Waggener, PhD, Daivd Wagie, A R Wagner, Alfred Wagner, Anne M Wagner, Charles F. Wagner, MD, Charles J Wagner, Darrell E Wagner, David Wagner, Donald Wagner, Edward Wagner, Frederick Wm Wagner, PhD, James Wagner, Kenneth E Wagner, MD, Mark Wagner, MD, Orvin Edson Wagner, PhD, Raymond S Wagner, Richard J Wagner, PhD, Ronald D Wagner, Roy C. Wagner, Rudolph Wagner, Sanford Wagner, Thomas Wagner, Marvin L Wagoner, David Wahl, David Wahl, PhD, Phillip Wahl, MD, Richard J Wahl, Chien Moo Wai, PhD, Dennis Waild, Charles R Waine, Harold V Wait, Lois Waite, Richard I Waite Jr, Warren Waite, Jack Wakeland, John Wakeman, PhD, Wm D Wakley, PhD, F A Walas, Kim A Walbe, Emily Walbroehl, Barry Walburg, Michael J Walcott, W B Walcott, Brian E Waldecker, PhD, Mike Wadlington, Mark Waldron, Richard Wales, Robert A Walish, Alan B Walker, Arden L. Walker, Grace Walker, MD, Harry M Walker, PhD, J David Walker, James David Allan Walker, PhD, Jeff Walker, Jerry C Walker, PhD, Jimmy N Walker, Joe A Walker, John A Walker, John C Walker, John W. Walker, John Walker, P David Walker, Patrick D Walker, MD, Patrick M Walker, Phelps A Walker, Richard D Walker, PhD, Rodger Walker, Rodger Walker, Russell W Walker, PhD, Wesley W Walker, William C Walker, PhD, William Delany Walker, PhD, William T. Walker, William W Walker, PhD, Woodville J Walker, Francis Wall, PhD, Haven N Wall Jr, MD, Brent Wallace, Chestor A Wallace, PhD, Clifton O Wallace Jr, David R Wallace, David W Wallace, MD, E M Wallace, Edwin G Wallace, PhD, James P Wallace, Jeff Wallace, JL Wallace, John Wallace, Lynn Wallace, Michael Wallace, Raymond H Wallace, Tom S Wallace, Wm E Wallace, Jr, Henry Waller, James Waller, PhD, Mike Waller, Rex A Waller, Richard Wallin, DVM, Richard C Walling, Joel D Walls, PhD, Wm Walls, William N Wally, Laurie Walrod, John K Walsh, Kevin K Walsh, Kevin Walsh, Mike Walsh, Robert Jerome Walsh, Timothy J Walsh, Walter M Walsh Jr, PhD, Donald K Walter, Dorsey Walter, Hans Walter, James C Walter, James Walter, John F Walter, PhD, Robert F Walter, PhD, William T Walter, James Walters, Joseph Walters, MD, Michael D Walters, PhD, Robert Walters, John Walther, W A Walther Jr, Arthur E Waltking, Douglas L Walton, George G Walton, Max G Walton, MD, R B Walton, PhD, Theo R Walton, PhD, Wilber Walton, Paul J Waltrup, PhD, Donald M Waltz, J A Waltz, Maynard C Waltz, Donad Wambaugh, Donald C Wambaugh, Williwm Wampler, Wilson W Wampler, James E Wanamaker, Graham Wand, Bohdan I Wandzura, David Y Wang, PhD, Hsueh Hwa Wang, MD, Jie Wang, PhD, Zhijing Wang, PhD, Frederick F Wangaard, PhD, David Wanhatalo, Mansukhlal C Wani, PhD, R Wanke, PhD, Evelyn K Wantland, PhD, Alva C Ward, Brent Ward, Dale Ward, Dean E Ward, Diane Ward, Douglas E Ward, PhD, Edward H Ward, PhD, Howard C Ward Jr, John Ward, PhD, Kevin Ward, Lew Ward, Quinten E. Ward, Robert S Ward, Roscoe F Ward, PhD, T G Ward, Jr, W Steven Ward, MD, Ward, John B Wardell, Donald Wardlaw, John F Wardle, PhD, Charlene L Wardlow, Ronald S Wardrop, Jeff Ware, John F Ware, Dennis Wariner, Richard C Waring, Kenneth Warlick, W C Warlick, William M Warlick, Brian Warner, Darrell G Warner, Don Warner, PhD, Edward Warner, Glen Warner, Jim Warner, Meredith Warner, Mont Marcellus Warner, PhD, Ross Warner, SW Warner, Jr, James A Warnhoff, William Warnock, Norman R Warpinski, PhD, Bruce Warren, Bruce Warren, Clifford A Warren, David M Warren, F J Warren, James Warren, Raymond Warren, Zahir U Warsi, PhD, L W Warzecha, Lawrence Warzel, PhD, Halbert Washburn, Harry Washburn, Robert Washburn, Stephen S Washburne, PhD, Robert J Wasilewski, George Wasko, H Waslik, PhD, Frederick H Wasserman, DDS, Richard Wasserman, MD, Maurice Wassmann, G S Wassum, Calude G Wasterlain, PhD, Glenn Wasz, C Watanakunakorn, MD, P C Waterman, PhD, Roger Waterman, David Waters, PhD, George A Waters, James D Waters, Simon P Waters, Charles Watkins, PhD, Damon Watkins, Dean A Watkins, PhD, James Watkins, Michael J Watkins, W D Watkins, B Watne, PhD, Thomas L Watschke, PhD, Bob Watson, Britt Watson, Donald L Watson, Gary W Watson, Harold M Watson, Jack Watson, Jeff Watson, Jim Watson, Raymond Watson, PhD, Robert B Watson, Robert Watson, Tim Watson, PhD, William Watson, PhD, A B Watt, Dean D Watt, PhD, Kenneth E F Watt, PhD, Kyle L Watt, George Watters, Harold W Watts, PhD, R E Watts, Royal J Watts, Robt K Wattson, Jack T Watzke, Charles Wax, PhD, Robert N Waxdahl, Gary Way, George Way, Robert Way, Walter Way, MD, Darel Wayhan, John Waymouth, PhD, William Wayne, Don Weagley, Wm L Wearly, W P Weatherby, Carl L Weatherford, Larry Weatherford, PhD, Barbara Weatherman, Mark Weatherston, Robert Weatherup, Ed M Weaver Jr, George L Weaver, Harry Weaver, J R Weaver, Jay Weaver, Jeffrey B Weaver, John M Weaver, Miles A Weaver, Robert Weaver, Ronald Weaver, Samuel R Weaver, William M Weaver, PhD, A Dinsmoor Webb, PhD, Bill Webb, George Webb Jr, J R Webb, Jack W Webb, James Webb, Michael R Webb, Michael Webb, Theodore S Webb, PhD, Thomas P Webb, William Paul Webb, PhD, Alfred C Webber, Thomas L Webber, Allen H Weber, PhD, Anthony J Weber, Arlene Weber, Arthur P Weber, PhD, David F Weber, PhD, David J Weber, David Weber, Edward Weber, G A Weber, George Weber, PhD, Julius Weber, PhD, Mary Weber, Michael Weber, W. Layne Weber, William Weber, PhD, Allen E Webster, Imez Webster, John R Wesbster, Mark B Webster, Orrin J Webster, PhD, Owen Webster, PhD, Robert M. Webster, MD, W O Webster, W Webster, D J Wechsler, Susan Wechsler, Wm J Wechter, PhD, David S Weddell, PhD, George G Weddell, Brent M Wedding, PhD, Curtis E Weddle, Elwood W Wedman, Gary N Weedon, Randall J Weege, L H Weeks, Norman Weeks, Robert G Weeks, Betty Weese, Lloyd Weese, William Weese, Howard H Weetall, PhD, Dwight D Wegman, Gene Wegner, PhD, Walter F Wegst, PhD, James A Wehinger, Charles W Wehking, Martin B Wehlage, MD, Timothy S Wehmes, A P Wehner, MD, DDS, Brenda Wehner, Donald C Wehner, Scott C Wehner, Carl Wehri, MD, Bernard W Wehring, PhD, Sue Wehrman, Rudolph W Weibel, A R Weide, MD, T Craig Weidensaul, PhD, Patrick L Weidner, John Weikel, PhD, Edward D Weil, PhD, Roy Weiland, James Weiler, Frank C Weimer, PhD, Michael J Weimer, PhD, Eugene C Weinbach, PhD, Carl Martin Weinbaum, PhD, Lawrence P Weinberger, PhD, George R Weinbrenner, Jean S Weingarten, Leonard H Weinstein, PhD, Donald J Weintritt, Eugene Weipert, PhD, John Weir, Richard Weir, MD, RS Weir, Wm W Weiss, Steven Weise, George A Weisgerber, PhD, Leonard Weisler, PhD, FD Weiss, MD, Harvey J Weiss, MD, PhD, Irving Weiss, PhD, Martin Weiss, PhD, Max T Weiss, PhD, Eugene P Weisser, Barry R Weissman, William M Weistein, MD, Curtis W Weittenhiller, Me Welbourn, Carl M Welch, F A Welch, Jr, Frank J Welch, PhD, Homer W Welch, PhD, John H Welch, Thomas L Welch, Edwin Weldon, Joseph H. Wellborn, James H Weller, Jr, Eric Welles, Sefton Wellings, MD, Donald C Wells, Elizabeth F Wells, PhD, Herbert Wells, Ima Wells, Joseph Wells, Larry Wells, PhD, Lewis F Wells, Patrick Wells, Philip B Wells, Rod Wells, Ronald L Wells, PhD, Shane Wells, Steven Wells, Wells, PhD, William Wells, Jerome R Welnetz, Frank Welsch, PhD, John Welsh, Patrick T Welsh, PhD, Corey M Welter, Lee Welter, MD, Lisa M Welter, PhD</a:t>
            </a:r>
            <a:endParaRPr b="0" lang="en-US" sz="1200" spc="-1" strike="noStrike">
              <a:solidFill>
                <a:srgbClr val="000000"/>
              </a:solidFill>
              <a:latin typeface="Calibri"/>
            </a:endParaRPr>
          </a:p>
        </p:txBody>
      </p:sp>
    </p:spTree>
  </p:cSld>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28">
                                  <p:stCondLst>
                                    <p:cond delay="0"/>
                                  </p:stCondLst>
                                  <p:childTnLst>
                                    <p:set>
                                      <p:cBhvr>
                                        <p:cTn id="419" dur="1" fill="hold">
                                          <p:stCondLst>
                                            <p:cond delay="0"/>
                                          </p:stCondLst>
                                        </p:cTn>
                                        <p:tgtEl>
                                          <p:spTgt spid="149">
                                            <p:txEl>
                                              <p:pRg st="0" end="0"/>
                                            </p:txEl>
                                          </p:spTgt>
                                        </p:tgtEl>
                                        <p:attrNameLst>
                                          <p:attrName>style.visibility</p:attrName>
                                        </p:attrNameLst>
                                      </p:cBhvr>
                                      <p:to>
                                        <p:strVal val="visible"/>
                                      </p:to>
                                    </p:set>
                                    <p:anim calcmode="lin" valueType="num">
                                      <p:cBhvr additive="repl">
                                        <p:cTn id="420" dur="5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421" dur="5000" fill="hold"/>
                                        <p:tgtEl>
                                          <p:spTgt spid="149">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txBox="1"/>
          <p:nvPr/>
        </p:nvSpPr>
        <p:spPr>
          <a:xfrm>
            <a:off x="457200" y="609480"/>
            <a:ext cx="8229600" cy="5516640"/>
          </a:xfrm>
          <a:prstGeom prst="rect">
            <a:avLst/>
          </a:prstGeom>
          <a:noFill/>
          <a:ln w="0">
            <a:noFill/>
          </a:ln>
        </p:spPr>
        <p:txBody>
          <a:bodyPr anchor="t">
            <a:normAutofit fontScale="68000"/>
          </a:bodyPr>
          <a:p>
            <a:pPr marL="233280" indent="-233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 </a:t>
            </a:r>
            <a:r>
              <a:rPr b="1" lang="en-US" sz="3200" spc="-1" strike="noStrike">
                <a:solidFill>
                  <a:srgbClr val="000000"/>
                </a:solidFill>
                <a:latin typeface="Calibri"/>
              </a:rPr>
              <a:t>Petition Signers – Wel to Zyl                           </a:t>
            </a:r>
            <a:r>
              <a:rPr b="1" lang="en-US" sz="1200" spc="-1" strike="noStrike">
                <a:solidFill>
                  <a:srgbClr val="000000"/>
                </a:solidFill>
                <a:latin typeface="Calibri"/>
              </a:rPr>
              <a:t>Theodore A Welton, PhD, Richard E Welty, John F Wen, PhD, Irving Wender, PhD, Michael G Wendling, Robert E Wendoll, Fred Wendorf, PhD, Michael Wendorf, Clayton H Wene, R B Wenger, MD, James E Wenner, Allan L Wnnerberg, Gunnar Wennerberg, R C Wentworth, PhD, Mike Wentzell, MD, Roger Michael Weppelman, PhD, Leslie M Werbel, PhD, Frank D Werner, PhD, Hans- Helmut Werner, PhD, Smiuel Werner, PhD, Jack H Wernick, PhD, Robert J Werth, PhD, Robert H Wertheim, Wescott, PhD, Clarence L Wesenberg, Richard P Wesenberg, Paul J Weser, Hans U Wessel, PhD, Laurence N Wesson, Bonnie L West, Clark D West, MD, David West, Douglas B West, PhD, Irving P West, J C West, Jack West, James R West, Larry L West, Richard West, Robert E West, Thomas West, Tom West, Warwick R West, William West, PhD, Fred Westall, Glen R Westall, Richard S Westberry, DDS, Gerald T. Westbrook, Jack H Westbrook, PhD, Carl A Westby, PhD, James F Westcott, Mark E Westcott, Robert Webster, MD, R. M. Westerfield, Russ Westerhaus, Burt O Westerman, Tammy Westerman, William J Westerman, PhD, D T Westermann, PhD, Fred E Westermann, PhD, Ken Westhoff, Wm M Westhoff, John A Westland, PhD, Tranie Westlund, Harry Westmoreland, Thomas Westmoreland, PhD, Henry G Weston, PhD, Eric R Westphal, PhD, Gerhard Westra, PhD, Raymond Westra, PhD, Edgar F Westrum, PhD, James Wm Westwat, PhD, Robert L Wetegrove, PhD, Robert L Wetegrove, PhD, Winfield B Wetherbee, PhD, Bill Wetherton, Delmar G Westover, Norris C Wetters, Albert J Wetzel, Helen E Wetzel, Mr. Jerry Wetzel, John E Wey Jr, Thomas Weyand, PhD, Jack Weyland, PhD, Joseph Whalen, PhD, Keni Whalen, Richard Whalen, PhD, S A Whalen, Thomas Whalen, PhD, Edward Whaley, William Whaley, James Wharton, PhD, Michael W Wheatall, John Wheatley, Edward Wheaton, C Wheeler, Carlos Wheeler, Clyde C Wheeler, David Wheeler, Ed Wheeler, Frank C Wheeler, PhD, John F Wheeler, Kenneth T Wheeler, PhD, Thomas J Wheeler, William L Wheller, Larry Wheelock, Elizabeth Whelan, PhD, Jack Whelan, John M Whelan, PhD, Whelan, R S Wherler, Paul R Whetsell, John Whially, Edward Whicker, William D Whiddon, Christian L Whigham, D K Whigham, PhD, Thomas Whisenand, PhD, Robert J Whisonant, Roy L Whistler, PhD, Hall Whitacre, Audie D Whitaker, Gene L Whitaker, James Whitaker, Dmeter Yablonsky, PhD, Albert R. Yackle, Theodore Yaeger, MD, Kenneth Yager, William C Yager, Paul F Yaggy, Jefrey Yake, Neil Yake, William Yamamto, MD, Riad Yammine, Gilbert Yan, X Terry Yan, PhD, Michael Yanak, James A Yanez, Hwa-Ming Yang, PhD, Jiaquin Yang, PhD, Will Yanke, William H Yanko, PhD, Demetrios V Yannimaras, PhD, Scott Yanuck, Harold L Yarger, PhD, John C Yarmac III, John Lee Yarnall, PhD, John Yarnell, PhD, Anthony Yaroksky, Jim Yarwood, Campbell Yates, Francis Eugene Yates, MD, PhD, Frank Yates, Jack Yates, John L Yates, Scott Yates, PhD, Tommie Yates, Sidney Yaverbaum, PhD, Donald D Yaw, David A Yeadon, J. C. Yeager, Randy Yeager, Tom Yeager, Wilbur A Yeager Jr, Elisabeth Stelle Yearick, PhD, Alfred A Yee, Carlton S Yee, PhD, Ying C Yee, PhD, John H Yeganeh, Charles Yeh, Wilbur Yellin, PhD, Yin Chao Yen, PhD, Fr Yi, Ki Jeong Yi, Rick Yilverton, MD, Gary Yinger, James Yingst, Stuart Yntema Sr, B Biff Yochum, Hubert P Yockey, PhD, E. R. Yoder, Gene Yoder, Marvel Yoder, PhD, Sherwin D Yoelin, Thomas Lester Yohe, PhD, Earl R Yoho, L L Yoho, Nicholas J Yonker, John H Yopp, PhD, Douglas York, Edwin York, George W York Jr, PhD, Theodore R York, Masami Yoshimura, PhD, Charles A Yost, Marvin Yost, PhD, Richard A Yost, PhD, Lynda Youmans, William Youmans, MD, A Young, PhD, Clifton L Young, Daniel B Young, MD, David C Young, PhD, Donald E Young, PhD, Franklin A Young, PhD, Fred Young, G Young, Galen L Young, Gerald Young, Gordon Young, J Young, Jeffrey Young, Joe A. Young, Larry E Young, Lloyd M Young, PhD, Mary Young, Peter F Young, Ralph S Young, Raymond H Young, PhD, Richard H Young, Richard Young, Robert A Young, PhD, Robert D Young, Shawn Young, Stanley Young, PhD, Thomas Young, MD, Wei Young, PhD, William D Young Jr, Phillip L Youngblood, Robert Youngblood, Ronnie M Youngblood, Floyd L Younger Jr, James Younger, David M Youngstrum, Forrest A Younker, Ralph Yount, PhD, Luke Dhia Liu Yuan, PhD, Morgan Chuan Yuan Sze, PhD, Stephen A Yuhas, Donald Yule, Mark Yuly, PhD, E W Yund, PhD, Mary Alic Yund, PhD, D Yundt, Libby Yunger, PhD, Sulhi H Yungul, PhD, William Yust, W Zabel, Rick Zachary, Jeffrey Zachman, Daniel J Zaffarano, PhD, Stanley E Zager, PhD, William M Zahn Jr, Edwarfd P Zahora, Marco Zaider, PhD, Andres J Zajac, MD, Ihor Zajac, PhD, Joseph A Zak, PhD, Ethel S Zalay, PhD, Ivan Zamora, MD, Danny Zampirro, Edward Zane, MD, John V Zanky, Jaseph Zanoni, James G Zapert, Josephh Zappia, S A Zarbano, MD, Marvin L Zatzman, PhD, Duane Zavadil, Andreas A Zavi, PhD, Zbuzek, PhD, Roy V Zeagler Jr, Jay Zeamer, John Zebrowski, Harold Zeckel, MD, PhD, Yuan Chung Zee, PhD, Lawrence E Zeeb, Richard Zehner, MD, Wm N Zeiger, PhD, Greg Zeihen, Fred Zeile, Bruce Zeitlin, Nathaniel Zelazo, Claude Zeller, PhD, John C Zeller, Allen Zelman, PhD, Jiri Zemlicka, Kerry Zemp, Robert Zerga, Donald F Zetik, PhD, R A Zeuner, Albin A Zewczyk, PhD, Dong Er Zhang, PhD, Yi Zhao, PhD, Hua-Wei Zhou, PhD, Timothy D Ziebarth, PhD, John Ziebell, Jerry Zieg, Edward N Ziegler, PhD, Jehuda Ziegler, PhD, John Benjamin Ziegler, PhD, Mark E Ziegler, Raymond Ziegler, Wm A Ziegler, Terrence R Ziehl, Perry Ziel, W E Zieman, Roger Ziemba, Charles W Ziemer, PhD, Paul Ziemer, PhD, Ferdinand Zienty, PhD, Sigi Ziering, PhD, Gordon F Ziesing, Carl Zietlow, Steven A Zilber, Lois Ziler, Robert G Zimbelman, PhD, Arthur J Zimmer, PhD, Paul W Zimmer, Aaron L Zimmerman, Clarence Zimmerman, Curt Zimmerman, David L Zimmerman, E. Leroy Zimmerman, PhD, Elmer Leroy Zimmerman, PhD, James S Zimmerman, John E Zimmerman, John G Zimmerman, PhD, John R Zimmerman, PhD, Lorenz E Zimmerman, MD, Robert Zimmerman, Roger Zimmerman, Tommy Zimmerman, PhD, Winifred M. Zimmerman, PhD, Gary Zimmermann, Robert Zimmermann, Richard E Zindler, PhD, David H Zinen, Clarence R. Zink, Donald Zink, PhD, John Zink, PhD, Sally Zinke, Robert G Sinkhan Jr, Werner Zinn, Paul Zinner, Richard J. Zinno, Edward Zinser, William E Zinth, Ronald F Ziolo, PhD, Richard J Ziomkowski, Donald W Zipse, Harold Zirin, PhD, Steven L Zirkelbach, MD, Alexander S Zirpolo, Thomas A Zitter, PhD, Warren Zitzmann, Stoyanka Zlateva, Paul Zmola, PhD, Jerry E Zoble, Mike Zoborowski, Darryl E. Zoch, Steven P Zody, Marvin H. Zoerb, Raymond Zoerkler, Wm C Zollans, Stephen P Zollinger, PhD, Martin V Zombeck, PhD, Howard O Zomsteg, Jr, James Day Zonino, Harry D Zook, PhD, David J Zorn, Charles Zrankas, Charles Zubritsky, David Zuckerberg, Carl Zuehlke, PhD, John Zugaro, Perr Zuman, PhD, Glen A Zumwalt, Glen Zumwalt, PhD, Edward J Zuperku, PhD, Joel L Zureick, Ernst G Zurflueh, PhD, Philip L Zuvanich, Treodore Zwartkruis, PhD, Howard A Zwemer, Soloman Zwerdling, PhD, Earl J Zwick, PhD, Melvin Zwillenberg, PhD, Steven C Zylkowski </a:t>
            </a:r>
            <a:endParaRPr b="0" lang="en-US" sz="1200" spc="-1" strike="noStrike">
              <a:solidFill>
                <a:srgbClr val="000000"/>
              </a:solidFill>
              <a:latin typeface="Calibri"/>
            </a:endParaRPr>
          </a:p>
          <a:p>
            <a:pPr marL="233280" indent="-233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28">
                                  <p:stCondLst>
                                    <p:cond delay="0"/>
                                  </p:stCondLst>
                                  <p:childTnLst>
                                    <p:set>
                                      <p:cBhvr>
                                        <p:cTn id="427" dur="1" fill="hold">
                                          <p:stCondLst>
                                            <p:cond delay="0"/>
                                          </p:stCondLst>
                                        </p:cTn>
                                        <p:tgtEl>
                                          <p:spTgt spid="150">
                                            <p:txEl>
                                              <p:pRg st="0" end="0"/>
                                            </p:txEl>
                                          </p:spTgt>
                                        </p:tgtEl>
                                        <p:attrNameLst>
                                          <p:attrName>style.visibility</p:attrName>
                                        </p:attrNameLst>
                                      </p:cBhvr>
                                      <p:to>
                                        <p:strVal val="visible"/>
                                      </p:to>
                                    </p:set>
                                    <p:anim calcmode="lin" valueType="num">
                                      <p:cBhvr additive="repl">
                                        <p:cTn id="428" dur="5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repl">
                                        <p:cTn id="429" dur="5000" fill="hold"/>
                                        <p:tgtEl>
                                          <p:spTgt spid="150">
                                            <p:txEl>
                                              <p:pRg st="0" end="0"/>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TextBox 2"/>
          <p:cNvSpPr/>
          <p:nvPr/>
        </p:nvSpPr>
        <p:spPr>
          <a:xfrm>
            <a:off x="457200" y="304920"/>
            <a:ext cx="8229600" cy="120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s CO</a:t>
            </a:r>
            <a:r>
              <a:rPr b="1" lang="en-US" sz="3200" spc="-1" strike="noStrike" baseline="-25000">
                <a:solidFill>
                  <a:srgbClr val="000000"/>
                </a:solidFill>
                <a:latin typeface="Calibri"/>
              </a:rPr>
              <a:t>2</a:t>
            </a:r>
            <a:r>
              <a:rPr b="1" lang="en-US" sz="3200" spc="-1" strike="noStrike">
                <a:solidFill>
                  <a:srgbClr val="000000"/>
                </a:solidFill>
                <a:latin typeface="Calibri"/>
              </a:rPr>
              <a:t> curve has no axis, but implies that CO</a:t>
            </a:r>
            <a:r>
              <a:rPr b="1" lang="en-US" sz="3200" spc="-1" strike="noStrike" baseline="-25000">
                <a:solidFill>
                  <a:srgbClr val="000000"/>
                </a:solidFill>
                <a:latin typeface="Calibri"/>
              </a:rPr>
              <a:t>2</a:t>
            </a:r>
            <a:r>
              <a:rPr b="1" lang="en-US" sz="3200" spc="-1" strike="noStrike">
                <a:solidFill>
                  <a:srgbClr val="000000"/>
                </a:solidFill>
                <a:latin typeface="Calibri"/>
              </a:rPr>
              <a:t> has risen from a very low value</a:t>
            </a:r>
            <a:endParaRPr b="0" lang="en-US" sz="3200" spc="-1" strike="noStrike">
              <a:solidFill>
                <a:srgbClr val="000000"/>
              </a:solidFill>
              <a:latin typeface="Calibri"/>
            </a:endParaRPr>
          </a:p>
        </p:txBody>
      </p:sp>
      <p:pic>
        <p:nvPicPr>
          <p:cNvPr id="67" name="" descr=""/>
          <p:cNvPicPr/>
          <p:nvPr/>
        </p:nvPicPr>
        <p:blipFill>
          <a:blip r:embed="rId2"/>
          <a:stretch/>
        </p:blipFill>
        <p:spPr>
          <a:xfrm>
            <a:off x="1143000" y="1600200"/>
            <a:ext cx="6858000" cy="457200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337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67"/>
                    </p:tgtEl>
                  </p:cond>
                </p:stCondLst>
                <p:childTnLst>
                  <p:par>
                    <p:cTn id="30" fill="hold">
                      <p:stCondLst>
                        <p:cond evt="onClick">
                          <p:tgtEl>
                            <p:spTgt spid="67"/>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Picture 1" descr="Fig_17_CO2_With_Carbon_Curve.tif"/>
          <p:cNvPicPr/>
          <p:nvPr/>
        </p:nvPicPr>
        <p:blipFill>
          <a:blip r:embed="rId2"/>
          <a:stretch/>
        </p:blipFill>
        <p:spPr>
          <a:xfrm>
            <a:off x="2060640" y="685800"/>
            <a:ext cx="4794120" cy="3286080"/>
          </a:xfrm>
          <a:prstGeom prst="rect">
            <a:avLst/>
          </a:prstGeom>
          <a:ln w="0">
            <a:noFill/>
          </a:ln>
        </p:spPr>
      </p:pic>
      <p:sp>
        <p:nvSpPr>
          <p:cNvPr id="69" name="TextBox 2"/>
          <p:cNvSpPr/>
          <p:nvPr/>
        </p:nvSpPr>
        <p:spPr>
          <a:xfrm>
            <a:off x="1066680" y="4267080"/>
            <a:ext cx="701064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mospheric carbon dioxide has increased by 22% since accurate measurements began in 1958. The air in ordinary human offices is typically more than 1,000 ppm. </a:t>
            </a:r>
            <a:endParaRPr b="0" lang="en-US" sz="2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TextBox 2"/>
          <p:cNvSpPr/>
          <p:nvPr/>
        </p:nvSpPr>
        <p:spPr>
          <a:xfrm>
            <a:off x="1143000" y="304920"/>
            <a:ext cx="670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l Gore blames the retreat of Glaciers on human-caused global warming</a:t>
            </a:r>
            <a:endParaRPr b="0" lang="en-US" sz="3200" spc="-1" strike="noStrike">
              <a:solidFill>
                <a:srgbClr val="000000"/>
              </a:solidFill>
              <a:latin typeface="Calibri"/>
            </a:endParaRPr>
          </a:p>
        </p:txBody>
      </p:sp>
      <p:pic>
        <p:nvPicPr>
          <p:cNvPr id="71" name="" descr=""/>
          <p:cNvPicPr/>
          <p:nvPr/>
        </p:nvPicPr>
        <p:blipFill>
          <a:blip r:embed="rId2"/>
          <a:stretch/>
        </p:blipFill>
        <p:spPr>
          <a:xfrm>
            <a:off x="1219320" y="1676520"/>
            <a:ext cx="6781680" cy="449568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mediacall" presetID="1">
                                  <p:stCondLst>
                                    <p:cond delay="0"/>
                                  </p:stCondLst>
                                  <p:childTnLst>
                                    <p:cmd type="call" cmd="playFrom(0.0)">
                                      <p:cBhvr>
                                        <p:cTn id="39" dur="8242" fill="hold"/>
                                        <p:tgtEl>
                                          <p:spTgt spid="71"/>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71"/>
                    </p:tgtEl>
                  </p:cond>
                </p:stCondLst>
                <p:childTnLst>
                  <p:par>
                    <p:cTn id="41" fill="hold">
                      <p:stCondLst>
                        <p:cond evt="onClick">
                          <p:tgtEl>
                            <p:spTgt spid="71"/>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5:08:28Z</dcterms:created>
  <dc:creator>Noah E. Robinson</dc:creator>
  <dc:description/>
  <dc:language>en-US</dc:language>
  <cp:lastModifiedBy>Arnold Jagt</cp:lastModifiedBy>
  <dcterms:modified xsi:type="dcterms:W3CDTF">2007-11-20T19:36:14Z</dcterms:modified>
  <cp:revision>502</cp:revision>
  <dc:subject/>
  <dc:title>Slide 1</dc:title>
</cp:coreProperties>
</file>